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4.png" ContentType="image/png"/>
  <Override PartName="/ppt/media/image19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2.jpeg" ContentType="image/jpeg"/>
  <Override PartName="/ppt/media/image1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png" ContentType="image/png"/>
  <Override PartName="/ppt/media/image35.png" ContentType="image/png"/>
  <Override PartName="/ppt/media/image13.png" ContentType="image/png"/>
  <Override PartName="/ppt/media/image10.gif" ContentType="image/gif"/>
  <Override PartName="/ppt/media/image37.jpeg" ContentType="image/jpeg"/>
  <Override PartName="/ppt/media/image30.jpeg" ContentType="image/jpeg"/>
  <Override PartName="/ppt/media/image31.png" ContentType="image/png"/>
  <Override PartName="/ppt/media/image34.png" ContentType="image/png"/>
  <Override PartName="/ppt/media/image12.png" ContentType="image/png"/>
  <Override PartName="/ppt/media/image20.jpeg" ContentType="image/jpeg"/>
  <Override PartName="/ppt/media/image8.gif" ContentType="image/gif"/>
  <Override PartName="/ppt/media/image18.jpeg" ContentType="image/jpeg"/>
  <Override PartName="/ppt/media/image36.png" ContentType="image/png"/>
  <Override PartName="/ppt/media/image43.gif" ContentType="image/gif"/>
  <Override PartName="/ppt/media/image39.gif" ContentType="image/gif"/>
  <Override PartName="/ppt/media/image44.png" ContentType="image/png"/>
  <Override PartName="/ppt/media/image41.png" ContentType="image/png"/>
  <Override PartName="/ppt/media/image15.gif" ContentType="image/gif"/>
  <Override PartName="/ppt/media/image6.jpeg" ContentType="image/jpeg"/>
  <Override PartName="/ppt/media/image11.png" ContentType="image/png"/>
  <Override PartName="/ppt/media/image9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58F-02A6-4A85-9066-F586164B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85E-6E5E-44F6-A017-89C859C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B74-6DA1-49E6-AAF8-8BEB9EB0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1B9-506F-4D14-80B9-6B533767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A6A-F3EC-4AE0-83C9-47C20F1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BB4E-A731-4797-AF8C-758D913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BCE-2217-4956-9E8B-69920D0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F20-6004-434D-9E6D-FCF1384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F409-F975-4207-9BBC-95DE75B4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83FF-39C8-4899-A591-2C511649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D71-2AED-413F-82AB-0C01CD9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E94-72FC-4B39-9734-12474794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17C2-91C6-4C46-A32F-35286D0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CC76-1432-49BA-9D7A-5075B59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6EBE-080F-45DA-BC7A-6D062F7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97D8-A3FA-4A4E-8437-71B76EA1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C0D-4297-4414-80F9-7FF60A90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7FE8-EAAD-4CAE-9B37-587402A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7239-1364-4F38-9028-AC0CAD33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E367-5A2A-4977-9EB5-2BAE8608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E89D-1AE1-43E6-8B72-D505F1E5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AEED-06F7-4913-A3B0-F5B92DF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C63-420C-4D08-8F21-1A54549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7F0A-911D-4CD6-A0B8-CA23F441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234A-8727-4159-BBE3-C78FD2E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859F-7396-4B4F-A1DB-753B7C5A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8A38-8C20-4E75-A1EC-5E7E503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7B72-A7E1-40B9-A0C0-6BC2D2C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AA53-510A-41CE-8585-9A7783EF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8552-7064-48D6-A240-9EF72D86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EE99-2D91-4BEF-A3A9-47B19F3A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7117-AD0E-4698-BEB9-89D391B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D778-894E-4B0C-8AFB-D85DC4E1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C61-195C-4C4A-9D71-E646212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F762-A8E5-4D9A-B10F-A5CCE34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8AE3-5149-4A9B-806A-E6805036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7736-FA83-473F-9C52-C1036CA4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432E-D7D7-4F8E-8D0B-999A3AF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64F1-5C03-4BB1-BB82-CFA4CE0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F41F-AF55-4F93-B1E6-CC77732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6553-6482-4CD0-8837-A6972E0D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CE58-A1A2-4470-81A9-628293BB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6957-4836-4291-B8F0-D628B372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367-4DB7-438D-9AC9-765A306D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39A-E686-4FE4-9BE1-57AA371D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C50-7B90-4AB0-B43D-51B5288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899-3821-4BBF-8A28-A6DFE48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801-0949-4DFE-BDDD-054C1B4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106F-650D-4EA6-9785-8FF3B8CEB7B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AEF-92A6-4750-A9B1-B4261BFF5D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ECC-2187-43E5-AFF6-E5A66E3596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D5C4-38E8-4AD7-A2ED-3A9BF9067C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gif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E:\internet addiction\1205904114_ine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:\internet addiction\icq.jpg"/>
          <p:cNvPicPr/>
          <p:nvPr/>
        </p:nvPicPr>
        <p:blipFill>
          <a:blip r:embed="rId2"/>
          <a:stretch/>
        </p:blipFill>
        <p:spPr>
          <a:xfrm>
            <a:off x="5500800" y="419112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internet addiction\mail5.gif"/>
          <p:cNvPicPr/>
          <p:nvPr/>
        </p:nvPicPr>
        <p:blipFill>
          <a:blip r:embed="rId3"/>
          <a:stretch/>
        </p:blipFill>
        <p:spPr>
          <a:xfrm>
            <a:off x="285840" y="414324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:\internet addiction\computer_addicted_07.jpg"/>
          <p:cNvPicPr/>
          <p:nvPr/>
        </p:nvPicPr>
        <p:blipFill>
          <a:blip r:embed="rId4"/>
          <a:stretch/>
        </p:blipFill>
        <p:spPr>
          <a:xfrm>
            <a:off x="0" y="0"/>
            <a:ext cx="2583000" cy="1785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E:\internet addiction\333.gif"/>
          <p:cNvPicPr/>
          <p:nvPr/>
        </p:nvPicPr>
        <p:blipFill>
          <a:blip r:embed="rId5"/>
          <a:stretch/>
        </p:blipFill>
        <p:spPr>
          <a:xfrm>
            <a:off x="6465960" y="0"/>
            <a:ext cx="267804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0" descr=""/>
          <p:cNvPicPr/>
          <p:nvPr/>
        </p:nvPicPr>
        <p:blipFill>
          <a:blip r:embed="rId6"/>
          <a:stretch/>
        </p:blipFill>
        <p:spPr>
          <a:xfrm>
            <a:off x="1682640" y="2236680"/>
            <a:ext cx="48340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Овал 2"/>
          <p:cNvSpPr/>
          <p:nvPr/>
        </p:nvSpPr>
        <p:spPr>
          <a:xfrm>
            <a:off x="2643120" y="2357280"/>
            <a:ext cx="4071960" cy="214344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верх 4"/>
          <p:cNvSpPr/>
          <p:nvPr/>
        </p:nvSpPr>
        <p:spPr>
          <a:xfrm rot="18448800">
            <a:off x="2343240" y="2101680"/>
            <a:ext cx="428760" cy="71424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bd0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верх 6"/>
          <p:cNvSpPr/>
          <p:nvPr/>
        </p:nvSpPr>
        <p:spPr>
          <a:xfrm rot="7697400">
            <a:off x="6456960" y="397404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Блок-схема: альтернативный процесс 8" descr=""/>
          <p:cNvPicPr/>
          <p:nvPr/>
        </p:nvPicPr>
        <p:blipFill>
          <a:blip r:embed="rId1"/>
          <a:stretch/>
        </p:blipFill>
        <p:spPr>
          <a:xfrm>
            <a:off x="3157560" y="5499000"/>
            <a:ext cx="3676680" cy="1273320"/>
          </a:xfrm>
          <a:prstGeom prst="rect">
            <a:avLst/>
          </a:prstGeom>
          <a:ln w="0">
            <a:noFill/>
          </a:ln>
        </p:spPr>
      </p:pic>
      <p:sp>
        <p:nvSpPr>
          <p:cNvPr id="205" name="Стрелка вверх 9"/>
          <p:cNvSpPr/>
          <p:nvPr/>
        </p:nvSpPr>
        <p:spPr>
          <a:xfrm rot="10800000">
            <a:off x="4857840" y="4642920"/>
            <a:ext cx="428400" cy="71460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10" descr=""/>
          <p:cNvPicPr/>
          <p:nvPr/>
        </p:nvPicPr>
        <p:blipFill>
          <a:blip r:embed="rId2"/>
          <a:stretch/>
        </p:blipFill>
        <p:spPr>
          <a:xfrm>
            <a:off x="2305080" y="2792520"/>
            <a:ext cx="4522680" cy="134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admin\Desktop\internet addiction\анимации для урока\13.gif"/>
          <p:cNvPicPr/>
          <p:nvPr/>
        </p:nvPicPr>
        <p:blipFill>
          <a:blip r:embed="rId3"/>
          <a:stretch/>
        </p:blipFill>
        <p:spPr>
          <a:xfrm>
            <a:off x="285840" y="4357800"/>
            <a:ext cx="1785960" cy="1339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C:\Users\admin\Desktop\internet addiction\анимации для урока\20.gif"/>
          <p:cNvPicPr/>
          <p:nvPr/>
        </p:nvPicPr>
        <p:blipFill>
          <a:blip r:embed="rId4"/>
          <a:stretch/>
        </p:blipFill>
        <p:spPr>
          <a:xfrm>
            <a:off x="428760" y="1071720"/>
            <a:ext cx="1714320" cy="1238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C:\Users\admin\Desktop\internet addiction\анимации для урока\51.gif"/>
          <p:cNvPicPr/>
          <p:nvPr/>
        </p:nvPicPr>
        <p:blipFill>
          <a:blip r:embed="rId5"/>
          <a:stretch/>
        </p:blipFill>
        <p:spPr>
          <a:xfrm>
            <a:off x="7072200" y="4500720"/>
            <a:ext cx="1565280" cy="170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C:\Users\admin\Desktop\internet addiction\анимации для урока\WCAZE1A44CAVD2T2DCAZCF9S6CA0CPAC6CAZEONXKCAFZKO41CAU2B8THCABIGL8DCAXXONXFCA98M16SCAWBW63DCAL34MJQCAIT9GRKCAYAUOQWCACGEW7SCA3UN1FPCAFIM8M7CA5OVC1LCA6IXV8S.jpg"/>
          <p:cNvPicPr/>
          <p:nvPr/>
        </p:nvPicPr>
        <p:blipFill>
          <a:blip r:embed="rId6"/>
          <a:stretch/>
        </p:blipFill>
        <p:spPr>
          <a:xfrm>
            <a:off x="3286080" y="357120"/>
            <a:ext cx="1204920" cy="1305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C:\Users\admin\Desktop\internet addiction\анимации для урока\i.jpg"/>
          <p:cNvPicPr/>
          <p:nvPr/>
        </p:nvPicPr>
        <p:blipFill>
          <a:blip r:embed="rId7"/>
          <a:stretch/>
        </p:blipFill>
        <p:spPr>
          <a:xfrm>
            <a:off x="4714920" y="357120"/>
            <a:ext cx="895320" cy="136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C:\Users\admin\Desktop\internet addiction\win.gif"/>
          <p:cNvPicPr/>
          <p:nvPr/>
        </p:nvPicPr>
        <p:blipFill>
          <a:blip r:embed="rId8"/>
          <a:stretch/>
        </p:blipFill>
        <p:spPr>
          <a:xfrm>
            <a:off x="7429680" y="1285920"/>
            <a:ext cx="1339560" cy="1785960"/>
          </a:xfrm>
          <a:prstGeom prst="rect">
            <a:avLst/>
          </a:prstGeom>
          <a:ln w="0">
            <a:noFill/>
          </a:ln>
        </p:spPr>
      </p:pic>
      <p:sp>
        <p:nvSpPr>
          <p:cNvPr id="213" name="Стрелка вверх 19"/>
          <p:cNvSpPr/>
          <p:nvPr/>
        </p:nvSpPr>
        <p:spPr>
          <a:xfrm rot="3705000">
            <a:off x="6599880" y="223416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верх 20"/>
          <p:cNvSpPr/>
          <p:nvPr/>
        </p:nvSpPr>
        <p:spPr>
          <a:xfrm rot="14051400">
            <a:off x="2172240" y="382608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верх 21"/>
          <p:cNvSpPr/>
          <p:nvPr/>
        </p:nvSpPr>
        <p:spPr>
          <a:xfrm>
            <a:off x="4357800" y="1643040"/>
            <a:ext cx="4284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E:\internet addiction\help.jpg"/>
          <p:cNvPicPr/>
          <p:nvPr/>
        </p:nvPicPr>
        <p:blipFill>
          <a:blip r:embed="rId9"/>
          <a:stretch/>
        </p:blipFill>
        <p:spPr>
          <a:xfrm>
            <a:off x="6656400" y="0"/>
            <a:ext cx="24876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Блок-схема: альтернативный процесс 23" descr=""/>
          <p:cNvPicPr/>
          <p:nvPr/>
        </p:nvPicPr>
        <p:blipFill>
          <a:blip r:embed="rId10"/>
          <a:stretch/>
        </p:blipFill>
        <p:spPr>
          <a:xfrm>
            <a:off x="944640" y="2925720"/>
            <a:ext cx="3676680" cy="127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E:\internet addiction\WCAAK6RQ0CAYU1YP0CAWFMLBICAPZVR66CABV2IGACALAI2B0CAAGIU1RCAPF6TYMCARKONKYCAMOJ3J1CALZL3TLCAVY1J2OCA7UYHSTCASZHKZDCAYVBT42CA0I4XUKCA64UVT6CA7PU7S5CAKXO780.jpg"/>
          <p:cNvPicPr/>
          <p:nvPr/>
        </p:nvPicPr>
        <p:blipFill>
          <a:blip r:embed="rId11"/>
          <a:stretch/>
        </p:blipFill>
        <p:spPr>
          <a:xfrm>
            <a:off x="3357720" y="4314960"/>
            <a:ext cx="2643120" cy="2298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E:\internet addiction\WCAAK6RQ0CAYU1YP0CAWFMLBICAPZVR66CABV2IGACALAI2B0CAAGIU1RCAPF6TYMCARKONKYCAMOJ3J1CALZL3TLCAVY1J2OCA7UYHSTCASZHKZDCAYVBT42CA0I4XUKCA64UVT6CA7PU7S5CAKXO780.jpg"/>
          <p:cNvPicPr/>
          <p:nvPr/>
        </p:nvPicPr>
        <p:blipFill>
          <a:blip r:embed="rId12"/>
          <a:stretch/>
        </p:blipFill>
        <p:spPr>
          <a:xfrm>
            <a:off x="2928960" y="4429080"/>
            <a:ext cx="1357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0115 L 0.22639 -0.00115 E">
                                      <p:cBhvr>
                                        <p:cTn id="4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3597120" y="19080"/>
            <a:ext cx="2949840" cy="13888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92160" y="1316160"/>
            <a:ext cx="6845040" cy="8175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" descr=""/>
          <p:cNvPicPr/>
          <p:nvPr/>
        </p:nvPicPr>
        <p:blipFill>
          <a:blip r:embed="rId3"/>
          <a:stretch/>
        </p:blipFill>
        <p:spPr>
          <a:xfrm>
            <a:off x="23760" y="3103560"/>
            <a:ext cx="8066160" cy="81612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5" descr=""/>
          <p:cNvPicPr/>
          <p:nvPr/>
        </p:nvPicPr>
        <p:blipFill>
          <a:blip r:embed="rId4"/>
          <a:stretch/>
        </p:blipFill>
        <p:spPr>
          <a:xfrm>
            <a:off x="85680" y="2176560"/>
            <a:ext cx="5808600" cy="8157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5"/>
          <a:stretch/>
        </p:blipFill>
        <p:spPr>
          <a:xfrm>
            <a:off x="96840" y="4896000"/>
            <a:ext cx="8723160" cy="8096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" descr=""/>
          <p:cNvPicPr/>
          <p:nvPr/>
        </p:nvPicPr>
        <p:blipFill>
          <a:blip r:embed="rId6"/>
          <a:stretch/>
        </p:blipFill>
        <p:spPr>
          <a:xfrm>
            <a:off x="85680" y="3962520"/>
            <a:ext cx="4778280" cy="8175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8" descr=""/>
          <p:cNvPicPr/>
          <p:nvPr/>
        </p:nvPicPr>
        <p:blipFill>
          <a:blip r:embed="rId7"/>
          <a:stretch/>
        </p:blipFill>
        <p:spPr>
          <a:xfrm>
            <a:off x="79200" y="5748480"/>
            <a:ext cx="32004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admin\Desktop\internet addiction\computer_addicted_0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2"/>
          <a:stretch/>
        </p:blipFill>
        <p:spPr>
          <a:xfrm>
            <a:off x="444600" y="5175360"/>
            <a:ext cx="8358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1"/>
          <a:stretch/>
        </p:blipFill>
        <p:spPr>
          <a:xfrm>
            <a:off x="1152360" y="433440"/>
            <a:ext cx="7113600" cy="12556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" descr=""/>
          <p:cNvPicPr/>
          <p:nvPr/>
        </p:nvPicPr>
        <p:blipFill>
          <a:blip r:embed="rId2"/>
          <a:stretch/>
        </p:blipFill>
        <p:spPr>
          <a:xfrm>
            <a:off x="1341360" y="1994040"/>
            <a:ext cx="6802560" cy="11635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3" descr=""/>
          <p:cNvPicPr/>
          <p:nvPr/>
        </p:nvPicPr>
        <p:blipFill>
          <a:blip r:embed="rId3"/>
          <a:stretch/>
        </p:blipFill>
        <p:spPr>
          <a:xfrm>
            <a:off x="1779480" y="3535200"/>
            <a:ext cx="6085080" cy="11336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4" descr=""/>
          <p:cNvPicPr/>
          <p:nvPr/>
        </p:nvPicPr>
        <p:blipFill>
          <a:blip r:embed="rId4"/>
          <a:stretch/>
        </p:blipFill>
        <p:spPr>
          <a:xfrm>
            <a:off x="2511360" y="4998960"/>
            <a:ext cx="48830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" descr="upper"/>
          <p:cNvPicPr/>
          <p:nvPr/>
        </p:nvPicPr>
        <p:blipFill>
          <a:blip r:embed="rId1"/>
          <a:stretch/>
        </p:blipFill>
        <p:spPr>
          <a:xfrm>
            <a:off x="6643800" y="500040"/>
            <a:ext cx="2152440" cy="1940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internet addiction\computer1.jpg"/>
          <p:cNvPicPr/>
          <p:nvPr/>
        </p:nvPicPr>
        <p:blipFill>
          <a:blip r:embed="rId2"/>
          <a:stretch/>
        </p:blipFill>
        <p:spPr>
          <a:xfrm>
            <a:off x="500040" y="2428920"/>
            <a:ext cx="238140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H:\internet addiction\computer.jpg"/>
          <p:cNvPicPr/>
          <p:nvPr/>
        </p:nvPicPr>
        <p:blipFill>
          <a:blip r:embed="rId3"/>
          <a:stretch/>
        </p:blipFill>
        <p:spPr>
          <a:xfrm>
            <a:off x="2428920" y="1285920"/>
            <a:ext cx="1270080" cy="1752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:\internet addiction\271.gif"/>
          <p:cNvPicPr/>
          <p:nvPr/>
        </p:nvPicPr>
        <p:blipFill>
          <a:blip r:embed="rId4"/>
          <a:stretch/>
        </p:blipFill>
        <p:spPr>
          <a:xfrm>
            <a:off x="6072120" y="2000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:\internet addiction\271.gif"/>
          <p:cNvPicPr/>
          <p:nvPr/>
        </p:nvPicPr>
        <p:blipFill>
          <a:blip r:embed="rId5"/>
          <a:stretch/>
        </p:blipFill>
        <p:spPr>
          <a:xfrm>
            <a:off x="6786720" y="25002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с одним вырезанным скругленным углом 5" descr=""/>
          <p:cNvPicPr/>
          <p:nvPr/>
        </p:nvPicPr>
        <p:blipFill>
          <a:blip r:embed="rId6"/>
          <a:stretch/>
        </p:blipFill>
        <p:spPr>
          <a:xfrm>
            <a:off x="512640" y="4705200"/>
            <a:ext cx="4010040" cy="1152720"/>
          </a:xfrm>
          <a:prstGeom prst="rect">
            <a:avLst/>
          </a:prstGeom>
          <a:ln w="0">
            <a:noFill/>
          </a:ln>
        </p:spPr>
      </p:pic>
      <p:pic>
        <p:nvPicPr>
          <p:cNvPr id="239" name="Блок-схема: альтернативный процесс 6" descr=""/>
          <p:cNvPicPr/>
          <p:nvPr/>
        </p:nvPicPr>
        <p:blipFill>
          <a:blip r:embed="rId7"/>
          <a:stretch/>
        </p:blipFill>
        <p:spPr>
          <a:xfrm>
            <a:off x="5187960" y="3621240"/>
            <a:ext cx="37180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432936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re you an Internet-Addic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H:\internet addiction\_41535188_gamer_eating_203.jpg"/>
          <p:cNvPicPr/>
          <p:nvPr/>
        </p:nvPicPr>
        <p:blipFill>
          <a:blip r:embed="rId1"/>
          <a:stretch/>
        </p:blipFill>
        <p:spPr>
          <a:xfrm>
            <a:off x="357120" y="150012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H:\internet addiction\84.gif"/>
          <p:cNvPicPr/>
          <p:nvPr/>
        </p:nvPicPr>
        <p:blipFill>
          <a:blip r:embed="rId2"/>
          <a:stretch/>
        </p:blipFill>
        <p:spPr>
          <a:xfrm>
            <a:off x="5000760" y="3714840"/>
            <a:ext cx="3714480" cy="2889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214960" y="1928880"/>
            <a:ext cx="3500280" cy="1739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s your child an Internet-Addi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060640" y="-298440"/>
            <a:ext cx="4632120" cy="1359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3160" y="1071360"/>
            <a:ext cx="7854840" cy="5429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. Conduct a survey among the students/teachers of your college whether they are Internet-Addicts or not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2. Write an article in an Internet-journal on the topic “How to escape from any addiction”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0:29:27Z</dcterms:created>
  <dc:creator>Бобровских</dc:creator>
  <dc:description/>
  <dc:language>en-US</dc:language>
  <cp:lastModifiedBy>Татьяна</cp:lastModifiedBy>
  <dcterms:modified xsi:type="dcterms:W3CDTF">2009-11-16T11:19:26Z</dcterms:modified>
  <cp:revision>39</cp:revision>
  <dc:subject/>
  <dc:title>Teachers’ training college after A.P.Ramenskii</dc:title>
</cp:coreProperties>
</file>