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C039-6F28-4F04-88B4-292A8E20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B6BE-238C-4079-8987-3C6B8B1E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FA2D-53F7-42DA-BC56-756CF640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35F-71B2-44CB-AFBA-771F3A5C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15C2-FE0B-4E2A-B031-25C994D8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F721-BE1E-4D5B-8CF4-55FAA413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8BA4-395E-4679-8CAB-DEDB1F69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26DF-70C7-42C6-B9AA-5D132EDE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B26C-AFB9-4EC2-8A28-F92F1DD6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A187-B015-41AD-B15A-7EC46683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BC82-1220-4339-865D-A13FE6A4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1FCB-AF00-4A17-8DAF-C94FB546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C16B-08EE-4359-96B4-C47C02B1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54A2-A390-4DED-A468-DE96C594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AD6F-816B-446C-90EF-1AAA724F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432E-FD7C-4948-B73D-60CAC22A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CADA-04CD-489A-9D5E-FFE8DFD6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9DFF2-25CE-4F1E-B538-0461C513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5036D-0375-4472-AA7D-E04A674C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4ADB0-C102-4D61-886D-B01EAB48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D0506-1B73-4F9C-A757-318B5BEF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0D3DE-2326-491A-947E-4BAC846F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4ADD-617A-4D4E-93BC-CAF17310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48698-C9F6-4107-B425-CF5808B6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BB96C-4C33-4FC8-97AF-EB07E7DF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C80DA-4672-4192-9615-EBF2A77B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22978-C0DA-4EDC-8D68-297DEEC9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3CC0F-AA14-49E9-BC8E-AE0360BA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64BC4-CF19-4F09-B827-E8545355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90FD5-D38F-422F-8F4B-89BCAAED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CE569-2482-4538-A885-9D4A819B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35E19-A469-4FAE-A05A-6FDED1AA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FAD76-A449-4258-B673-CC480FDD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2C18-544D-405C-8818-F2B5734C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1946B-B39B-4CE7-9B5A-5F1400D6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55003-B33B-4419-882E-D4176107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5A001-A795-4DD1-91DF-14D60026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8D8A0-C57F-4FAE-AFEA-EC8FA04B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3E072-129F-4D8B-A9C8-E4492AE3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0DA25-8EC3-4A3A-B663-81C21AD7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2AC6F-DF63-4526-B34F-35A82453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FD498-0798-461B-9496-C616691F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110C8-4097-4821-BABC-5608FC26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C60DD-C6BB-4802-B0D1-098CD0CD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E88-5F8C-4B31-ABC8-193D993E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45C83-583D-41A8-9967-F40D0BA6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3B3B1-D924-4B27-98AE-BE21822F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91E8F-51E2-45B2-B1A6-8A2C1CF8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50117-078C-438D-8218-07958BF6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98FAD-F13B-4BF4-B8FB-06DBA711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FF022-3D81-44E9-84C3-BCD84704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75101-7FC9-4C95-B892-06E2304A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A4E4E-1B13-4DE0-8AF9-FA530CF3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74048-EE5C-4782-A9CF-A6549DF1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4BF32-7F22-4765-9454-1610EB08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097-ADCF-4AD0-B93D-E97C265E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A7230-995D-413B-963E-AD36B797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5DC3-2CCA-41CF-83C6-F464A0FA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0C7-0F15-42BC-99B3-231BE55C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7C4-4B4E-48EC-BC75-C48E0B97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29C3-FDBA-43C3-A5D6-9073CEA6FF1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D34E-B37C-445A-9C18-6FACBD280F3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408C-0434-4FC9-BF55-8EE2A432D4D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D1F8-0E36-40A2-81FD-3631B607BCF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1C5F-7EBD-47C0-AE97-FD4A4E15FE2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2195640" y="357300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выполни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преподаватель физической культуры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Грачев М.Н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омплексы упражнений по атлетической гимнастик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mbria"/>
              </a:rPr>
              <a:t>Специальные упражнения.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Cambria"/>
              </a:rPr>
              <a:t> Для дельтовидных мышц</a:t>
            </a: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лёжа на горизонтальной скамье, попеременный подъём гантелей вперёд- вверх;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стоя поочерёдный подъём прямых рук вперёд снизу вверх на блочном тренажёре;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стоя подъём рук с гантелями в стороны - вверх;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лёжа на наклонной скамье на боку, подъём гантели от бедра вверх;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сидя в наклоне, разведение рук с гантелями в стороны;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лёжа на боку на горизонтальной скамье, поочерёдный подъём гантелей перед собой снизу вверх.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Cambria"/>
              </a:rPr>
              <a:t> Для двуглавой мышцы плеча (бицепса):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лёжа лицом вниз на горизонтальной скамье, сгибание рук со штангой;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сидя в наклоне, опираясь локтем о бедро, сгибание руки с гантелью;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сидя, опираясь спиной о наклонную скамью, сгибание рук с гантелями;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сидя сгибание рук со штангой, опираясь локтями о наклонную подставку;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 </a:t>
            </a:r>
            <a:r>
              <a:rPr b="1" lang="ru-RU" sz="2000" spc="-1" strike="noStrike">
                <a:solidFill>
                  <a:srgbClr val="0d0d0d"/>
                </a:solidFill>
                <a:latin typeface="Cambria"/>
              </a:rPr>
              <a:t>Для трёхглавой мышцы плеча (трицепса):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стоя в наклоне, отведение руки с гантелью назад;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стоя разгибание рук на блочном тренажёре хватом сверху; 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сидя разгибание вверх руки с гантелью в локтевом суставе;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отжимания на брусьях обратным хватом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mbria"/>
              </a:rPr>
              <a:t>Для мышц предплечья</a:t>
            </a: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поочерёдное растягивание пальцами резинового жгута или пружинного эспандера;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сидя (предплечье на коленях) сгибание рук в запястьях на блочном тренажёре;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стоя 10 кг, диск от штанги в руках, подбрасывание и ловля правой и левой рукой поочерёдно.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Cambria"/>
              </a:rPr>
              <a:t> Для грудных мышц</a:t>
            </a: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лёжа на горизонтальной скамье, жим штанги широким хватом;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лёжа на горизонтальной скамье, разведение рук с гантелями;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сидя сведение рук на блочном тренажёре;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отжимания в упоре на брусьях;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лёжа на наклонной скамье вниз головой, разведение рук с гантелями.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Cambria"/>
              </a:rPr>
              <a:t> Для мышц спины</a:t>
            </a: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тяга штанги к поясу в наклоне;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стоя наклоны туловища вперёд со штангой на плечах;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стоя поднимание плеч со штангой или гантелями в опущенных руках;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из виса на перекладине узким хватом подтягивание, прогибаясь в спине, до касания перекладины грудью; 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сидя тяга ручки горизонтально на блочном тренажёре;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- лёжа животом на горизонтальной скамье, голени закреплены, подъём туловищ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d0d0d"/>
                </a:solidFill>
                <a:latin typeface="Cambria"/>
              </a:rPr>
              <a:t>Для мышц живота</a:t>
            </a:r>
            <a:r>
              <a:rPr b="0" lang="ru-RU" sz="2600" spc="-1" strike="noStrike">
                <a:solidFill>
                  <a:srgbClr val="0d0d0d"/>
                </a:solidFill>
                <a:latin typeface="Cambria"/>
              </a:rPr>
              <a:t>:</a:t>
            </a:r>
            <a:br>
              <a:rPr sz="2600"/>
            </a:br>
            <a:r>
              <a:rPr b="0" lang="ru-RU" sz="2600" spc="-1" strike="noStrike">
                <a:solidFill>
                  <a:srgbClr val="0d0d0d"/>
                </a:solidFill>
                <a:latin typeface="Cambria"/>
              </a:rPr>
              <a:t>- лёжа на наклонной скамье, подбородок прижат, сгибание туловища;</a:t>
            </a:r>
            <a:br>
              <a:rPr sz="2600"/>
            </a:br>
            <a:r>
              <a:rPr b="0" lang="ru-RU" sz="2600" spc="-1" strike="noStrike">
                <a:solidFill>
                  <a:srgbClr val="0d0d0d"/>
                </a:solidFill>
                <a:latin typeface="Cambria"/>
              </a:rPr>
              <a:t>- лёжа на наклонной скамье, подъём туловища с поворотами до касания локтем колена;</a:t>
            </a:r>
            <a:br>
              <a:rPr sz="2600"/>
            </a:br>
            <a:r>
              <a:rPr b="0" lang="ru-RU" sz="2600" spc="-1" strike="noStrike">
                <a:solidFill>
                  <a:srgbClr val="0d0d0d"/>
                </a:solidFill>
                <a:latin typeface="Cambria"/>
              </a:rPr>
              <a:t>- стоя в наклоне с грифом штанги на плечах, повороты туловища вправо-влево;</a:t>
            </a:r>
            <a:br>
              <a:rPr sz="2600"/>
            </a:br>
            <a:r>
              <a:rPr b="0" lang="ru-RU" sz="2600" spc="-1" strike="noStrike">
                <a:solidFill>
                  <a:srgbClr val="0d0d0d"/>
                </a:solidFill>
                <a:latin typeface="Cambria"/>
              </a:rPr>
              <a:t>- сидя сгибание туловища до касания коленями груди.</a:t>
            </a:r>
            <a:br>
              <a:rPr sz="2600"/>
            </a:br>
            <a:r>
              <a:rPr b="0" lang="ru-RU" sz="2600" spc="-1" strike="noStrike">
                <a:solidFill>
                  <a:srgbClr val="0d0d0d"/>
                </a:solidFill>
                <a:latin typeface="Cambria"/>
              </a:rPr>
              <a:t> </a:t>
            </a:r>
            <a:r>
              <a:rPr b="1" lang="ru-RU" sz="2600" spc="-1" strike="noStrike">
                <a:solidFill>
                  <a:srgbClr val="0d0d0d"/>
                </a:solidFill>
                <a:latin typeface="Cambria"/>
              </a:rPr>
              <a:t>Для четырёхглавой мышцы бедра (квадрицепса):</a:t>
            </a:r>
            <a:br>
              <a:rPr sz="2600"/>
            </a:br>
            <a:r>
              <a:rPr b="0" lang="ru-RU" sz="2600" spc="-1" strike="noStrike">
                <a:solidFill>
                  <a:srgbClr val="0d0d0d"/>
                </a:solidFill>
                <a:latin typeface="Cambria"/>
              </a:rPr>
              <a:t>- приседания со штангой на плечах;</a:t>
            </a:r>
            <a:br>
              <a:rPr sz="2600"/>
            </a:br>
            <a:r>
              <a:rPr b="0" lang="ru-RU" sz="2600" spc="-1" strike="noStrike">
                <a:solidFill>
                  <a:srgbClr val="0d0d0d"/>
                </a:solidFill>
                <a:latin typeface="Cambria"/>
              </a:rPr>
              <a:t>- жим штанги ногами на тренажёре "Гак".</a:t>
            </a:r>
            <a:br>
              <a:rPr sz="2600"/>
            </a:br>
            <a:r>
              <a:rPr b="0" lang="ru-RU" sz="2600" spc="-1" strike="noStrike">
                <a:solidFill>
                  <a:srgbClr val="0d0d0d"/>
                </a:solidFill>
                <a:latin typeface="Cambria"/>
              </a:rPr>
              <a:t>- сидя разгибание ног на тренажёре.</a:t>
            </a:r>
            <a:br>
              <a:rPr sz="2600"/>
            </a:br>
            <a:r>
              <a:rPr b="0" lang="ru-RU" sz="2600" spc="-1" strike="noStrike">
                <a:solidFill>
                  <a:srgbClr val="0d0d0d"/>
                </a:solidFill>
                <a:latin typeface="Cambria"/>
              </a:rPr>
              <a:t> Для двуглавой мышцы бедра (бицепса):</a:t>
            </a:r>
            <a:br>
              <a:rPr sz="2600"/>
            </a:br>
            <a:r>
              <a:rPr b="0" lang="ru-RU" sz="2600" spc="-1" strike="noStrike">
                <a:solidFill>
                  <a:srgbClr val="0d0d0d"/>
                </a:solidFill>
                <a:latin typeface="Cambria"/>
              </a:rPr>
              <a:t>- лёжа сгибание ног на тренажёре.</a:t>
            </a:r>
            <a:br>
              <a:rPr sz="2600"/>
            </a:br>
            <a:r>
              <a:rPr b="0" lang="ru-RU" sz="2600" spc="-1" strike="noStrike">
                <a:solidFill>
                  <a:srgbClr val="0d0d0d"/>
                </a:solidFill>
                <a:latin typeface="Cambria"/>
              </a:rPr>
              <a:t> </a:t>
            </a:r>
            <a:r>
              <a:rPr b="1" lang="ru-RU" sz="2600" spc="-1" strike="noStrike">
                <a:solidFill>
                  <a:srgbClr val="0d0d0d"/>
                </a:solidFill>
                <a:latin typeface="Cambria"/>
              </a:rPr>
              <a:t>Для мышц голени:</a:t>
            </a:r>
            <a:br>
              <a:rPr sz="2600"/>
            </a:br>
            <a:r>
              <a:rPr b="0" lang="ru-RU" sz="2600" spc="-1" strike="noStrike">
                <a:solidFill>
                  <a:srgbClr val="0d0d0d"/>
                </a:solidFill>
                <a:latin typeface="Cambria"/>
              </a:rPr>
              <a:t>- стоя подъём на носки со штангой на плечах;</a:t>
            </a:r>
            <a:br>
              <a:rPr sz="2600"/>
            </a:br>
            <a:r>
              <a:rPr b="0" lang="ru-RU" sz="2600" spc="-1" strike="noStrike">
                <a:solidFill>
                  <a:srgbClr val="0d0d0d"/>
                </a:solidFill>
                <a:latin typeface="Cambria"/>
              </a:rPr>
              <a:t>- стоя подъём носков ступней ног с отягощением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mbria"/>
              </a:rPr>
              <a:t>Атлетическая гимнастика - система разносторонних силовых упражнений, направленных на развитие силы, формирование пропорциональной фигуры и укрепление здоровья. Предметом обучения  является двигательная деятельность общеразвивающей направленности. В процессе овладения этой деятельностью  совершенствуются не только физические природные данные,  но и активно развиваются сознание и мышление, творчество и самостоятельность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mbria"/>
              </a:rPr>
              <a:t>Образовательные и воспитательные задачи программы</a:t>
            </a: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 -содействовать приобретению знаний в области физической культуры углубленных знаний отдельных тем и разделов физиологии спорта, биомеханики и методики тренировки атлетической гимнастики посредством факультативных занятий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-выявить и развивать детей и их возможности;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-развить психические и физические качества, такие как волю и целеустремлённость в достижении поставленной цели, трудолюбие, внимание, быстроту реакции и другие;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-развить способность к самостоятельному планированию своей деятельности;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-развить наблюдательность и самооценку;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-формировать культуру общения, взаимопомощи и ответственности;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-формировать устойчивый интерес, потребность в физической культур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24000" y="188640"/>
            <a:ext cx="8640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Cambria"/>
              </a:rPr>
              <a:t>Гимнастические упражнения прикладного характера</a:t>
            </a:r>
            <a:r>
              <a:rPr b="0" lang="ru-RU" sz="3600" spc="-1" strike="noStrike">
                <a:solidFill>
                  <a:srgbClr val="0d0d0d"/>
                </a:solidFill>
                <a:latin typeface="Cambria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0d0d0d"/>
                </a:solidFill>
                <a:latin typeface="Cambria"/>
              </a:rPr>
              <a:t>- на перекладине - вис на согнутых руках;</a:t>
            </a:r>
            <a:br>
              <a:rPr sz="3600"/>
            </a:br>
            <a:r>
              <a:rPr b="0" lang="ru-RU" sz="3600" spc="-1" strike="noStrike">
                <a:solidFill>
                  <a:srgbClr val="0d0d0d"/>
                </a:solidFill>
                <a:latin typeface="Cambria"/>
              </a:rPr>
              <a:t>- отжимания в упоре на параллельных брусьях;</a:t>
            </a:r>
            <a:br>
              <a:rPr sz="3600"/>
            </a:br>
            <a:r>
              <a:rPr b="0" lang="ru-RU" sz="3600" spc="-1" strike="noStrike">
                <a:solidFill>
                  <a:srgbClr val="0d0d0d"/>
                </a:solidFill>
                <a:latin typeface="Cambria"/>
              </a:rPr>
              <a:t>- угол в упоре на параллельных брусьях;</a:t>
            </a:r>
            <a:br>
              <a:rPr sz="3600"/>
            </a:br>
            <a:r>
              <a:rPr b="0" lang="ru-RU" sz="3600" spc="-1" strike="noStrike">
                <a:solidFill>
                  <a:srgbClr val="0d0d0d"/>
                </a:solidFill>
                <a:latin typeface="Cambria"/>
              </a:rPr>
              <a:t>- угол в висе на перекладине;</a:t>
            </a:r>
            <a:br>
              <a:rPr sz="3600"/>
            </a:br>
            <a:r>
              <a:rPr b="0" lang="ru-RU" sz="3600" spc="-1" strike="noStrike">
                <a:solidFill>
                  <a:srgbClr val="0d0d0d"/>
                </a:solidFill>
                <a:latin typeface="Cambria"/>
              </a:rPr>
              <a:t>- подтягивание  из виса на перекладине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mbria"/>
              </a:rPr>
              <a:t>Лёгкая атлетика</a:t>
            </a:r>
            <a:r>
              <a:rPr b="0" lang="ru-RU" sz="3200" spc="-1" strike="noStrike">
                <a:solidFill>
                  <a:srgbClr val="0d0d0d"/>
                </a:solidFill>
                <a:latin typeface="Cambri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d0d0d"/>
                </a:solidFill>
                <a:latin typeface="Cambria"/>
              </a:rPr>
              <a:t>-бег: с высоким подниманием бедра, высокий старт с последующим стартовым ускорением, челночный бег, кросс  2,5 км.;</a:t>
            </a:r>
            <a:br>
              <a:rPr sz="3200"/>
            </a:br>
            <a:r>
              <a:rPr b="0" lang="ru-RU" sz="3200" spc="-1" strike="noStrike">
                <a:solidFill>
                  <a:srgbClr val="0d0d0d"/>
                </a:solidFill>
                <a:latin typeface="Cambria"/>
              </a:rPr>
              <a:t>-прыжки: на месте (на одной ноге), с продвижением вперёд и назад, левым и правым боком, в длину и в высоту с места, прыжки в глубину с последующим запрыгиванием на предмет высотой 45 см.;</a:t>
            </a:r>
            <a:br>
              <a:rPr sz="3200"/>
            </a:br>
            <a:r>
              <a:rPr b="0" lang="ru-RU" sz="3200" spc="-1" strike="noStrike">
                <a:solidFill>
                  <a:srgbClr val="0d0d0d"/>
                </a:solidFill>
                <a:latin typeface="Cambria"/>
              </a:rPr>
              <a:t>-броски : метание предметов весом 2 кг. на дальность обеими руками, метание  малого мяча правой и левой руками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mbria"/>
              </a:rPr>
              <a:t>Спортивные игры</a:t>
            </a:r>
            <a:r>
              <a:rPr b="0" lang="ru-RU" sz="3200" spc="-1" strike="noStrike">
                <a:solidFill>
                  <a:srgbClr val="0d0d0d"/>
                </a:solidFill>
                <a:latin typeface="Cambri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d0d0d"/>
                </a:solidFill>
                <a:latin typeface="Cambria"/>
              </a:rPr>
              <a:t>-футбол- ведение мяча с изменением направления, удары по катящемуся мячу внутренней частью подъёма, двухсторонняя игра.</a:t>
            </a:r>
            <a:br>
              <a:rPr sz="3200"/>
            </a:br>
            <a:r>
              <a:rPr b="0" lang="ru-RU" sz="3200" spc="-1" strike="noStrike">
                <a:solidFill>
                  <a:srgbClr val="0d0d0d"/>
                </a:solidFill>
                <a:latin typeface="Cambria"/>
              </a:rPr>
              <a:t> Общеразвивающие упражнения для развития основных физических качеств, состоящие из  разнообразных комплексов без предметов и с предметами (набивными мячами весом до 2 кг, гимнастическими палками, скакалками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23640" y="333360"/>
            <a:ext cx="8569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d0d0d"/>
                </a:solidFill>
                <a:latin typeface="Cambria"/>
              </a:rPr>
              <a:t>Комплекс упражнений с гантелями</a:t>
            </a:r>
            <a:r>
              <a:rPr b="0" lang="ru-RU" sz="2600" spc="-1" strike="noStrike">
                <a:solidFill>
                  <a:srgbClr val="0d0d0d"/>
                </a:solidFill>
                <a:latin typeface="Cambria"/>
              </a:rPr>
              <a:t>:</a:t>
            </a:r>
            <a:br>
              <a:rPr sz="2600"/>
            </a:br>
            <a:r>
              <a:rPr b="0" lang="ru-RU" sz="2600" spc="-1" strike="noStrike">
                <a:solidFill>
                  <a:srgbClr val="0d0d0d"/>
                </a:solidFill>
                <a:latin typeface="Cambria"/>
              </a:rPr>
              <a:t>-стоя руки с гантелями у плеч кисти вперёд или параллельно, жим гантелей,</a:t>
            </a:r>
            <a:br>
              <a:rPr sz="2600"/>
            </a:br>
            <a:r>
              <a:rPr b="0" lang="ru-RU" sz="2600" spc="-1" strike="noStrike">
                <a:solidFill>
                  <a:srgbClr val="0d0d0d"/>
                </a:solidFill>
                <a:latin typeface="Cambria"/>
              </a:rPr>
              <a:t>-стоя руки с гантелями опущены, подъём гантелей вперёд (фронтальная часть дельты);</a:t>
            </a:r>
            <a:br>
              <a:rPr sz="2600"/>
            </a:br>
            <a:r>
              <a:rPr b="0" lang="ru-RU" sz="2600" spc="-1" strike="noStrike">
                <a:solidFill>
                  <a:srgbClr val="0d0d0d"/>
                </a:solidFill>
                <a:latin typeface="Cambria"/>
              </a:rPr>
              <a:t>-стоя руки с гантелями опущены, разведение  рук с гантелями в стороны (боковая часть дельты);</a:t>
            </a:r>
            <a:br>
              <a:rPr sz="2600"/>
            </a:br>
            <a:r>
              <a:rPr b="0" lang="ru-RU" sz="2600" spc="-1" strike="noStrike">
                <a:solidFill>
                  <a:srgbClr val="0d0d0d"/>
                </a:solidFill>
                <a:latin typeface="Cambria"/>
              </a:rPr>
              <a:t>-стоя в наклоне руки с гантелями опущены вниз, разведение гантелей в наклоне (задняя часть дельты);</a:t>
            </a:r>
            <a:br>
              <a:rPr sz="2600"/>
            </a:br>
            <a:r>
              <a:rPr b="0" lang="ru-RU" sz="2600" spc="-1" strike="noStrike">
                <a:solidFill>
                  <a:srgbClr val="0d0d0d"/>
                </a:solidFill>
                <a:latin typeface="Cambria"/>
              </a:rPr>
              <a:t>-сидя на наклонной скамье, руки с гантелями ладонями внутрь, вперёд, сгибание и разгибание рук;</a:t>
            </a:r>
            <a:br>
              <a:rPr sz="2600"/>
            </a:br>
            <a:r>
              <a:rPr b="0" lang="ru-RU" sz="2600" spc="-1" strike="noStrike">
                <a:solidFill>
                  <a:srgbClr val="0d0d0d"/>
                </a:solidFill>
                <a:latin typeface="Cambria"/>
              </a:rPr>
              <a:t>-стоя, сидя выпрямление рук вверх с гантелью, двигается только предплечье, плечо фиксировано строго вверх;   </a:t>
            </a:r>
            <a:br>
              <a:rPr sz="2600"/>
            </a:br>
            <a:r>
              <a:rPr b="0" lang="ru-RU" sz="2600" spc="-1" strike="noStrike">
                <a:solidFill>
                  <a:srgbClr val="0d0d0d"/>
                </a:solidFill>
                <a:latin typeface="Cambria"/>
              </a:rPr>
              <a:t>-лёжа на скамье, хват гантелей ладонями внутрь, выпрямление рук, плечо фиксировано вертикально, двигается только предплечье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Cambria"/>
              </a:rPr>
              <a:t>-стоя в наклоне, плечо фиксировано горизонтально, выпрямление одной руки (поочерёдно) назад, двигается только предплечье;</a:t>
            </a:r>
            <a:br>
              <a:rPr sz="2200"/>
            </a:br>
            <a:r>
              <a:rPr b="0" lang="ru-RU" sz="2200" spc="-1" strike="noStrike">
                <a:solidFill>
                  <a:srgbClr val="0d0d0d"/>
                </a:solidFill>
                <a:latin typeface="Cambria"/>
              </a:rPr>
              <a:t>-стоя в наклоне, тяга гантелей к поясу, другая рука в упоре (колено, гимнастическая стенка);</a:t>
            </a:r>
            <a:br>
              <a:rPr sz="2200"/>
            </a:br>
            <a:r>
              <a:rPr b="0" lang="ru-RU" sz="2200" spc="-1" strike="noStrike">
                <a:solidFill>
                  <a:srgbClr val="0d0d0d"/>
                </a:solidFill>
                <a:latin typeface="Cambria"/>
              </a:rPr>
              <a:t>-стоя в наклоне отведение гантелей назад - вверх (имитация гребка) с задержкой в верхней позиции на 1-2 сек.;</a:t>
            </a:r>
            <a:br>
              <a:rPr sz="2200"/>
            </a:br>
            <a:r>
              <a:rPr b="0" lang="ru-RU" sz="2200" spc="-1" strike="noStrike">
                <a:solidFill>
                  <a:srgbClr val="0d0d0d"/>
                </a:solidFill>
                <a:latin typeface="Cambria"/>
              </a:rPr>
              <a:t>-лёжа животом на скамье, тяга гантелей вверх до сгибания рук или разведение прямыми руками назад - вверх;</a:t>
            </a:r>
            <a:br>
              <a:rPr sz="2200"/>
            </a:br>
            <a:r>
              <a:rPr b="0" lang="ru-RU" sz="2200" spc="-1" strike="noStrike">
                <a:solidFill>
                  <a:srgbClr val="0d0d0d"/>
                </a:solidFill>
                <a:latin typeface="Cambria"/>
              </a:rPr>
              <a:t>-лёжа на горизонтальной или наклонной скамье (варьировать угол наклона)разведение рук с гантелями;</a:t>
            </a:r>
            <a:br>
              <a:rPr sz="2200"/>
            </a:br>
            <a:r>
              <a:rPr b="0" lang="ru-RU" sz="2200" spc="-1" strike="noStrike">
                <a:solidFill>
                  <a:srgbClr val="0d0d0d"/>
                </a:solidFill>
                <a:latin typeface="Cambria"/>
              </a:rPr>
              <a:t>- лёжа на горизонтальной скамье отведение выпрямленных рук назад; </a:t>
            </a:r>
            <a:br>
              <a:rPr sz="2200"/>
            </a:br>
            <a:r>
              <a:rPr b="0" lang="ru-RU" sz="2200" spc="-1" strike="noStrike">
                <a:solidFill>
                  <a:srgbClr val="0d0d0d"/>
                </a:solidFill>
                <a:latin typeface="Cambria"/>
              </a:rPr>
              <a:t>-лёжа жим гантелей с различными положениями кистей (ладони вперёд, параллельно)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Cambria"/>
              </a:rPr>
              <a:t>- из положения лёжа подъём туловища, руки с гантелью за головой, ступни закреплены;</a:t>
            </a:r>
            <a:br>
              <a:rPr sz="2200"/>
            </a:br>
            <a:r>
              <a:rPr b="0" lang="ru-RU" sz="2200" spc="-1" strike="noStrike">
                <a:solidFill>
                  <a:srgbClr val="0d0d0d"/>
                </a:solidFill>
                <a:latin typeface="Cambria"/>
              </a:rPr>
              <a:t>- стоя наклоны вперёд, гантель в руках за головой;</a:t>
            </a:r>
            <a:br>
              <a:rPr sz="2200"/>
            </a:br>
            <a:r>
              <a:rPr b="0" lang="ru-RU" sz="2200" spc="-1" strike="noStrike">
                <a:solidFill>
                  <a:srgbClr val="0d0d0d"/>
                </a:solidFill>
                <a:latin typeface="Cambria"/>
              </a:rPr>
              <a:t>- стоя с гантелью в руках имитация рубки дров;</a:t>
            </a:r>
            <a:br>
              <a:rPr sz="2200"/>
            </a:br>
            <a:r>
              <a:rPr b="0" lang="ru-RU" sz="2200" spc="-1" strike="noStrike">
                <a:solidFill>
                  <a:srgbClr val="0d0d0d"/>
                </a:solidFill>
                <a:latin typeface="Cambria"/>
              </a:rPr>
              <a:t>- стоя руки с гантелями у плеч или опущены вниз, приседания;</a:t>
            </a:r>
            <a:br>
              <a:rPr sz="2200"/>
            </a:br>
            <a:r>
              <a:rPr b="0" lang="ru-RU" sz="2200" spc="-1" strike="noStrike">
                <a:solidFill>
                  <a:srgbClr val="0d0d0d"/>
                </a:solidFill>
                <a:latin typeface="Cambria"/>
              </a:rPr>
              <a:t>- стоя на невысоком бруске, гантели у плеч подъём на носки;</a:t>
            </a:r>
            <a:br>
              <a:rPr sz="2200"/>
            </a:br>
            <a:r>
              <a:rPr b="0" lang="ru-RU" sz="2200" spc="-1" strike="noStrike">
                <a:solidFill>
                  <a:srgbClr val="0d0d0d"/>
                </a:solidFill>
                <a:latin typeface="Cambria"/>
              </a:rPr>
              <a:t>- стоя на одной ноге, одна рука удерживает равновесие, в  другой руке опущенная гантель, подъём на носок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mbria"/>
              </a:rPr>
              <a:t>Комплекс специальных упражнений</a:t>
            </a: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- жим штанги лёжа на наклонной скамье;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- лёжа на горизонтальной скамье, разведение рук с гантелями;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- стоя со штангой в руках наклоны вперёд;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- стоя со штангой за головой наклоны вперёд;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- лёжа на горизонтальной скамье, жим штанги широким и узким  хватом;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- стоя штанга на плечах, приседание;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- сидя на скамье, штанга на плечах, жим штанги из-за головы;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- стоя штанга в руках, сгибание рук со штангой на бицепс; 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-сидя на скамье гантели в руках, сгибание и разгибание рук попеременно на бицепс;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- сидя тяга вертикального блока за голову;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- лёжа на полу повороты туловища; 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- в висе на перекладине подъём согнутых ног;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Cambria"/>
              </a:rPr>
              <a:t>- сидя сгибание туловища до касания коленями груд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4T14:51:24Z</dcterms:created>
  <dc:creator>Вика</dc:creator>
  <dc:description/>
  <dc:language>en-US</dc:language>
  <cp:lastModifiedBy>Wladimir</cp:lastModifiedBy>
  <dcterms:modified xsi:type="dcterms:W3CDTF">2016-12-22T15:29:41Z</dcterms:modified>
  <cp:revision>3</cp:revision>
  <dc:subject/>
  <dc:title>Комплексы упражнений по атлетической гимнастике</dc:title>
</cp:coreProperties>
</file>