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D07-F4EC-42BB-98A9-1745107B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7BF-F8C6-4F49-A4BE-C7A1958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2B6-C527-4843-B60A-E530BDF3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AC5-5FBD-4BD9-83C3-D52E72E7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15A-C091-41F1-9491-59D67EF5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355-ACEC-4826-B9B3-7380C860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70B-963B-4532-9F7B-EF2491A8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949-5E8D-43A9-986D-3C9F860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6B9-1A27-4412-AD70-79E287A7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605-68C2-43D8-BF82-45418153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535-D184-4A68-84EA-490847E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1F5-B2ED-460C-8AA2-82C634D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97C2-D439-47DC-B940-808C9D883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6ACD-F60C-4C68-BF34-C823BAE845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19320" y="2286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1. 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циальная психология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 наука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47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а 1.2. Методология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33520" y="1981080"/>
            <a:ext cx="7478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результате изучения те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 будете иметь представление о методологических основах социальной психологии и об основных методах социально-психологического исслед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теме будут рассмотрены вопрос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онятие о методологии; основные методологические принцип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Социально-психологическое исследование, его содержание и структура; основные методы исслед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57200" y="4267080"/>
            <a:ext cx="748332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Соснин В.А.    Социальная психология: учебник для спо / В.А. Соснин, Е.А. Красникова. - М.: ФОРУМ: ИНФРА-М.- 2009. - 336 с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Грановская Р. М., Элементы практической психологии /Р.М. Грановская– СПб: Свет, 200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Социальная психология / под ред.  С. Московичи. - 7-е изд. - М. [и др.] : Питер.- 2009. - 592 с. - (Мастера психолог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D587-34EA-4829-B273-64FD2BBEF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1693800" y="4149720"/>
            <a:ext cx="4318200" cy="14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1"/>
          <p:cNvSpPr/>
          <p:nvPr/>
        </p:nvSpPr>
        <p:spPr>
          <a:xfrm>
            <a:off x="3708360" y="2637000"/>
            <a:ext cx="4032360" cy="647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536400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 flipH="1">
            <a:off x="4716000" y="47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6"/>
          <p:cNvCxnSpPr/>
          <p:nvPr/>
        </p:nvCxnSpPr>
        <p:spPr>
          <a:xfrm flipV="1">
            <a:off x="2666520" y="990360"/>
            <a:ext cx="2520" cy="25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3" name="Line 37"/>
          <p:cNvSpPr/>
          <p:nvPr/>
        </p:nvSpPr>
        <p:spPr>
          <a:xfrm>
            <a:off x="3124080" y="1295280"/>
            <a:ext cx="1067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8"/>
          <p:cNvSpPr/>
          <p:nvPr/>
        </p:nvSpPr>
        <p:spPr>
          <a:xfrm flipV="1">
            <a:off x="4724280" y="19047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2"/>
          <p:cNvSpPr/>
          <p:nvPr/>
        </p:nvSpPr>
        <p:spPr>
          <a:xfrm>
            <a:off x="971640" y="609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3"/>
          <p:cNvSpPr/>
          <p:nvPr/>
        </p:nvSpPr>
        <p:spPr>
          <a:xfrm flipV="1">
            <a:off x="990720" y="91404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о – психологическое исследование зависит 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784400" y="14842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3716640" y="2637000"/>
            <a:ext cx="297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чество мет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петентность исследовате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2780640" y="350028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ивают на основе требов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1816920" y="4170240"/>
            <a:ext cx="220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презента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снова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9"/>
          <p:cNvSpPr/>
          <p:nvPr/>
        </p:nvSpPr>
        <p:spPr>
          <a:xfrm rot="16200000">
            <a:off x="4425480" y="20512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2258280" y="5877000"/>
            <a:ext cx="505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потеза – это предположение о теоретических основ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озможных способах разре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ой проблем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1"/>
          <p:cNvSpPr/>
          <p:nvPr/>
        </p:nvSpPr>
        <p:spPr>
          <a:xfrm rot="16200000">
            <a:off x="-7200" y="3618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682-323C-4578-BC5F-EBFC38B5B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4267080" y="685800"/>
            <a:ext cx="335916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830160" y="1197000"/>
            <a:ext cx="23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еримент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5031360" y="7621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900000" y="1125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3641040" y="2924280"/>
            <a:ext cx="17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Х Диль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552760" y="407664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те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3"/>
          <p:cNvSpPr/>
          <p:nvPr/>
        </p:nvSpPr>
        <p:spPr>
          <a:xfrm flipH="1">
            <a:off x="2666520" y="3645000"/>
            <a:ext cx="132876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5029200" y="36576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26"/>
          <p:cNvCxnSpPr/>
          <p:nvPr/>
        </p:nvCxnSpPr>
        <p:spPr>
          <a:xfrm>
            <a:off x="3962160" y="441936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5" name="Text Box 27"/>
          <p:cNvSpPr/>
          <p:nvPr/>
        </p:nvSpPr>
        <p:spPr>
          <a:xfrm>
            <a:off x="2366640" y="5105520"/>
            <a:ext cx="43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т две группы мет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8"/>
          <p:cNvSpPr/>
          <p:nvPr/>
        </p:nvSpPr>
        <p:spPr>
          <a:xfrm>
            <a:off x="4572000" y="441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26B-E5DE-4C29-A9E4-3E1335FADF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1693800" y="5554800"/>
            <a:ext cx="56278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60" y="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2208240" y="3608280"/>
            <a:ext cx="5627520" cy="2174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5737320" y="838080"/>
            <a:ext cx="1730160" cy="75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50360" y="920880"/>
            <a:ext cx="391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иментальные (эксперимент, наблюдени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ос, анкета, анализ документов, социометри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алирование, ранжирова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743040" y="920880"/>
            <a:ext cx="461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3143160" y="650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067840" y="1898640"/>
            <a:ext cx="42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2075040" y="1828800"/>
            <a:ext cx="5705280" cy="3031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299280" y="21319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3130560" y="21319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3240" y="159372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5380200" y="2293920"/>
            <a:ext cx="3078000" cy="86508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1636560" y="2293920"/>
            <a:ext cx="3551400" cy="863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3240" y="326700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2646000" y="3321000"/>
            <a:ext cx="40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 направленности эмпирического исслед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1"/>
          <p:cNvSpPr/>
          <p:nvPr/>
        </p:nvSpPr>
        <p:spPr>
          <a:xfrm>
            <a:off x="1791360" y="380880"/>
            <a:ext cx="42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2"/>
          <p:cNvSpPr/>
          <p:nvPr/>
        </p:nvSpPr>
        <p:spPr>
          <a:xfrm>
            <a:off x="1811160" y="412920"/>
            <a:ext cx="5759640" cy="2142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3"/>
          <p:cNvSpPr/>
          <p:nvPr/>
        </p:nvSpPr>
        <p:spPr>
          <a:xfrm>
            <a:off x="347760" y="4060800"/>
            <a:ext cx="2651040" cy="7398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4"/>
          <p:cNvSpPr/>
          <p:nvPr/>
        </p:nvSpPr>
        <p:spPr>
          <a:xfrm>
            <a:off x="3124080" y="4114800"/>
            <a:ext cx="2743200" cy="5335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5916600" y="4041720"/>
            <a:ext cx="2921040" cy="1079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476600" y="38257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2459160" y="38257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8"/>
          <p:cNvSpPr/>
          <p:nvPr/>
        </p:nvSpPr>
        <p:spPr>
          <a:xfrm>
            <a:off x="7067520" y="38257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9"/>
          <p:cNvSpPr/>
          <p:nvPr/>
        </p:nvSpPr>
        <p:spPr>
          <a:xfrm>
            <a:off x="3240" y="521172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50"/>
          <p:cNvSpPr/>
          <p:nvPr/>
        </p:nvSpPr>
        <p:spPr>
          <a:xfrm flipH="1">
            <a:off x="0" y="159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2"/>
          <p:cNvSpPr/>
          <p:nvPr/>
        </p:nvSpPr>
        <p:spPr>
          <a:xfrm>
            <a:off x="0" y="326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3"/>
          <p:cNvSpPr/>
          <p:nvPr/>
        </p:nvSpPr>
        <p:spPr>
          <a:xfrm flipH="1">
            <a:off x="0" y="521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4"/>
          <p:cNvSpPr/>
          <p:nvPr/>
        </p:nvSpPr>
        <p:spPr>
          <a:xfrm>
            <a:off x="2743200" y="525780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 сбору и анализу информ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5"/>
          <p:cNvSpPr/>
          <p:nvPr/>
        </p:nvSpPr>
        <p:spPr>
          <a:xfrm>
            <a:off x="1693800" y="5535720"/>
            <a:ext cx="562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7"/>
          <p:cNvSpPr/>
          <p:nvPr/>
        </p:nvSpPr>
        <p:spPr>
          <a:xfrm>
            <a:off x="1017000" y="5967360"/>
            <a:ext cx="228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бора информ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имент, тест, о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блюдение социометр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учение докумен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5337360" y="5967360"/>
            <a:ext cx="163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обрабо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ал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ж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9"/>
          <p:cNvSpPr/>
          <p:nvPr/>
        </p:nvSpPr>
        <p:spPr>
          <a:xfrm>
            <a:off x="2652840" y="5805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0"/>
          <p:cNvSpPr/>
          <p:nvPr/>
        </p:nvSpPr>
        <p:spPr>
          <a:xfrm>
            <a:off x="6396120" y="5805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344520" y="4041720"/>
            <a:ext cx="204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эмпирическ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пыт, наблю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3130200" y="4076640"/>
            <a:ext cx="20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модел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ынок, перестройк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5916600" y="4041720"/>
            <a:ext cx="277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енческо-воспитате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озникла на стыке социаль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и и психоло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е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048120" y="380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еиксация и интерпретац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5735520" y="920880"/>
            <a:ext cx="134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т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писательны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нимающ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043800" y="182880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 основной направленност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1632600" y="2293920"/>
            <a:ext cx="317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исследования (изучаю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татируют те или и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ие явле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5375880" y="2293920"/>
            <a:ext cx="305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воздействия  (корректирую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яют тем, это зафиксирова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ами исслед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61"/>
          <p:cNvSpPr/>
          <p:nvPr/>
        </p:nvSpPr>
        <p:spPr>
          <a:xfrm>
            <a:off x="6553080" y="60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208240" y="3589200"/>
            <a:ext cx="548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0362-8833-4945-AFD6-D42846719D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5"/>
          <p:cNvSpPr/>
          <p:nvPr/>
        </p:nvSpPr>
        <p:spPr>
          <a:xfrm>
            <a:off x="1211400" y="1108080"/>
            <a:ext cx="2016000" cy="2682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36"/>
          <p:cNvSpPr/>
          <p:nvPr/>
        </p:nvSpPr>
        <p:spPr>
          <a:xfrm flipH="1">
            <a:off x="3123360" y="685800"/>
            <a:ext cx="2210040" cy="380880"/>
          </a:xfrm>
          <a:prstGeom prst="flowChartInputOutpu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5916600" y="1108080"/>
            <a:ext cx="2111400" cy="2682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347760" y="1593720"/>
            <a:ext cx="178740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9"/>
          <p:cNvSpPr/>
          <p:nvPr/>
        </p:nvSpPr>
        <p:spPr>
          <a:xfrm>
            <a:off x="2652840" y="1593720"/>
            <a:ext cx="134280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4379760" y="1593720"/>
            <a:ext cx="211140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6647040" y="1593720"/>
            <a:ext cx="217152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2"/>
          <p:cNvSpPr/>
          <p:nvPr/>
        </p:nvSpPr>
        <p:spPr>
          <a:xfrm>
            <a:off x="4379760" y="51264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3"/>
          <p:cNvSpPr/>
          <p:nvPr/>
        </p:nvSpPr>
        <p:spPr>
          <a:xfrm>
            <a:off x="5029200" y="10666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4"/>
          <p:cNvSpPr/>
          <p:nvPr/>
        </p:nvSpPr>
        <p:spPr>
          <a:xfrm flipH="1">
            <a:off x="3200040" y="1066680"/>
            <a:ext cx="60948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5"/>
          <p:cNvSpPr/>
          <p:nvPr/>
        </p:nvSpPr>
        <p:spPr>
          <a:xfrm flipH="1">
            <a:off x="1499760" y="1376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2844720" y="137628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7548480" y="1376280"/>
            <a:ext cx="4795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8"/>
          <p:cNvSpPr/>
          <p:nvPr/>
        </p:nvSpPr>
        <p:spPr>
          <a:xfrm flipH="1">
            <a:off x="5722920" y="1376280"/>
            <a:ext cx="3859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9"/>
          <p:cNvSpPr/>
          <p:nvPr/>
        </p:nvSpPr>
        <p:spPr>
          <a:xfrm>
            <a:off x="6589800" y="1376280"/>
            <a:ext cx="0" cy="9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0"/>
          <p:cNvSpPr/>
          <p:nvPr/>
        </p:nvSpPr>
        <p:spPr>
          <a:xfrm>
            <a:off x="228600" y="2209680"/>
            <a:ext cx="1523880" cy="2714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1981080" y="2187720"/>
            <a:ext cx="1771920" cy="2696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2"/>
          <p:cNvSpPr/>
          <p:nvPr/>
        </p:nvSpPr>
        <p:spPr>
          <a:xfrm>
            <a:off x="4896000" y="2720880"/>
            <a:ext cx="204444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3"/>
          <p:cNvSpPr/>
          <p:nvPr/>
        </p:nvSpPr>
        <p:spPr>
          <a:xfrm>
            <a:off x="7218360" y="2714760"/>
            <a:ext cx="1754280" cy="2696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54"/>
          <p:cNvSpPr/>
          <p:nvPr/>
        </p:nvSpPr>
        <p:spPr>
          <a:xfrm>
            <a:off x="6589800" y="2293920"/>
            <a:ext cx="66996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5"/>
          <p:cNvSpPr/>
          <p:nvPr/>
        </p:nvSpPr>
        <p:spPr>
          <a:xfrm flipH="1">
            <a:off x="5820840" y="2293920"/>
            <a:ext cx="76860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6"/>
          <p:cNvSpPr/>
          <p:nvPr/>
        </p:nvSpPr>
        <p:spPr>
          <a:xfrm>
            <a:off x="2844720" y="3429000"/>
            <a:ext cx="3359160" cy="4316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7"/>
          <p:cNvSpPr/>
          <p:nvPr/>
        </p:nvSpPr>
        <p:spPr>
          <a:xfrm>
            <a:off x="1979640" y="4114800"/>
            <a:ext cx="4421160" cy="341280"/>
          </a:xfrm>
          <a:prstGeom prst="flowChartInputOutpu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3"/>
          <p:cNvSpPr/>
          <p:nvPr/>
        </p:nvSpPr>
        <p:spPr>
          <a:xfrm flipH="1">
            <a:off x="4952520" y="2971800"/>
            <a:ext cx="1109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4"/>
          <p:cNvSpPr/>
          <p:nvPr/>
        </p:nvSpPr>
        <p:spPr>
          <a:xfrm flipH="1">
            <a:off x="5715000" y="2971800"/>
            <a:ext cx="175248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3132000" y="2511360"/>
            <a:ext cx="6778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6"/>
          <p:cNvSpPr/>
          <p:nvPr/>
        </p:nvSpPr>
        <p:spPr>
          <a:xfrm>
            <a:off x="1143000" y="243828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7"/>
          <p:cNvSpPr/>
          <p:nvPr/>
        </p:nvSpPr>
        <p:spPr>
          <a:xfrm>
            <a:off x="4267080" y="38862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1"/>
          <p:cNvSpPr/>
          <p:nvPr/>
        </p:nvSpPr>
        <p:spPr>
          <a:xfrm>
            <a:off x="444600" y="4780080"/>
            <a:ext cx="3551040" cy="15444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2"/>
          <p:cNvSpPr/>
          <p:nvPr/>
        </p:nvSpPr>
        <p:spPr>
          <a:xfrm>
            <a:off x="4476600" y="4780080"/>
            <a:ext cx="4222800" cy="15444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5"/>
          <p:cNvSpPr/>
          <p:nvPr/>
        </p:nvSpPr>
        <p:spPr>
          <a:xfrm flipH="1">
            <a:off x="1295280" y="190512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6"/>
          <p:cNvSpPr/>
          <p:nvPr/>
        </p:nvSpPr>
        <p:spPr>
          <a:xfrm>
            <a:off x="32004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7"/>
          <p:cNvSpPr/>
          <p:nvPr/>
        </p:nvSpPr>
        <p:spPr>
          <a:xfrm>
            <a:off x="4267080" y="9907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8"/>
          <p:cNvSpPr/>
          <p:nvPr/>
        </p:nvSpPr>
        <p:spPr>
          <a:xfrm flipH="1">
            <a:off x="2666520" y="449568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9"/>
          <p:cNvSpPr/>
          <p:nvPr/>
        </p:nvSpPr>
        <p:spPr>
          <a:xfrm>
            <a:off x="4724280" y="44956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20240" y="243000"/>
            <a:ext cx="676620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507480" y="6094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1464480" y="1052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178680" y="105264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572400" y="15382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тейск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2830680" y="1538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573440" y="153828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борато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6871680" y="15382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еств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230760" y="21337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0"/>
          <p:cNvSpPr/>
          <p:nvPr/>
        </p:nvSpPr>
        <p:spPr>
          <a:xfrm>
            <a:off x="1983240" y="21337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1"/>
          <p:cNvSpPr/>
          <p:nvPr/>
        </p:nvSpPr>
        <p:spPr>
          <a:xfrm>
            <a:off x="4801680" y="266688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атир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7162920" y="266688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3205800" y="342900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4"/>
          <p:cNvSpPr/>
          <p:nvPr/>
        </p:nvSpPr>
        <p:spPr>
          <a:xfrm>
            <a:off x="3220560" y="413244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ПОМОГ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8"/>
          <p:cNvSpPr/>
          <p:nvPr/>
        </p:nvSpPr>
        <p:spPr>
          <a:xfrm>
            <a:off x="444960" y="4726080"/>
            <a:ext cx="2707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бщение независим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ист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осы: -письм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рвь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506840" y="4726080"/>
            <a:ext cx="320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результа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тестирова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ектив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сихокоррекцио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4C50-07E8-4899-907A-C6AEFE894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3035160" y="1054080"/>
            <a:ext cx="2881440" cy="43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444600" y="2241720"/>
            <a:ext cx="4032000" cy="1949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5257800" y="2209680"/>
            <a:ext cx="3657600" cy="3886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3506760" y="10666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283080" y="1031760"/>
            <a:ext cx="23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ой мет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й психоло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939960" y="2278080"/>
            <a:ext cx="29649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тейск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истематизирова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граничива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страцией факто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сит случайны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рганизова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5245200" y="1969920"/>
            <a:ext cx="37465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ется организованны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четкий пл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ксацию результатов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циальном дневнике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бо предусматрив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стие исследовате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ятельности испытуемых, либо н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2939760" y="1484280"/>
            <a:ext cx="958680" cy="7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5148360" y="1484280"/>
            <a:ext cx="134280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095520" y="2971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7238880" y="29718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F59D-21FD-400B-A708-4BF002BDAB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56"/>
          <p:cNvSpPr/>
          <p:nvPr/>
        </p:nvSpPr>
        <p:spPr>
          <a:xfrm>
            <a:off x="2666880" y="1066680"/>
            <a:ext cx="2691000" cy="43200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0"/>
          <p:cNvSpPr/>
          <p:nvPr/>
        </p:nvSpPr>
        <p:spPr>
          <a:xfrm>
            <a:off x="539640" y="2511360"/>
            <a:ext cx="2881440" cy="145116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1"/>
          <p:cNvSpPr/>
          <p:nvPr/>
        </p:nvSpPr>
        <p:spPr>
          <a:xfrm>
            <a:off x="5052960" y="2543040"/>
            <a:ext cx="3840120" cy="102564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4"/>
          <p:cNvSpPr/>
          <p:nvPr/>
        </p:nvSpPr>
        <p:spPr>
          <a:xfrm>
            <a:off x="533520" y="4346640"/>
            <a:ext cx="2895480" cy="121608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"/>
          <p:cNvSpPr/>
          <p:nvPr/>
        </p:nvSpPr>
        <p:spPr>
          <a:xfrm>
            <a:off x="5105520" y="4349880"/>
            <a:ext cx="3593880" cy="121284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66"/>
          <p:cNvSpPr/>
          <p:nvPr/>
        </p:nvSpPr>
        <p:spPr>
          <a:xfrm>
            <a:off x="4091040" y="1484280"/>
            <a:ext cx="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67"/>
          <p:cNvSpPr/>
          <p:nvPr/>
        </p:nvSpPr>
        <p:spPr>
          <a:xfrm>
            <a:off x="4091040" y="2079720"/>
            <a:ext cx="13446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68"/>
          <p:cNvSpPr/>
          <p:nvPr/>
        </p:nvSpPr>
        <p:spPr>
          <a:xfrm flipH="1">
            <a:off x="2743200" y="2079720"/>
            <a:ext cx="134784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9"/>
          <p:cNvSpPr/>
          <p:nvPr/>
        </p:nvSpPr>
        <p:spPr>
          <a:xfrm>
            <a:off x="4091040" y="2079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0"/>
          <p:cNvSpPr/>
          <p:nvPr/>
        </p:nvSpPr>
        <p:spPr>
          <a:xfrm>
            <a:off x="4091040" y="3808440"/>
            <a:ext cx="124920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1"/>
          <p:cNvSpPr/>
          <p:nvPr/>
        </p:nvSpPr>
        <p:spPr>
          <a:xfrm flipH="1">
            <a:off x="2895480" y="3809880"/>
            <a:ext cx="1168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5"/>
          <p:cNvSpPr/>
          <p:nvPr/>
        </p:nvSpPr>
        <p:spPr>
          <a:xfrm>
            <a:off x="3202200" y="10666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7"/>
          <p:cNvSpPr/>
          <p:nvPr/>
        </p:nvSpPr>
        <p:spPr>
          <a:xfrm>
            <a:off x="5334120" y="838080"/>
            <a:ext cx="358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сновной метод С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стратегия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целью созд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лучших усло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изученных  социально-психологических  явл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33600" y="252900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бораторны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существляется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циаль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ов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9"/>
          <p:cNvSpPr/>
          <p:nvPr/>
        </p:nvSpPr>
        <p:spPr>
          <a:xfrm>
            <a:off x="5104440" y="2590920"/>
            <a:ext cx="25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ественны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существляется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ествен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457920" y="4343400"/>
            <a:ext cx="30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татирующ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зучаются необходим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5334120" y="4343400"/>
            <a:ext cx="292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ющ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виваются определ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чества у испытуем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9D5-9178-4CA8-B8BE-96FA6F96B1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884240" y="1052640"/>
            <a:ext cx="3360960" cy="43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2367720" y="1066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5821200" y="1108080"/>
            <a:ext cx="281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ой мет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диагнос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личност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 в групп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4930560" y="216684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 Дж. Морен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634680" y="2187720"/>
            <a:ext cx="168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зыв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логиче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имат 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4196880" y="2727360"/>
            <a:ext cx="30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проведение опро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х членов группы и постро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ци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4695480" y="3625920"/>
            <a:ext cx="31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ема взаимоотношений в групп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0"/>
          <p:cNvSpPr/>
          <p:nvPr/>
        </p:nvSpPr>
        <p:spPr>
          <a:xfrm>
            <a:off x="3114360" y="4651200"/>
            <a:ext cx="4275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  –  гармонизировать обществен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расстановкой люд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руппе в зависимости от 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а предпочтений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йтрализацией эмоциональ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ращений между членами груп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5245200" y="127008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7"/>
          <p:cNvSpPr/>
          <p:nvPr/>
        </p:nvSpPr>
        <p:spPr>
          <a:xfrm>
            <a:off x="3611520" y="1484280"/>
            <a:ext cx="0" cy="307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8"/>
          <p:cNvSpPr/>
          <p:nvPr/>
        </p:nvSpPr>
        <p:spPr>
          <a:xfrm flipH="1">
            <a:off x="2171520" y="1484280"/>
            <a:ext cx="143964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9"/>
          <p:cNvSpPr/>
          <p:nvPr/>
        </p:nvSpPr>
        <p:spPr>
          <a:xfrm>
            <a:off x="3611520" y="1484280"/>
            <a:ext cx="768240" cy="12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30"/>
          <p:cNvSpPr/>
          <p:nvPr/>
        </p:nvSpPr>
        <p:spPr>
          <a:xfrm>
            <a:off x="3611520" y="1484280"/>
            <a:ext cx="144144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1"/>
          <p:cNvSpPr/>
          <p:nvPr/>
        </p:nvSpPr>
        <p:spPr>
          <a:xfrm>
            <a:off x="4859280" y="33210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3B4F-0630-465C-8058-89CE494BD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167640" y="89064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помо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446040" y="2025720"/>
            <a:ext cx="3649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Обоб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висим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исти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документов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ые, офици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мнения других люд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четы, публика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исьменный (анкетирова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стный (интервью, бесед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4951080" y="1981080"/>
            <a:ext cx="293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Анализ результа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дукты совмест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а, рису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5793840" y="3427560"/>
            <a:ext cx="290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Тестир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ектив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есты на оц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й, характе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сихокоррекцио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есты «интеллект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2"/>
          <p:cNvSpPr/>
          <p:nvPr/>
        </p:nvSpPr>
        <p:spPr>
          <a:xfrm flipH="1">
            <a:off x="1371240" y="1295280"/>
            <a:ext cx="2514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3886200" y="1295280"/>
            <a:ext cx="2362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64AE-2258-42CD-9D4C-7B75BE228E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1"/>
          <p:cNvSpPr/>
          <p:nvPr/>
        </p:nvSpPr>
        <p:spPr>
          <a:xfrm>
            <a:off x="4495680" y="0"/>
            <a:ext cx="4648320" cy="2293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7"/>
          <p:cNvSpPr/>
          <p:nvPr/>
        </p:nvSpPr>
        <p:spPr>
          <a:xfrm>
            <a:off x="539640" y="297000"/>
            <a:ext cx="278604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3"/>
          <p:cNvSpPr/>
          <p:nvPr/>
        </p:nvSpPr>
        <p:spPr>
          <a:xfrm>
            <a:off x="347760" y="4400640"/>
            <a:ext cx="4224240" cy="222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5245200" y="4670280"/>
            <a:ext cx="3898800" cy="165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"/>
          <p:cNvSpPr/>
          <p:nvPr/>
        </p:nvSpPr>
        <p:spPr>
          <a:xfrm>
            <a:off x="3132000" y="2403360"/>
            <a:ext cx="288000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694320" y="2836800"/>
            <a:ext cx="186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ОЛОГИЯ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ние о принцип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роения, формах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особах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809640" y="566640"/>
            <a:ext cx="223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общая методоло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частная методоло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вокупность конкрет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е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5173560" y="228600"/>
            <a:ext cx="344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ЦИП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й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й комплекс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 психологической причи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единство социально-психологическ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влений, среды, актив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 психологической систем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 психологической раве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объектив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830160" y="4508640"/>
            <a:ext cx="3033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следовани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изучение пробле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ка гипотез, Выбор мет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бор да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обработка да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интерпретация, формулиров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водов, рекоменд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5844240" y="4832280"/>
            <a:ext cx="279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– наблюд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имент социометр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-  тесты; опрос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ализ документов, мнен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уктов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6"/>
          <p:cNvSpPr/>
          <p:nvPr/>
        </p:nvSpPr>
        <p:spPr>
          <a:xfrm>
            <a:off x="5340240" y="3860640"/>
            <a:ext cx="105588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7"/>
          <p:cNvSpPr/>
          <p:nvPr/>
        </p:nvSpPr>
        <p:spPr>
          <a:xfrm flipH="1">
            <a:off x="3034800" y="3860640"/>
            <a:ext cx="57636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 flipV="1">
            <a:off x="5340240" y="2241360"/>
            <a:ext cx="28728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 flipH="1" flipV="1">
            <a:off x="2652840" y="1701360"/>
            <a:ext cx="105552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66D-BACB-4BAB-8D79-895F818880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920600" y="3049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18960" y="858960"/>
            <a:ext cx="8825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ем особенности методологии социальной психолог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методологические принципы социальной психологии, дайте им характеристи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ем состоит специфика социально-психологического исследова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а структура и содержание социально-психологического исследова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классификации методов социально-психологического исследования и принци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х использ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     Охарактеризуйте основные методы социально-психологических исследова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2062080" y="376884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26280" y="4398840"/>
            <a:ext cx="950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оснуйте с позиции системного подхода существование социально-психологиче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альности как отличной от психики индиви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    Как относятся теоретические и прикладные знания в современной социальной психолог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4996-0A85-48B6-A01D-D48A33DF8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4"/>
          <p:cNvSpPr/>
          <p:nvPr/>
        </p:nvSpPr>
        <p:spPr>
          <a:xfrm>
            <a:off x="1143000" y="762120"/>
            <a:ext cx="7128000" cy="647640"/>
          </a:xfrm>
          <a:prstGeom prst="parallelogram">
            <a:avLst>
              <a:gd name="adj" fmla="val 78215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AutoShape 85"/>
          <p:cNvCxnSpPr/>
          <p:nvPr/>
        </p:nvCxnSpPr>
        <p:spPr>
          <a:xfrm>
            <a:off x="3123720" y="243792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Text Box 86"/>
          <p:cNvSpPr/>
          <p:nvPr/>
        </p:nvSpPr>
        <p:spPr>
          <a:xfrm>
            <a:off x="1143000" y="175248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ет способы достижения и построения какого - либо определенного 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AutoShape 87"/>
          <p:cNvCxnSpPr/>
          <p:nvPr/>
        </p:nvCxnSpPr>
        <p:spPr>
          <a:xfrm>
            <a:off x="3123720" y="4114440"/>
            <a:ext cx="2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Text Box 88"/>
          <p:cNvSpPr/>
          <p:nvPr/>
        </p:nvSpPr>
        <p:spPr>
          <a:xfrm>
            <a:off x="1143000" y="266688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принципов, способов реализации и построения теоретической и практической деятельности а также учение об этой сист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92"/>
          <p:cNvCxnSpPr/>
          <p:nvPr/>
        </p:nvCxnSpPr>
        <p:spPr>
          <a:xfrm rot="5400000">
            <a:off x="-306360" y="2210400"/>
            <a:ext cx="2820240" cy="53280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93"/>
          <p:cNvCxnSpPr/>
          <p:nvPr/>
        </p:nvCxnSpPr>
        <p:spPr>
          <a:xfrm>
            <a:off x="837720" y="3886200"/>
            <a:ext cx="2134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Text Box 94"/>
          <p:cNvSpPr/>
          <p:nvPr/>
        </p:nvSpPr>
        <p:spPr>
          <a:xfrm>
            <a:off x="2209680" y="3657600"/>
            <a:ext cx="47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AutoShape 96"/>
          <p:cNvCxnSpPr/>
          <p:nvPr/>
        </p:nvCxnSpPr>
        <p:spPr>
          <a:xfrm>
            <a:off x="3141360" y="48592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Text Box 97"/>
          <p:cNvSpPr/>
          <p:nvPr/>
        </p:nvSpPr>
        <p:spPr>
          <a:xfrm>
            <a:off x="2554200" y="44560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ия как трехуровневая систем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1"/>
          <p:cNvSpPr/>
          <p:nvPr/>
        </p:nvSpPr>
        <p:spPr>
          <a:xfrm flipV="1">
            <a:off x="1258920" y="5156640"/>
            <a:ext cx="6864480" cy="1513080"/>
          </a:xfrm>
          <a:prstGeom prst="parallelogram">
            <a:avLst>
              <a:gd name="adj" fmla="val 22327"/>
            </a:avLst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1981080" y="5105520"/>
            <a:ext cx="36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уровень – общая метод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5"/>
          <p:cNvSpPr/>
          <p:nvPr/>
        </p:nvSpPr>
        <p:spPr>
          <a:xfrm>
            <a:off x="1982520" y="5562720"/>
            <a:ext cx="42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уровень – частная или специа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6"/>
          <p:cNvSpPr/>
          <p:nvPr/>
        </p:nvSpPr>
        <p:spPr>
          <a:xfrm>
            <a:off x="1979640" y="5950080"/>
            <a:ext cx="484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уровень – методология как совокуп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кретных прие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110"/>
          <p:cNvCxnSpPr/>
          <p:nvPr/>
        </p:nvCxnSpPr>
        <p:spPr>
          <a:xfrm>
            <a:off x="1052640" y="7667280"/>
            <a:ext cx="48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AutoShape 113"/>
          <p:cNvCxnSpPr/>
          <p:nvPr/>
        </p:nvCxnSpPr>
        <p:spPr>
          <a:xfrm>
            <a:off x="1052640" y="8027640"/>
            <a:ext cx="48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Line 114"/>
          <p:cNvSpPr/>
          <p:nvPr/>
        </p:nvSpPr>
        <p:spPr>
          <a:xfrm>
            <a:off x="1371600" y="5562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5"/>
          <p:cNvSpPr/>
          <p:nvPr/>
        </p:nvSpPr>
        <p:spPr>
          <a:xfrm>
            <a:off x="31240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6"/>
          <p:cNvSpPr/>
          <p:nvPr/>
        </p:nvSpPr>
        <p:spPr>
          <a:xfrm>
            <a:off x="1447920" y="59436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ология- с греческого «путь позна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FA4E-0AF4-496A-9008-AFA1A9AD2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ология – учение о принципах построен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формах и способах по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835280" y="1484280"/>
          <a:ext cx="6288120" cy="5103720"/>
        </p:xfrm>
        <a:graphic>
          <a:graphicData uri="http://schemas.openxmlformats.org/drawingml/2006/table">
            <a:tbl>
              <a:tblPr/>
              <a:tblGrid>
                <a:gridCol w="628812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лектико – материалистический подход к пониманию окружающей действительности и общественной деятельности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ение о движущих силах развития окружающей действительности и общественной активности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мание единства материальных (производственных) и психологических отношений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ения об универсальной форме движения, развития, определяющей существование любой материальной систе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е понимание причинной обусловленности и специфики развития различных общностей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cxnSp>
        <p:nvCxnSpPr>
          <p:cNvPr id="70" name="AutoShape 261"/>
          <p:cNvCxnSpPr/>
          <p:nvPr/>
        </p:nvCxnSpPr>
        <p:spPr>
          <a:xfrm rot="5400000">
            <a:off x="-572040" y="1790640"/>
            <a:ext cx="2972520" cy="457920"/>
          </a:xfrm>
          <a:prstGeom prst="bentConnector3">
            <a:avLst>
              <a:gd name="adj1" fmla="val 2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Text Box 263"/>
          <p:cNvSpPr/>
          <p:nvPr/>
        </p:nvSpPr>
        <p:spPr>
          <a:xfrm rot="16200000">
            <a:off x="-438120" y="208260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264"/>
          <p:cNvCxnSpPr/>
          <p:nvPr/>
        </p:nvCxnSpPr>
        <p:spPr>
          <a:xfrm>
            <a:off x="685800" y="350496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1AA-4E4B-4EF1-A46A-B47AA0112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755640" y="2781360"/>
            <a:ext cx="7848720" cy="9349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395280" y="4797360"/>
            <a:ext cx="2664000" cy="12956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СТЕМ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3421080" y="4797360"/>
            <a:ext cx="2806560" cy="12956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ЧИ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6516720" y="4797360"/>
            <a:ext cx="2158920" cy="12956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КТИВ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6300720" y="692280"/>
            <a:ext cx="2448000" cy="13683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ДИ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ЛЕНИЙ СРЕ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АКТИВ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3348000" y="692280"/>
            <a:ext cx="2664000" cy="13683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ЧИ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324000" y="692280"/>
            <a:ext cx="2735280" cy="13683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ПСИХОЛОГИЧЕ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МПЛЕКСНОМ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AutoShape 108"/>
          <p:cNvCxnSpPr/>
          <p:nvPr/>
        </p:nvCxnSpPr>
        <p:spPr>
          <a:xfrm>
            <a:off x="7389360" y="3733560"/>
            <a:ext cx="25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10"/>
          <p:cNvCxnSpPr>
            <a:stCxn id="74" idx="0"/>
            <a:endCxn id="79" idx="2"/>
          </p:cNvCxnSpPr>
          <p:nvPr/>
        </p:nvCxnSpPr>
        <p:spPr>
          <a:xfrm flipV="1">
            <a:off x="4679640" y="206028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11"/>
          <p:cNvCxnSpPr/>
          <p:nvPr/>
        </p:nvCxnSpPr>
        <p:spPr>
          <a:xfrm flipV="1">
            <a:off x="1599840" y="20570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12"/>
          <p:cNvCxnSpPr/>
          <p:nvPr/>
        </p:nvCxnSpPr>
        <p:spPr>
          <a:xfrm flipV="1">
            <a:off x="7391160" y="20570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Line 114"/>
          <p:cNvSpPr/>
          <p:nvPr/>
        </p:nvSpPr>
        <p:spPr>
          <a:xfrm>
            <a:off x="464832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5"/>
          <p:cNvSpPr/>
          <p:nvPr/>
        </p:nvSpPr>
        <p:spPr>
          <a:xfrm>
            <a:off x="160020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0B9A-90CD-4B11-B4AA-FB94FE039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95640" y="1125360"/>
          <a:ext cx="5400720" cy="258480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й и психологической комплек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сихология опирается на данные социальных наук, но ее больше интересуют психологические проблемы, обусловленные и обусловливающие социальные. Их она и раскрывает, используя многие другие разделы и отрасли психологического зн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раничное положение социальной психологии определяет специфику исследуемой ею социально – психологической реа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09680" y="3933720"/>
          <a:ext cx="5315040" cy="2335320"/>
        </p:xfrm>
        <a:graphic>
          <a:graphicData uri="http://schemas.openxmlformats.org/drawingml/2006/table">
            <a:tbl>
              <a:tblPr/>
              <a:tblGrid>
                <a:gridCol w="5315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й и психологической причи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16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среда окружающая человека или группу людей, активна в своих психологических воздействиях на них, под ее влиянием и социально – психологическое отражение приобретает удвоенную социальную причинность, так как выступает и субъектом отражения социальной реальности и объектом воздействия ее активных эле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cxnSp>
        <p:nvCxnSpPr>
          <p:cNvPr id="91" name="AutoShape 120"/>
          <p:cNvCxnSpPr/>
          <p:nvPr/>
        </p:nvCxnSpPr>
        <p:spPr>
          <a:xfrm>
            <a:off x="1371240" y="1523520"/>
            <a:ext cx="1080" cy="3745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AutoShape 126"/>
          <p:cNvCxnSpPr/>
          <p:nvPr/>
        </p:nvCxnSpPr>
        <p:spPr>
          <a:xfrm>
            <a:off x="3352320" y="18284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27"/>
          <p:cNvCxnSpPr/>
          <p:nvPr/>
        </p:nvCxnSpPr>
        <p:spPr>
          <a:xfrm>
            <a:off x="3352320" y="46479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Line 135"/>
          <p:cNvSpPr/>
          <p:nvPr/>
        </p:nvSpPr>
        <p:spPr>
          <a:xfrm>
            <a:off x="13716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36"/>
          <p:cNvSpPr/>
          <p:nvPr/>
        </p:nvSpPr>
        <p:spPr>
          <a:xfrm>
            <a:off x="13716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0748-4C5B-4D24-A415-91885B5CC4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981000"/>
          <a:ext cx="5686200" cy="1763640"/>
        </p:xfrm>
        <a:graphic>
          <a:graphicData uri="http://schemas.openxmlformats.org/drawingml/2006/table">
            <a:tbl>
              <a:tblPr/>
              <a:tblGrid>
                <a:gridCol w="5686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единства социально психологических явлений, среды и ак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edede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, общение и совместная деятельность во взаимодействии определяет специфику психологии разных групп. Но с ростом численности групп роль общения и совместной деятельности уменьшается, а роль среды, объективных условий жизни и деятельности возраст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edede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954680" y="2997360"/>
          <a:ext cx="3816360" cy="1828800"/>
        </p:xfrm>
        <a:graphic>
          <a:graphicData uri="http://schemas.openxmlformats.org/drawingml/2006/table">
            <a:tbl>
              <a:tblPr/>
              <a:tblGrid>
                <a:gridCol w="792000"/>
                <a:gridCol w="871560"/>
                <a:gridCol w="1144800"/>
                <a:gridCol w="100800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РМИНИН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ая 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е груп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ие общ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2360" y="4869000"/>
          <a:ext cx="5759640" cy="1546200"/>
        </p:xfrm>
        <a:graphic>
          <a:graphicData uri="http://schemas.openxmlformats.org/drawingml/2006/table">
            <a:tbl>
              <a:tblPr/>
              <a:tblGrid>
                <a:gridCol w="5759640"/>
              </a:tblGrid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 -  психологической систем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d6d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ое воздействии людей в группе приводит к возникновению психологии группы, отличной от индивидуальной психики. Психика отдельного члена группы,  выступая по отношению к  психологии группы ее элементам, испытывает на себе силу ее системности,  подвергаясь определенным изменени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d6d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1" name="AutoShape 159"/>
          <p:cNvSpPr/>
          <p:nvPr/>
        </p:nvSpPr>
        <p:spPr>
          <a:xfrm rot="5400000">
            <a:off x="5859000" y="3886200"/>
            <a:ext cx="809640" cy="1082520"/>
          </a:xfrm>
          <a:prstGeom prst="flowChartManualInput">
            <a:avLst/>
          </a:prstGeom>
          <a:solidFill>
            <a:srgbClr val="b2b2b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7"/>
          <p:cNvSpPr/>
          <p:nvPr/>
        </p:nvSpPr>
        <p:spPr>
          <a:xfrm rot="16200000">
            <a:off x="7839720" y="3922920"/>
            <a:ext cx="809640" cy="1008000"/>
          </a:xfrm>
          <a:prstGeom prst="flowChartManualInpu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77"/>
          <p:cNvSpPr/>
          <p:nvPr/>
        </p:nvSpPr>
        <p:spPr>
          <a:xfrm>
            <a:off x="5245200" y="294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8"/>
          <p:cNvSpPr/>
          <p:nvPr/>
        </p:nvSpPr>
        <p:spPr>
          <a:xfrm>
            <a:off x="6012000" y="58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9"/>
          <p:cNvSpPr/>
          <p:nvPr/>
        </p:nvSpPr>
        <p:spPr>
          <a:xfrm>
            <a:off x="6373800" y="4797360"/>
            <a:ext cx="88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исте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80"/>
          <p:cNvSpPr/>
          <p:nvPr/>
        </p:nvSpPr>
        <p:spPr>
          <a:xfrm>
            <a:off x="7237440" y="4951440"/>
            <a:ext cx="9349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81"/>
          <p:cNvSpPr/>
          <p:nvPr/>
        </p:nvSpPr>
        <p:spPr>
          <a:xfrm>
            <a:off x="7234200" y="5624640"/>
            <a:ext cx="10080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82"/>
          <p:cNvSpPr/>
          <p:nvPr/>
        </p:nvSpPr>
        <p:spPr>
          <a:xfrm>
            <a:off x="7246800" y="6307200"/>
            <a:ext cx="100980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3"/>
          <p:cNvSpPr/>
          <p:nvPr/>
        </p:nvSpPr>
        <p:spPr>
          <a:xfrm>
            <a:off x="8030880" y="4797360"/>
            <a:ext cx="55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4"/>
          <p:cNvSpPr/>
          <p:nvPr/>
        </p:nvSpPr>
        <p:spPr>
          <a:xfrm>
            <a:off x="8031960" y="530064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85"/>
          <p:cNvSpPr/>
          <p:nvPr/>
        </p:nvSpPr>
        <p:spPr>
          <a:xfrm>
            <a:off x="8106480" y="595008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86"/>
          <p:cNvSpPr/>
          <p:nvPr/>
        </p:nvSpPr>
        <p:spPr>
          <a:xfrm>
            <a:off x="6378480" y="602136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изиологическа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87"/>
          <p:cNvSpPr/>
          <p:nvPr/>
        </p:nvSpPr>
        <p:spPr>
          <a:xfrm>
            <a:off x="6357600" y="542124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сихологическа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89"/>
          <p:cNvSpPr/>
          <p:nvPr/>
        </p:nvSpPr>
        <p:spPr>
          <a:xfrm>
            <a:off x="7523280" y="502272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90"/>
          <p:cNvSpPr/>
          <p:nvPr/>
        </p:nvSpPr>
        <p:spPr>
          <a:xfrm>
            <a:off x="7812000" y="5022720"/>
            <a:ext cx="730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91"/>
          <p:cNvSpPr/>
          <p:nvPr/>
        </p:nvSpPr>
        <p:spPr>
          <a:xfrm>
            <a:off x="7523280" y="5238720"/>
            <a:ext cx="730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92"/>
          <p:cNvSpPr/>
          <p:nvPr/>
        </p:nvSpPr>
        <p:spPr>
          <a:xfrm>
            <a:off x="7812000" y="5238720"/>
            <a:ext cx="730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93"/>
          <p:cNvSpPr/>
          <p:nvPr/>
        </p:nvSpPr>
        <p:spPr>
          <a:xfrm>
            <a:off x="8028000" y="5094360"/>
            <a:ext cx="730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94"/>
          <p:cNvSpPr/>
          <p:nvPr/>
        </p:nvSpPr>
        <p:spPr>
          <a:xfrm>
            <a:off x="7307280" y="5167440"/>
            <a:ext cx="730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206"/>
          <p:cNvCxnSpPr>
            <a:stCxn id="119" idx="7"/>
            <a:endCxn id="114" idx="3"/>
          </p:cNvCxnSpPr>
          <p:nvPr/>
        </p:nvCxnSpPr>
        <p:spPr>
          <a:xfrm flipV="1">
            <a:off x="7368840" y="5083920"/>
            <a:ext cx="16596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AutoShape 207"/>
          <p:cNvCxnSpPr>
            <a:stCxn id="114" idx="6"/>
            <a:endCxn id="115" idx="2"/>
          </p:cNvCxnSpPr>
          <p:nvPr/>
        </p:nvCxnSpPr>
        <p:spPr>
          <a:xfrm>
            <a:off x="7594560" y="50590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208"/>
          <p:cNvCxnSpPr>
            <a:stCxn id="115" idx="5"/>
            <a:endCxn id="118" idx="2"/>
          </p:cNvCxnSpPr>
          <p:nvPr/>
        </p:nvCxnSpPr>
        <p:spPr>
          <a:xfrm>
            <a:off x="7873920" y="5084640"/>
            <a:ext cx="1548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AutoShape 209"/>
          <p:cNvCxnSpPr>
            <a:stCxn id="118" idx="3"/>
            <a:endCxn id="117" idx="7"/>
          </p:cNvCxnSpPr>
          <p:nvPr/>
        </p:nvCxnSpPr>
        <p:spPr>
          <a:xfrm flipH="1">
            <a:off x="7873200" y="5156280"/>
            <a:ext cx="16596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AutoShape 210"/>
          <p:cNvCxnSpPr>
            <a:stCxn id="119" idx="5"/>
            <a:endCxn id="116" idx="2"/>
          </p:cNvCxnSpPr>
          <p:nvPr/>
        </p:nvCxnSpPr>
        <p:spPr>
          <a:xfrm>
            <a:off x="7369200" y="5229360"/>
            <a:ext cx="1548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AutoShape 212"/>
          <p:cNvCxnSpPr>
            <a:stCxn id="116" idx="6"/>
            <a:endCxn id="117" idx="2"/>
          </p:cNvCxnSpPr>
          <p:nvPr/>
        </p:nvCxnSpPr>
        <p:spPr>
          <a:xfrm>
            <a:off x="7596000" y="527508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AutoShape 213"/>
          <p:cNvCxnSpPr>
            <a:stCxn id="115" idx="4"/>
            <a:endCxn id="117" idx="0"/>
          </p:cNvCxnSpPr>
          <p:nvPr/>
        </p:nvCxnSpPr>
        <p:spPr>
          <a:xfrm>
            <a:off x="7848360" y="5095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AutoShape 214"/>
          <p:cNvCxnSpPr>
            <a:stCxn id="114" idx="4"/>
            <a:endCxn id="116" idx="0"/>
          </p:cNvCxnSpPr>
          <p:nvPr/>
        </p:nvCxnSpPr>
        <p:spPr>
          <a:xfrm>
            <a:off x="7559280" y="5095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AutoShape 215"/>
          <p:cNvCxnSpPr>
            <a:stCxn id="115" idx="3"/>
            <a:endCxn id="116" idx="6"/>
          </p:cNvCxnSpPr>
          <p:nvPr/>
        </p:nvCxnSpPr>
        <p:spPr>
          <a:xfrm flipH="1">
            <a:off x="7596000" y="5084640"/>
            <a:ext cx="22752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Oval 216"/>
          <p:cNvSpPr/>
          <p:nvPr/>
        </p:nvSpPr>
        <p:spPr>
          <a:xfrm>
            <a:off x="7666200" y="5840280"/>
            <a:ext cx="727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217"/>
          <p:cNvSpPr/>
          <p:nvPr/>
        </p:nvSpPr>
        <p:spPr>
          <a:xfrm>
            <a:off x="8026560" y="5913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18"/>
          <p:cNvSpPr/>
          <p:nvPr/>
        </p:nvSpPr>
        <p:spPr>
          <a:xfrm>
            <a:off x="7523280" y="5985000"/>
            <a:ext cx="7308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19"/>
          <p:cNvSpPr/>
          <p:nvPr/>
        </p:nvSpPr>
        <p:spPr>
          <a:xfrm>
            <a:off x="7810560" y="598500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20"/>
          <p:cNvSpPr/>
          <p:nvPr/>
        </p:nvSpPr>
        <p:spPr>
          <a:xfrm>
            <a:off x="7954920" y="5769000"/>
            <a:ext cx="7164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1"/>
          <p:cNvSpPr/>
          <p:nvPr/>
        </p:nvSpPr>
        <p:spPr>
          <a:xfrm>
            <a:off x="7594560" y="569736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22"/>
          <p:cNvSpPr/>
          <p:nvPr/>
        </p:nvSpPr>
        <p:spPr>
          <a:xfrm>
            <a:off x="7535880" y="659592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23"/>
          <p:cNvSpPr/>
          <p:nvPr/>
        </p:nvSpPr>
        <p:spPr>
          <a:xfrm>
            <a:off x="7751880" y="638028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24"/>
          <p:cNvSpPr/>
          <p:nvPr/>
        </p:nvSpPr>
        <p:spPr>
          <a:xfrm>
            <a:off x="7897680" y="6595920"/>
            <a:ext cx="7164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25"/>
          <p:cNvSpPr/>
          <p:nvPr/>
        </p:nvSpPr>
        <p:spPr>
          <a:xfrm>
            <a:off x="8039160" y="645156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26"/>
          <p:cNvSpPr/>
          <p:nvPr/>
        </p:nvSpPr>
        <p:spPr>
          <a:xfrm>
            <a:off x="7378560" y="5840280"/>
            <a:ext cx="7164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27"/>
          <p:cNvSpPr/>
          <p:nvPr/>
        </p:nvSpPr>
        <p:spPr>
          <a:xfrm>
            <a:off x="7391520" y="645156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228"/>
          <p:cNvCxnSpPr>
            <a:stCxn id="133" idx="5"/>
            <a:endCxn id="130" idx="1"/>
          </p:cNvCxnSpPr>
          <p:nvPr/>
        </p:nvCxnSpPr>
        <p:spPr>
          <a:xfrm>
            <a:off x="8015040" y="5830920"/>
            <a:ext cx="2268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29"/>
          <p:cNvCxnSpPr>
            <a:stCxn id="130" idx="3"/>
            <a:endCxn id="132" idx="6"/>
          </p:cNvCxnSpPr>
          <p:nvPr/>
        </p:nvCxnSpPr>
        <p:spPr>
          <a:xfrm flipH="1">
            <a:off x="7884360" y="5975280"/>
            <a:ext cx="1530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30"/>
          <p:cNvCxnSpPr>
            <a:stCxn id="132" idx="0"/>
            <a:endCxn id="133" idx="3"/>
          </p:cNvCxnSpPr>
          <p:nvPr/>
        </p:nvCxnSpPr>
        <p:spPr>
          <a:xfrm flipV="1">
            <a:off x="7848720" y="5830560"/>
            <a:ext cx="1180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31"/>
          <p:cNvCxnSpPr>
            <a:stCxn id="132" idx="1"/>
            <a:endCxn id="129" idx="5"/>
          </p:cNvCxnSpPr>
          <p:nvPr/>
        </p:nvCxnSpPr>
        <p:spPr>
          <a:xfrm flipH="1" flipV="1">
            <a:off x="7727760" y="5901480"/>
            <a:ext cx="9432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32"/>
          <p:cNvCxnSpPr>
            <a:stCxn id="129" idx="3"/>
            <a:endCxn id="131" idx="7"/>
          </p:cNvCxnSpPr>
          <p:nvPr/>
        </p:nvCxnSpPr>
        <p:spPr>
          <a:xfrm flipH="1">
            <a:off x="7584480" y="5901840"/>
            <a:ext cx="9252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233"/>
          <p:cNvCxnSpPr>
            <a:stCxn id="131" idx="1"/>
            <a:endCxn id="139" idx="5"/>
          </p:cNvCxnSpPr>
          <p:nvPr/>
        </p:nvCxnSpPr>
        <p:spPr>
          <a:xfrm flipH="1" flipV="1">
            <a:off x="7438320" y="5901480"/>
            <a:ext cx="9612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234"/>
          <p:cNvCxnSpPr>
            <a:stCxn id="139" idx="6"/>
            <a:endCxn id="129" idx="2"/>
          </p:cNvCxnSpPr>
          <p:nvPr/>
        </p:nvCxnSpPr>
        <p:spPr>
          <a:xfrm>
            <a:off x="7450200" y="587664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235"/>
          <p:cNvCxnSpPr>
            <a:stCxn id="134" idx="6"/>
            <a:endCxn id="133" idx="2"/>
          </p:cNvCxnSpPr>
          <p:nvPr/>
        </p:nvCxnSpPr>
        <p:spPr>
          <a:xfrm>
            <a:off x="7669080" y="5734080"/>
            <a:ext cx="28656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236"/>
          <p:cNvCxnSpPr>
            <a:stCxn id="134" idx="4"/>
            <a:endCxn id="131" idx="0"/>
          </p:cNvCxnSpPr>
          <p:nvPr/>
        </p:nvCxnSpPr>
        <p:spPr>
          <a:xfrm flipH="1">
            <a:off x="7558920" y="5770440"/>
            <a:ext cx="738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237"/>
          <p:cNvCxnSpPr>
            <a:stCxn id="138" idx="3"/>
            <a:endCxn id="137" idx="7"/>
          </p:cNvCxnSpPr>
          <p:nvPr/>
        </p:nvCxnSpPr>
        <p:spPr>
          <a:xfrm flipH="1">
            <a:off x="7957800" y="6513480"/>
            <a:ext cx="9288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AutoShape 238"/>
          <p:cNvCxnSpPr>
            <a:stCxn id="137" idx="2"/>
            <a:endCxn id="135" idx="6"/>
          </p:cNvCxnSpPr>
          <p:nvPr/>
        </p:nvCxnSpPr>
        <p:spPr>
          <a:xfrm flipH="1">
            <a:off x="7606440" y="6632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AutoShape 239"/>
          <p:cNvCxnSpPr>
            <a:stCxn id="135" idx="2"/>
            <a:endCxn id="140" idx="4"/>
          </p:cNvCxnSpPr>
          <p:nvPr/>
        </p:nvCxnSpPr>
        <p:spPr>
          <a:xfrm flipH="1" flipV="1">
            <a:off x="7428960" y="6524280"/>
            <a:ext cx="10692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AutoShape 240"/>
          <p:cNvCxnSpPr>
            <a:stCxn id="140" idx="6"/>
            <a:endCxn id="136" idx="2"/>
          </p:cNvCxnSpPr>
          <p:nvPr/>
        </p:nvCxnSpPr>
        <p:spPr>
          <a:xfrm flipV="1">
            <a:off x="7466040" y="6415920"/>
            <a:ext cx="2865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AutoShape 241"/>
          <p:cNvCxnSpPr>
            <a:stCxn id="136" idx="5"/>
            <a:endCxn id="138" idx="2"/>
          </p:cNvCxnSpPr>
          <p:nvPr/>
        </p:nvCxnSpPr>
        <p:spPr>
          <a:xfrm>
            <a:off x="7811640" y="6442200"/>
            <a:ext cx="22788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AutoShape 242"/>
          <p:cNvCxnSpPr>
            <a:stCxn id="135" idx="7"/>
            <a:endCxn id="136" idx="4"/>
          </p:cNvCxnSpPr>
          <p:nvPr/>
        </p:nvCxnSpPr>
        <p:spPr>
          <a:xfrm flipV="1">
            <a:off x="7596000" y="6452640"/>
            <a:ext cx="192600" cy="15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AutoShape 243"/>
          <p:cNvCxnSpPr>
            <a:stCxn id="137" idx="1"/>
            <a:endCxn id="136" idx="5"/>
          </p:cNvCxnSpPr>
          <p:nvPr/>
        </p:nvCxnSpPr>
        <p:spPr>
          <a:xfrm flipH="1" flipV="1">
            <a:off x="7811280" y="6441840"/>
            <a:ext cx="9756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Line 244"/>
          <p:cNvSpPr/>
          <p:nvPr/>
        </p:nvSpPr>
        <p:spPr>
          <a:xfrm>
            <a:off x="7524720" y="61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6"/>
          <p:cNvSpPr/>
          <p:nvPr/>
        </p:nvSpPr>
        <p:spPr>
          <a:xfrm>
            <a:off x="8028000" y="61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47"/>
          <p:cNvSpPr/>
          <p:nvPr/>
        </p:nvSpPr>
        <p:spPr>
          <a:xfrm flipV="1">
            <a:off x="7740720" y="6165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48"/>
          <p:cNvSpPr/>
          <p:nvPr/>
        </p:nvSpPr>
        <p:spPr>
          <a:xfrm>
            <a:off x="7956720" y="544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9"/>
          <p:cNvSpPr/>
          <p:nvPr/>
        </p:nvSpPr>
        <p:spPr>
          <a:xfrm flipV="1">
            <a:off x="7596360" y="5444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0F8B-029E-4A61-AAB9-C5DB96A2E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1125360"/>
          <a:ext cx="4825800" cy="2051280"/>
        </p:xfrm>
        <a:graphic>
          <a:graphicData uri="http://schemas.openxmlformats.org/drawingml/2006/table">
            <a:tbl>
              <a:tblPr/>
              <a:tblGrid>
                <a:gridCol w="4825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 - психологического разви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жизни человека весь процесс социально – психологических перемен непрерывен, как непрерывно и развитие общества. Под влиянием этих перемен происходят  изменения и у л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627280" y="3933720"/>
          <a:ext cx="3384720" cy="180036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объе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бая наука должна заниматься изучением достоверных выверенных фак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cxnSp>
        <p:nvCxnSpPr>
          <p:cNvPr id="166" name="AutoShape 52"/>
          <p:cNvCxnSpPr/>
          <p:nvPr/>
        </p:nvCxnSpPr>
        <p:spPr>
          <a:xfrm>
            <a:off x="1371240" y="1509480"/>
            <a:ext cx="1080" cy="36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AutoShape 54"/>
          <p:cNvCxnSpPr/>
          <p:nvPr/>
        </p:nvCxnSpPr>
        <p:spPr>
          <a:xfrm>
            <a:off x="1371600" y="5181120"/>
            <a:ext cx="1296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Line 62"/>
          <p:cNvSpPr/>
          <p:nvPr/>
        </p:nvSpPr>
        <p:spPr>
          <a:xfrm>
            <a:off x="13716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1F09-8ECC-4B96-8634-7BBD566A91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01"/>
          <p:cNvSpPr/>
          <p:nvPr/>
        </p:nvSpPr>
        <p:spPr>
          <a:xfrm>
            <a:off x="1447920" y="533520"/>
            <a:ext cx="6262560" cy="792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2"/>
          <p:cNvSpPr/>
          <p:nvPr/>
        </p:nvSpPr>
        <p:spPr>
          <a:xfrm>
            <a:off x="2268360" y="1268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03"/>
          <p:cNvSpPr/>
          <p:nvPr/>
        </p:nvSpPr>
        <p:spPr>
          <a:xfrm>
            <a:off x="755640" y="2060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4"/>
          <p:cNvSpPr/>
          <p:nvPr/>
        </p:nvSpPr>
        <p:spPr>
          <a:xfrm>
            <a:off x="686880" y="198108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оциальная процед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245200" y="2079720"/>
          <a:ext cx="3132000" cy="2139840"/>
        </p:xfrm>
        <a:graphic>
          <a:graphicData uri="http://schemas.openxmlformats.org/drawingml/2006/table">
            <a:tbl>
              <a:tblPr/>
              <a:tblGrid>
                <a:gridCol w="31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самостоя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аются задач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бъекты всегда конкретн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разграни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в и гипотез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5" name="Rectangle 226"/>
          <p:cNvSpPr/>
          <p:nvPr/>
        </p:nvSpPr>
        <p:spPr>
          <a:xfrm>
            <a:off x="3322800" y="4670280"/>
            <a:ext cx="3992400" cy="587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27"/>
          <p:cNvSpPr/>
          <p:nvPr/>
        </p:nvSpPr>
        <p:spPr>
          <a:xfrm>
            <a:off x="4859280" y="126828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28"/>
          <p:cNvSpPr/>
          <p:nvPr/>
        </p:nvSpPr>
        <p:spPr>
          <a:xfrm>
            <a:off x="6373800" y="1268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9"/>
          <p:cNvSpPr/>
          <p:nvPr/>
        </p:nvSpPr>
        <p:spPr>
          <a:xfrm>
            <a:off x="666000" y="3498840"/>
            <a:ext cx="21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ам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30"/>
          <p:cNvSpPr/>
          <p:nvPr/>
        </p:nvSpPr>
        <p:spPr>
          <a:xfrm>
            <a:off x="2268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31"/>
          <p:cNvSpPr/>
          <p:nvPr/>
        </p:nvSpPr>
        <p:spPr>
          <a:xfrm flipV="1">
            <a:off x="2268360" y="400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32"/>
          <p:cNvSpPr/>
          <p:nvPr/>
        </p:nvSpPr>
        <p:spPr>
          <a:xfrm>
            <a:off x="164160" y="4832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34"/>
          <p:cNvSpPr/>
          <p:nvPr/>
        </p:nvSpPr>
        <p:spPr>
          <a:xfrm>
            <a:off x="75564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35"/>
          <p:cNvSpPr/>
          <p:nvPr/>
        </p:nvSpPr>
        <p:spPr>
          <a:xfrm>
            <a:off x="327600" y="5589720"/>
            <a:ext cx="244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рреляций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эксперимент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9"/>
          <p:cNvSpPr/>
          <p:nvPr/>
        </p:nvSpPr>
        <p:spPr>
          <a:xfrm>
            <a:off x="2266920" y="4941720"/>
            <a:ext cx="105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42"/>
          <p:cNvSpPr/>
          <p:nvPr/>
        </p:nvSpPr>
        <p:spPr>
          <a:xfrm flipH="1">
            <a:off x="91404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25"/>
          <p:cNvSpPr/>
          <p:nvPr/>
        </p:nvSpPr>
        <p:spPr>
          <a:xfrm>
            <a:off x="3505320" y="4648320"/>
            <a:ext cx="379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СНЕНИЕ  ФАКТОВ И ЯВЛЕНИЙ И ИХ ПРОГНОЗ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ое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0D86-52BD-49C7-9BE0-F015F01D15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755640" y="1509840"/>
            <a:ext cx="41990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62120" y="3352680"/>
            <a:ext cx="41907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762120" y="4191120"/>
            <a:ext cx="419076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762120" y="5334120"/>
            <a:ext cx="419724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916600" y="1557360"/>
            <a:ext cx="2978280" cy="47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а социально – психологического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637440" y="11970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ЭТА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2286000" y="10666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826920" y="1557360"/>
            <a:ext cx="3127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состояния пробл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ния и ее формулиров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ка 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ния. Формулиров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потез. Выбор метод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995040" y="335268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 фактических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763920" y="4365720"/>
            <a:ext cx="29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чественная и количестве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ботка дан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914400" y="5257800"/>
            <a:ext cx="36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претация данных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я выводо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их рекомендац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развития на будуще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0"/>
          <p:cNvSpPr/>
          <p:nvPr/>
        </p:nvSpPr>
        <p:spPr>
          <a:xfrm>
            <a:off x="2286000" y="28954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2286000" y="495288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6172200" y="2819520"/>
            <a:ext cx="261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оч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ов п/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удовлетворитель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954680" y="202572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4952880" y="5943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2286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30:51Z</dcterms:modified>
  <cp:revision>91</cp:revision>
  <dc:subject/>
  <dc:title>PowerPoint Presentation</dc:title>
</cp:coreProperties>
</file>