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2F0-B53C-49FB-B1B9-4705FFBC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0CB-0ECD-4309-94E4-59E4AE5B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8C6-1B02-4F9E-899B-79A5FDE0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A62-EBAC-49E2-B7CD-36562A93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120-9F42-4B7C-A275-3DEBB19F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6D4-0590-4516-B17B-FD94B31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273-31C0-45E1-A79F-FA3026DF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222-51CC-48CA-8845-70DC5CE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704-705A-4170-AB8C-FAFEB2B6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8AF-D23C-4B60-B8BE-BE524C2D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DCF-9B9F-41C3-8C36-10439F84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D97-3EA5-482D-B5BE-0C811926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6FB3-4808-44B4-B020-709BF06BD7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6320" y="1219320"/>
            <a:ext cx="90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6. Психология взаимодействия и общения в малых групп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2280" y="190512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понимать психологию взаимодействия и общ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малых группах, их значения для совместной деятельности и жизни люд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00960" y="2743200"/>
            <a:ext cx="41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94560" y="3276720"/>
            <a:ext cx="5485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ность взаимодействия, его уровни и ти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ение и сущность об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и и виды об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и психологическая структура об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и критерии удовлетворенности обще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сти общения в современном мире и его сти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31920" y="4876920"/>
            <a:ext cx="8597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533520" y="152280"/>
            <a:ext cx="8153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3. Социальная психология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алых групп.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95480" y="1828800"/>
            <a:ext cx="3353040" cy="3124080"/>
          </a:xfrm>
          <a:prstGeom prst="diamond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3200400" y="4952880"/>
            <a:ext cx="2895480" cy="16765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тивационно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ой компон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6248520" y="2514600"/>
            <a:ext cx="2895480" cy="16765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ак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0" y="2590920"/>
            <a:ext cx="2895480" cy="16761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цептив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3124080" y="152280"/>
            <a:ext cx="2895840" cy="16765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2133720" y="152280"/>
            <a:ext cx="4876560" cy="5943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2362320" y="55627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25800" y="5638680"/>
            <a:ext cx="31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ВНИ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350532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2895480" y="4191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621600" y="4600440"/>
            <a:ext cx="15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т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26668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416760" y="330516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976920" y="18050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ухов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38098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048120" y="2895480"/>
            <a:ext cx="3047760" cy="106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И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ДОВЛЕТВОРЕН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Щ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7"/>
          <p:cNvSpPr/>
          <p:nvPr/>
        </p:nvSpPr>
        <p:spPr>
          <a:xfrm flipH="1" flipV="1">
            <a:off x="990720" y="4494960"/>
            <a:ext cx="2743200" cy="1219320"/>
          </a:xfrm>
          <a:prstGeom prst="wedgeEllipseCallout">
            <a:avLst>
              <a:gd name="adj1" fmla="val -59722"/>
              <a:gd name="adj2" fmla="val 3697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стимуля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8"/>
          <p:cNvSpPr/>
          <p:nvPr/>
        </p:nvSpPr>
        <p:spPr>
          <a:xfrm flipV="1">
            <a:off x="5181480" y="4571280"/>
            <a:ext cx="2819520" cy="1143000"/>
          </a:xfrm>
          <a:prstGeom prst="wedgeEllipseCallout">
            <a:avLst>
              <a:gd name="adj1" fmla="val -51523"/>
              <a:gd name="adj2" fmla="val 4375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структурировании времен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11"/>
          <p:cNvSpPr/>
          <p:nvPr/>
        </p:nvSpPr>
        <p:spPr>
          <a:xfrm rot="16200000">
            <a:off x="4476600" y="3447720"/>
            <a:ext cx="228600" cy="12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396252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5181480" y="41148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8"/>
          <p:cNvSpPr/>
          <p:nvPr/>
        </p:nvSpPr>
        <p:spPr>
          <a:xfrm flipH="1" flipV="1">
            <a:off x="380520" y="1218600"/>
            <a:ext cx="2743200" cy="1143000"/>
          </a:xfrm>
          <a:prstGeom prst="wedgeEllipseCallout">
            <a:avLst>
              <a:gd name="adj1" fmla="val -45254"/>
              <a:gd name="adj2" fmla="val -4875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ыт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9"/>
          <p:cNvSpPr/>
          <p:nvPr/>
        </p:nvSpPr>
        <p:spPr>
          <a:xfrm flipH="1" flipV="1">
            <a:off x="3352680" y="1218600"/>
            <a:ext cx="2743200" cy="1066680"/>
          </a:xfrm>
          <a:prstGeom prst="wedgeEllipseCallout">
            <a:avLst>
              <a:gd name="adj1" fmla="val 5092"/>
              <a:gd name="adj2" fmla="val -6532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узнава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0"/>
          <p:cNvSpPr/>
          <p:nvPr/>
        </p:nvSpPr>
        <p:spPr>
          <a:xfrm flipH="1" flipV="1">
            <a:off x="6400800" y="1142280"/>
            <a:ext cx="2743200" cy="1219320"/>
          </a:xfrm>
          <a:prstGeom prst="wedgeEllipseCallout">
            <a:avLst>
              <a:gd name="adj1" fmla="val 54685"/>
              <a:gd name="adj2" fmla="val -3841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достижении и призна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77724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 flipH="1" flipV="1">
            <a:off x="1676160" y="2361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9"/>
          <p:cNvSpPr/>
          <p:nvPr/>
        </p:nvSpPr>
        <p:spPr>
          <a:xfrm flipV="1">
            <a:off x="45720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30"/>
          <p:cNvCxnSpPr>
            <a:stCxn id="242" idx="0"/>
            <a:endCxn id="241" idx="0"/>
          </p:cNvCxnSpPr>
          <p:nvPr/>
        </p:nvCxnSpPr>
        <p:spPr>
          <a:xfrm flipV="1" rot="16200000">
            <a:off x="2933280" y="1256400"/>
            <a:ext cx="457920" cy="2820240"/>
          </a:xfrm>
          <a:prstGeom prst="curvedConnector5">
            <a:avLst>
              <a:gd name="adj1" fmla="val 49960"/>
              <a:gd name="adj2" fmla="val 49993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AutoShape 31"/>
          <p:cNvCxnSpPr>
            <a:stCxn id="242" idx="0"/>
            <a:endCxn id="239" idx="0"/>
          </p:cNvCxnSpPr>
          <p:nvPr/>
        </p:nvCxnSpPr>
        <p:spPr>
          <a:xfrm flipH="1" flipV="1" rot="5400000">
            <a:off x="5905440" y="1028160"/>
            <a:ext cx="533880" cy="3201120"/>
          </a:xfrm>
          <a:prstGeom prst="curvedConnector5">
            <a:avLst>
              <a:gd name="adj1" fmla="val 57085"/>
              <a:gd name="adj2" fmla="val 49994"/>
              <a:gd name="adj3" fmla="val 57085"/>
            </a:avLst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219320" y="914400"/>
            <a:ext cx="670536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ОБЩЕНИЯ В СОВРЕМЕННОМ МИ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365760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505320" y="36576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886200" y="23623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ов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538440" y="3352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осредова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276720" y="43434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276720" y="4724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3200400" y="5105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296520" y="39909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иворечие меж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2971800" y="4419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ой, средствам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048120" y="48006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м, глуби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3809880" y="54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963240" y="51814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2819520" y="5867280"/>
            <a:ext cx="3657600" cy="76212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зиоб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2"/>
          <p:cNvSpPr/>
          <p:nvPr/>
        </p:nvSpPr>
        <p:spPr>
          <a:xfrm flipH="1">
            <a:off x="6476760" y="1523880"/>
            <a:ext cx="1447560" cy="46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3"/>
          <p:cNvSpPr/>
          <p:nvPr/>
        </p:nvSpPr>
        <p:spPr>
          <a:xfrm>
            <a:off x="1219320" y="1523880"/>
            <a:ext cx="1600200" cy="472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4"/>
          <p:cNvSpPr/>
          <p:nvPr/>
        </p:nvSpPr>
        <p:spPr>
          <a:xfrm>
            <a:off x="1219320" y="1523880"/>
            <a:ext cx="190476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1219320" y="1523880"/>
            <a:ext cx="2286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219320" y="1523880"/>
            <a:ext cx="2514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7"/>
          <p:cNvSpPr/>
          <p:nvPr/>
        </p:nvSpPr>
        <p:spPr>
          <a:xfrm flipH="1">
            <a:off x="5943240" y="1523880"/>
            <a:ext cx="1981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8"/>
          <p:cNvSpPr/>
          <p:nvPr/>
        </p:nvSpPr>
        <p:spPr>
          <a:xfrm flipH="1">
            <a:off x="5638680" y="1523880"/>
            <a:ext cx="2286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9"/>
          <p:cNvSpPr/>
          <p:nvPr/>
        </p:nvSpPr>
        <p:spPr>
          <a:xfrm flipH="1">
            <a:off x="5257800" y="1523880"/>
            <a:ext cx="2666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3"/>
          <p:cNvSpPr/>
          <p:nvPr/>
        </p:nvSpPr>
        <p:spPr>
          <a:xfrm>
            <a:off x="3276720" y="2819520"/>
            <a:ext cx="2514600" cy="2666880"/>
          </a:xfrm>
          <a:prstGeom prst="triangle">
            <a:avLst>
              <a:gd name="adj" fmla="val 5113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1066680" y="60958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807732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"/>
          <p:cNvSpPr/>
          <p:nvPr/>
        </p:nvSpPr>
        <p:spPr>
          <a:xfrm flipV="1">
            <a:off x="10666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1066320" y="762120"/>
            <a:ext cx="342900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4495680" y="762120"/>
            <a:ext cx="358164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477240" y="233856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туаль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1108440" y="561492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нипулятивное 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5133240" y="558324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уманистическое 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>
            <a:off x="2209680" y="49528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52578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8"/>
          <p:cNvSpPr/>
          <p:nvPr/>
        </p:nvSpPr>
        <p:spPr>
          <a:xfrm flipV="1">
            <a:off x="4572000" y="266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276720" y="22860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секающе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257800" y="99072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6172200" y="205740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71600" y="99072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80880" y="1981080"/>
            <a:ext cx="2514600" cy="38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пе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276720" y="1981080"/>
            <a:ext cx="2514600" cy="12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327672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123360" y="2085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44956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476880" y="271944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4434120" y="27194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3276720" y="464832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1219320" y="51814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1219320" y="51814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3657600" y="5334120"/>
            <a:ext cx="1600200" cy="3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2209680" y="60958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те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6172200" y="525780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24"/>
          <p:cNvSpPr/>
          <p:nvPr/>
        </p:nvSpPr>
        <p:spPr>
          <a:xfrm>
            <a:off x="2895480" y="2590920"/>
            <a:ext cx="38124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>
            <a:off x="3200400" y="4648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6"/>
          <p:cNvSpPr/>
          <p:nvPr/>
        </p:nvSpPr>
        <p:spPr>
          <a:xfrm flipV="1">
            <a:off x="3200400" y="2590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27"/>
          <p:cNvSpPr/>
          <p:nvPr/>
        </p:nvSpPr>
        <p:spPr>
          <a:xfrm flipH="1">
            <a:off x="5791320" y="259092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H="1">
            <a:off x="5790960" y="46483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 flipH="1" flipV="1">
            <a:off x="5790960" y="25905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1980720" y="502920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2971440" y="502920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44197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5486400" y="502920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5486400" y="502920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579132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289512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8"/>
          <p:cNvSpPr/>
          <p:nvPr/>
        </p:nvSpPr>
        <p:spPr>
          <a:xfrm flipV="1">
            <a:off x="5334120" y="13712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0"/>
          <p:cNvSpPr/>
          <p:nvPr/>
        </p:nvSpPr>
        <p:spPr>
          <a:xfrm flipH="1" flipV="1">
            <a:off x="2895480" y="13712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41"/>
          <p:cNvSpPr/>
          <p:nvPr/>
        </p:nvSpPr>
        <p:spPr>
          <a:xfrm flipV="1">
            <a:off x="4495680" y="609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2"/>
          <p:cNvSpPr/>
          <p:nvPr/>
        </p:nvSpPr>
        <p:spPr>
          <a:xfrm rot="19518600">
            <a:off x="2973240" y="350496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рбаль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ечево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3"/>
          <p:cNvSpPr/>
          <p:nvPr/>
        </p:nvSpPr>
        <p:spPr>
          <a:xfrm rot="19500000">
            <a:off x="4953960" y="3504600"/>
            <a:ext cx="121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вербаль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еречево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226080" y="760320"/>
            <a:ext cx="6916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йте характеристику понятия «взаимодействие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уровни взаимодействия  и раскройте его ти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определяется процесс общ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функции и виды общ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отличаются вербальные средства общения от невербаль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а психологическая структура общ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уровни отношения выделяются и в чем их отличие друг от друг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чего зависит удовлетворенность общение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чем связаны особенности общения в современном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кройте содержание различных стилей общ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-211680" y="4280040"/>
            <a:ext cx="97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зменения, с вашей точки зрения, произошли в общении студентов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ек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они могут дальше поменяться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    Какие критерии удовлетворенности общением вы могли бы добавить к обозначенным в тем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WordArt 10"/>
          <p:cNvSpPr txBox="1"/>
          <p:nvPr/>
        </p:nvSpPr>
        <p:spPr>
          <a:xfrm>
            <a:off x="2286000" y="152280"/>
            <a:ext cx="42670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опросы для самоконтроля: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WordArt 11"/>
          <p:cNvSpPr txBox="1"/>
          <p:nvPr/>
        </p:nvSpPr>
        <p:spPr>
          <a:xfrm>
            <a:off x="2743200" y="3733920"/>
            <a:ext cx="35053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опросы для обсуждения: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609480"/>
            <a:ext cx="609840" cy="556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762120"/>
            <a:ext cx="455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800600" y="609480"/>
            <a:ext cx="2819520" cy="76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800600" y="2057400"/>
            <a:ext cx="2819520" cy="76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800600" y="5410080"/>
            <a:ext cx="2819520" cy="762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800600" y="3809880"/>
            <a:ext cx="281952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706640" y="647640"/>
            <a:ext cx="30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ание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966200" y="209556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ль взаимодейств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725720" y="386244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 стиля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808880" y="541512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терии понимания сти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я 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685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685800" y="6477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257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8"/>
          <p:cNvSpPr/>
          <p:nvPr/>
        </p:nvSpPr>
        <p:spPr>
          <a:xfrm flipV="1">
            <a:off x="525780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685800" y="304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685800" y="304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257800" y="304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16292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60958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09588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371600" y="685800"/>
            <a:ext cx="2133720" cy="53352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8"/>
          <p:cNvSpPr/>
          <p:nvPr/>
        </p:nvSpPr>
        <p:spPr>
          <a:xfrm>
            <a:off x="1371600" y="2133720"/>
            <a:ext cx="2133720" cy="53316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666880" y="228600"/>
            <a:ext cx="381024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е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666880" y="5638680"/>
            <a:ext cx="381024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е люд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>
            <a:off x="4572000" y="114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09480" y="16002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791320" y="16002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219320" y="2057400"/>
            <a:ext cx="1371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477120" y="2057400"/>
            <a:ext cx="1371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060560" y="16527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095880" y="167652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групп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26240" y="2033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745320" y="2033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609480" y="2438280"/>
            <a:ext cx="2743200" cy="1905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 ц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флекс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зна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762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7621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5791320" y="2438280"/>
            <a:ext cx="2743200" cy="1905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801400" y="2567160"/>
            <a:ext cx="195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и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и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зки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7848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78487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78487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609480" y="457200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609480" y="45720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1060560" y="46245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5791320" y="45720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5880" y="464832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групп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1"/>
          <p:cNvSpPr/>
          <p:nvPr/>
        </p:nvSpPr>
        <p:spPr>
          <a:xfrm flipH="1" flipV="1">
            <a:off x="1828800" y="5028840"/>
            <a:ext cx="2743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2"/>
          <p:cNvSpPr/>
          <p:nvPr/>
        </p:nvSpPr>
        <p:spPr>
          <a:xfrm flipH="1">
            <a:off x="1905120" y="114300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3"/>
          <p:cNvSpPr/>
          <p:nvPr/>
        </p:nvSpPr>
        <p:spPr>
          <a:xfrm>
            <a:off x="4572000" y="114300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4"/>
          <p:cNvSpPr/>
          <p:nvPr/>
        </p:nvSpPr>
        <p:spPr>
          <a:xfrm flipV="1">
            <a:off x="4572000" y="50288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2280" y="304920"/>
            <a:ext cx="685800" cy="6400800"/>
          </a:xfrm>
          <a:prstGeom prst="upArrow">
            <a:avLst>
              <a:gd name="adj1" fmla="val 50000"/>
              <a:gd name="adj2" fmla="val 233333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990720" y="380880"/>
            <a:ext cx="33526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ий уровень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90720" y="2590920"/>
            <a:ext cx="33526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ий уровень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90720" y="4724280"/>
            <a:ext cx="33526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ьный (низк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867280" y="228600"/>
            <a:ext cx="243864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ное взаимопоним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867280" y="762120"/>
            <a:ext cx="243864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е со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867280" y="1447920"/>
            <a:ext cx="243864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ое влия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ей друг на дру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867280" y="2209680"/>
            <a:ext cx="243864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ая совмест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867280" y="2971800"/>
            <a:ext cx="243864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участие и конгруэ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тне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заимодейств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867280" y="3962520"/>
            <a:ext cx="243864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или неприня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ьми друг дру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867280" y="4952880"/>
            <a:ext cx="2438640" cy="38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867280" y="5638680"/>
            <a:ext cx="2438640" cy="38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ичные контак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5562720" y="380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55627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55627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55627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55627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55627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H="1">
            <a:off x="5562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2"/>
          <p:cNvSpPr/>
          <p:nvPr/>
        </p:nvSpPr>
        <p:spPr>
          <a:xfrm flipH="1">
            <a:off x="5562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 flipH="1">
            <a:off x="5562720" y="914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434340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434340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6"/>
          <p:cNvSpPr/>
          <p:nvPr/>
        </p:nvSpPr>
        <p:spPr>
          <a:xfrm>
            <a:off x="4343400" y="914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304920" y="67057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2438280" y="63244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инамика   социального   взаимо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0"/>
          <p:cNvSpPr/>
          <p:nvPr/>
        </p:nvSpPr>
        <p:spPr>
          <a:xfrm flipV="1">
            <a:off x="25146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1"/>
          <p:cNvSpPr/>
          <p:nvPr/>
        </p:nvSpPr>
        <p:spPr>
          <a:xfrm flipV="1">
            <a:off x="251460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/>
          <p:cNvSpPr/>
          <p:nvPr/>
        </p:nvSpPr>
        <p:spPr>
          <a:xfrm>
            <a:off x="3276720" y="2666880"/>
            <a:ext cx="2590560" cy="1524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85800" y="1828800"/>
            <a:ext cx="79246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езультатив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09480" y="4419720"/>
            <a:ext cx="7925040" cy="609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намерениям и действиям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2120" y="304920"/>
            <a:ext cx="220968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пе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095880" y="304920"/>
            <a:ext cx="221004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09480" y="5715000"/>
            <a:ext cx="221004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581280" y="5715000"/>
            <a:ext cx="221004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секающе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477120" y="5715000"/>
            <a:ext cx="2209680" cy="8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1752480" y="5029200"/>
            <a:ext cx="2895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6483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4419720" y="5029200"/>
            <a:ext cx="3047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 flipV="1">
            <a:off x="1828800" y="114264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V="1">
            <a:off x="4572000" y="114264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600200" y="2743200"/>
            <a:ext cx="380880" cy="1295280"/>
          </a:xfrm>
          <a:prstGeom prst="upDownArrow">
            <a:avLst>
              <a:gd name="adj1" fmla="val 50000"/>
              <a:gd name="adj2" fmla="val 67700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7086600" y="2743200"/>
            <a:ext cx="380880" cy="1295280"/>
          </a:xfrm>
          <a:prstGeom prst="upDownArrow">
            <a:avLst>
              <a:gd name="adj1" fmla="val 50000"/>
              <a:gd name="adj2" fmla="val 67700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05120" y="6858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НЯТИЕ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905120" y="34290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достижения измен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сихике участвующих в общении 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905120" y="1523880"/>
            <a:ext cx="533376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взаимодействия 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905120" y="25146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воздействия на 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905120" y="4495680"/>
            <a:ext cx="533376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обмена не только физическими действиям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и мысл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905120" y="54864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ЩНОСТЬ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1371600" y="914400"/>
            <a:ext cx="533520" cy="4952880"/>
          </a:xfrm>
          <a:custGeom>
            <a:avLst/>
            <a:gdLst>
              <a:gd name="textAreaLeft" fmla="*/ 156600 w 533520"/>
              <a:gd name="textAreaRight" fmla="*/ 533880 w 533520"/>
              <a:gd name="textAreaTop" fmla="*/ 206280 h 4952880"/>
              <a:gd name="textAreaBottom" fmla="*/ 47466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7238880" y="990720"/>
            <a:ext cx="457200" cy="4876560"/>
          </a:xfrm>
          <a:custGeom>
            <a:avLst/>
            <a:gdLst>
              <a:gd name="textAreaLeft" fmla="*/ 0 w 457200"/>
              <a:gd name="textAreaRight" fmla="*/ 320760 w 457200"/>
              <a:gd name="textAreaTop" fmla="*/ 203040 h 4876560"/>
              <a:gd name="textAreaBottom" fmla="*/ 467352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124080" y="2743200"/>
            <a:ext cx="2971800" cy="106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УНКЦИЯ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705720" y="2971800"/>
            <a:ext cx="213336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твер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09480" y="29718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лачива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219320" y="4343400"/>
            <a:ext cx="213336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гмат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867280" y="43434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581280" y="563868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я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143000" y="11430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ерминир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943600" y="11430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триличност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581280" y="38088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457200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4"/>
          <p:cNvSpPr/>
          <p:nvPr/>
        </p:nvSpPr>
        <p:spPr>
          <a:xfrm flipH="1">
            <a:off x="27432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60958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457200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H="1">
            <a:off x="2209320" y="38098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5257800" y="380988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 flipV="1">
            <a:off x="5257800" y="1676160"/>
            <a:ext cx="1752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3"/>
          <p:cNvSpPr/>
          <p:nvPr/>
        </p:nvSpPr>
        <p:spPr>
          <a:xfrm flipH="1" flipV="1">
            <a:off x="2133720" y="167616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28600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Ы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2952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б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85800" y="17524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верб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638680" y="12952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638680" y="17524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85800" y="25909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85800" y="30481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с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85800" y="38862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персон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85800" y="43434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е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85800" y="52578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вер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85800" y="57150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5638680" y="25909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5638680" y="30481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осредова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5638680" y="39625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ч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5638680" y="44197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аконч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638680" y="52578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тковремен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5638680" y="57150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0"/>
          <p:cNvSpPr/>
          <p:nvPr/>
        </p:nvSpPr>
        <p:spPr>
          <a:xfrm flipH="1">
            <a:off x="205704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1"/>
          <p:cNvSpPr/>
          <p:nvPr/>
        </p:nvSpPr>
        <p:spPr>
          <a:xfrm>
            <a:off x="457200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20574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20574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20574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5"/>
          <p:cNvSpPr/>
          <p:nvPr/>
        </p:nvSpPr>
        <p:spPr>
          <a:xfrm>
            <a:off x="70866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6"/>
          <p:cNvSpPr/>
          <p:nvPr/>
        </p:nvSpPr>
        <p:spPr>
          <a:xfrm>
            <a:off x="7086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342900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8600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РЕДСТВА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85800" y="129528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че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ербальны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5800" y="236232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чи 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5800" y="342900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йства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85800" y="4572000"/>
            <a:ext cx="27432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9"/>
          <p:cNvSpPr/>
          <p:nvPr/>
        </p:nvSpPr>
        <p:spPr>
          <a:xfrm flipH="1">
            <a:off x="205704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57200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0574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20574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>
            <a:off x="20574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685800" y="5638680"/>
            <a:ext cx="27432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9"/>
          <p:cNvSpPr/>
          <p:nvPr/>
        </p:nvSpPr>
        <p:spPr>
          <a:xfrm>
            <a:off x="20574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9"/>
          <p:cNvSpPr/>
          <p:nvPr/>
        </p:nvSpPr>
        <p:spPr>
          <a:xfrm>
            <a:off x="5715000" y="129528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че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евербальны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0"/>
          <p:cNvSpPr/>
          <p:nvPr/>
        </p:nvSpPr>
        <p:spPr>
          <a:xfrm>
            <a:off x="5715000" y="236232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у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5715000" y="342900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ус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2"/>
          <p:cNvSpPr/>
          <p:nvPr/>
        </p:nvSpPr>
        <p:spPr>
          <a:xfrm>
            <a:off x="5715000" y="4572000"/>
            <a:ext cx="27432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ти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нестез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3"/>
          <p:cNvSpPr/>
          <p:nvPr/>
        </p:nvSpPr>
        <p:spPr>
          <a:xfrm>
            <a:off x="70866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4"/>
          <p:cNvSpPr/>
          <p:nvPr/>
        </p:nvSpPr>
        <p:spPr>
          <a:xfrm>
            <a:off x="70866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5"/>
          <p:cNvSpPr/>
          <p:nvPr/>
        </p:nvSpPr>
        <p:spPr>
          <a:xfrm>
            <a:off x="70866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6"/>
          <p:cNvSpPr/>
          <p:nvPr/>
        </p:nvSpPr>
        <p:spPr>
          <a:xfrm>
            <a:off x="5715000" y="5638680"/>
            <a:ext cx="27432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ьфактор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7"/>
          <p:cNvSpPr/>
          <p:nvPr/>
        </p:nvSpPr>
        <p:spPr>
          <a:xfrm>
            <a:off x="70866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8"/>
          <p:cNvSpPr/>
          <p:nvPr/>
        </p:nvSpPr>
        <p:spPr>
          <a:xfrm>
            <a:off x="1299240" y="19810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ис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9"/>
          <p:cNvSpPr/>
          <p:nvPr/>
        </p:nvSpPr>
        <p:spPr>
          <a:xfrm>
            <a:off x="6783840" y="198108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3:50Z</dcterms:modified>
  <cp:revision>10</cp:revision>
  <dc:subject/>
  <dc:title>PowerPoint Presentation</dc:title>
</cp:coreProperties>
</file>