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D26-7AED-470F-B30C-AF53C682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980-CD62-41B9-921B-DC78FB83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E9D-C282-40B3-AC66-61CF313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356-EED7-4CEA-8341-56746321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230-3E1A-4CC0-A01D-0A3B499E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D2F-9777-4379-97A9-7987298F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0B3-A2FA-437B-9FE1-8C8B08F6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7DB-49DE-444C-893E-D44711E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238-C6CA-4EF3-8392-AC0B913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E5D-9E86-4A27-A5A6-BB488CC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476-8219-4AF4-85CB-6E0C3BB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B69-E990-4940-B56B-7443162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6A2-0D8E-49AA-93EE-C0D03A7A8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Times New Roman"/>
              </a:rPr>
              <a:t>Тема 2.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сихология социализации ли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45680" y="1295280"/>
            <a:ext cx="822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 результате изучения темы вы будете разбираться в вопроса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сихологии социализации личности, ее роли в становление человек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09480" y="2057400"/>
            <a:ext cx="8001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 теме будут рассмотрены вопрос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онятие «Социализация»,особенности современной социализации и стади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развития личности в процессе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Факторы, механизмы и институты социализа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енная позиция личности, как интегральный критерий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609480" y="152280"/>
            <a:ext cx="7925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     Социальная   психология   личности.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9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425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066680" y="457200"/>
            <a:ext cx="273708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2133720"/>
            <a:ext cx="2519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692360" y="1341360"/>
            <a:ext cx="25207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692360" y="2925720"/>
            <a:ext cx="2448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692360" y="3646440"/>
            <a:ext cx="2303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692360" y="4367160"/>
            <a:ext cx="2376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979640" y="5950080"/>
            <a:ext cx="54738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Конформнос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914400"/>
            <a:ext cx="43488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835280" y="4941720"/>
            <a:ext cx="619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ьной оцен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H="1">
            <a:off x="539640" y="6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533160" y="692280"/>
            <a:ext cx="61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5"/>
          <p:cNvSpPr/>
          <p:nvPr/>
        </p:nvSpPr>
        <p:spPr>
          <a:xfrm flipV="1">
            <a:off x="684360" y="2349000"/>
            <a:ext cx="10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55640" y="3645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7"/>
          <p:cNvSpPr/>
          <p:nvPr/>
        </p:nvSpPr>
        <p:spPr>
          <a:xfrm flipV="1">
            <a:off x="755640" y="321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755640" y="1773000"/>
            <a:ext cx="863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755640" y="3645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75564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755640" y="522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981080" y="609480"/>
            <a:ext cx="51832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Институты социализаци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987640" y="2060640"/>
            <a:ext cx="32400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емь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03640" y="3500280"/>
            <a:ext cx="2736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школ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916360" y="5013360"/>
            <a:ext cx="360036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Профессиональна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групп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4427640" y="141300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4427640" y="285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4356000" y="429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979640" y="134136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3"/>
          <p:cNvSpPr/>
          <p:nvPr/>
        </p:nvSpPr>
        <p:spPr>
          <a:xfrm flipH="1">
            <a:off x="6227640" y="134136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2050920" y="1413000"/>
            <a:ext cx="115272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 flipH="1">
            <a:off x="5866920" y="1341360"/>
            <a:ext cx="1297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 flipH="1">
            <a:off x="6516360" y="1341360"/>
            <a:ext cx="647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1979640" y="1341360"/>
            <a:ext cx="93672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Times New Roman"/>
              </a:rPr>
              <a:t>Интегральный критерий соци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332000" y="1125360"/>
            <a:ext cx="662472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зненная позиция лич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17600" y="2254320"/>
            <a:ext cx="46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ктивная жизненная пози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пози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371600" y="58672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ктивная жизненная позиция с нега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85800" y="3276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енная позиция среднего и гармонического уровня актив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374920" y="3981600"/>
            <a:ext cx="46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ассивная жизненная пози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пози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32720" y="50626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ассивная жизненная позиция с нега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539640" y="141300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8675640" y="1341360"/>
            <a:ext cx="11160" cy="475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539640" y="6093000"/>
            <a:ext cx="16700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539640" y="5229360"/>
            <a:ext cx="698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539640" y="4221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53352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53964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76960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 flipH="1">
            <a:off x="8457840" y="5334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 flipH="1">
            <a:off x="6659640" y="4149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80006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 flipH="1">
            <a:off x="6732360" y="24922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795636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539640" y="141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5"/>
          <p:cNvSpPr/>
          <p:nvPr/>
        </p:nvSpPr>
        <p:spPr>
          <a:xfrm rot="16200000">
            <a:off x="-742320" y="3450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уров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362320" y="2819520"/>
            <a:ext cx="2354040" cy="465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443640" y="3500280"/>
            <a:ext cx="1873440" cy="1008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Субъек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общественно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жиз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443640" y="1916280"/>
            <a:ext cx="1728720" cy="115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Объек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общественног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воздейств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6691680" y="29973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003640" y="27082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Times New Roman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86728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586728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586728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526040" y="112392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своение социально-культурного опы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966760" y="470052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частие в жизни обще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7380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608472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"/>
          <p:cNvSpPr/>
          <p:nvPr/>
        </p:nvSpPr>
        <p:spPr>
          <a:xfrm flipH="1">
            <a:off x="914040" y="4952880"/>
            <a:ext cx="215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9"/>
          <p:cNvSpPr/>
          <p:nvPr/>
        </p:nvSpPr>
        <p:spPr>
          <a:xfrm flipV="1">
            <a:off x="9000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20"/>
          <p:cNvSpPr/>
          <p:nvPr/>
        </p:nvSpPr>
        <p:spPr>
          <a:xfrm>
            <a:off x="304920" y="2590920"/>
            <a:ext cx="1460520" cy="98244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бщ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5"/>
          <p:cNvSpPr/>
          <p:nvPr/>
        </p:nvSpPr>
        <p:spPr>
          <a:xfrm flipH="1" flipV="1">
            <a:off x="1752480" y="3047760"/>
            <a:ext cx="658800" cy="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6"/>
          <p:cNvSpPr/>
          <p:nvPr/>
        </p:nvSpPr>
        <p:spPr>
          <a:xfrm flipH="1" flipV="1">
            <a:off x="4723920" y="3047760"/>
            <a:ext cx="1143000" cy="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0" y="228600"/>
            <a:ext cx="3657600" cy="824040"/>
          </a:xfrm>
          <a:prstGeom prst="cloudCallout">
            <a:avLst>
              <a:gd name="adj1" fmla="val 29643"/>
              <a:gd name="adj2" fmla="val 24672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ега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5029200" y="228600"/>
            <a:ext cx="3503520" cy="824040"/>
          </a:xfrm>
          <a:prstGeom prst="cloudCallout">
            <a:avLst>
              <a:gd name="adj1" fmla="val -72699"/>
              <a:gd name="adj2" fmla="val 24518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акр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228600" y="5257800"/>
            <a:ext cx="3352680" cy="907920"/>
          </a:xfrm>
          <a:prstGeom prst="cloudCallout">
            <a:avLst>
              <a:gd name="adj1" fmla="val 36124"/>
              <a:gd name="adj2" fmla="val -25349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ез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1"/>
          <p:cNvSpPr/>
          <p:nvPr/>
        </p:nvSpPr>
        <p:spPr>
          <a:xfrm>
            <a:off x="5105520" y="5257800"/>
            <a:ext cx="3657600" cy="1050840"/>
          </a:xfrm>
          <a:prstGeom prst="cloudCallout">
            <a:avLst>
              <a:gd name="adj1" fmla="val -77648"/>
              <a:gd name="adj2" fmla="val -221601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икр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990720" y="1371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33"/>
          <p:cNvSpPr/>
          <p:nvPr/>
        </p:nvSpPr>
        <p:spPr>
          <a:xfrm>
            <a:off x="990720" y="1371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4"/>
          <p:cNvSpPr/>
          <p:nvPr/>
        </p:nvSpPr>
        <p:spPr>
          <a:xfrm flipH="1">
            <a:off x="71629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5"/>
          <p:cNvSpPr/>
          <p:nvPr/>
        </p:nvSpPr>
        <p:spPr>
          <a:xfrm>
            <a:off x="7620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ово содержание понятия «социализация»? Дайте несколько определений социализации, исходя из понимания ее сущ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характеризуйте источники социализации индиви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ово содержание понятия интериоризац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ие факторы социализации выделяю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значит механизмы социализации, какие они бываю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представляют собой институты социализа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Раскройте понятие жизненная позиция, как интегрального критерия соци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характеризуйте активную жизненную позицию по ее ви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в большей степени предопределяет усвоение и воспроизводство социального опыта человека: стихийное или целенаправленное влияние соци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одумайте, какие новые особенности социализации человека могут появиться в 21 веке, исходя из тенденций развития: общественной жизни, науки, производства, полити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535120" y="281160"/>
            <a:ext cx="49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059560" y="54936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Усвоение социально-культурного опы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25080" y="5468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ff"/>
                </a:solidFill>
                <a:latin typeface="Times New Roman"/>
              </a:rPr>
              <a:t>Усвоение социально-культурного опыт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09480" y="2819520"/>
            <a:ext cx="1584360" cy="72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бщ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9"/>
          <p:cNvSpPr/>
          <p:nvPr/>
        </p:nvSpPr>
        <p:spPr>
          <a:xfrm>
            <a:off x="7164360" y="2781360"/>
            <a:ext cx="1584360" cy="792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124080" y="2819520"/>
            <a:ext cx="3200400" cy="609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4319640" y="1219320"/>
            <a:ext cx="503280" cy="1368360"/>
          </a:xfrm>
          <a:prstGeom prst="up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2"/>
          <p:cNvSpPr/>
          <p:nvPr/>
        </p:nvSpPr>
        <p:spPr>
          <a:xfrm rot="10800000">
            <a:off x="4319640" y="4038480"/>
            <a:ext cx="503280" cy="1368720"/>
          </a:xfrm>
          <a:prstGeom prst="upArrow">
            <a:avLst>
              <a:gd name="adj1" fmla="val 50000"/>
              <a:gd name="adj2" fmla="val 67990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2209680" y="2971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 rot="10800000">
            <a:off x="6324480" y="2997000"/>
            <a:ext cx="790560" cy="431640"/>
          </a:xfrm>
          <a:prstGeom prst="leftArrow">
            <a:avLst>
              <a:gd name="adj1" fmla="val 50000"/>
              <a:gd name="adj2" fmla="val 45788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8101080" y="378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8101080" y="83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 flipH="1">
            <a:off x="7667640" y="836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7620120" y="571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371600" y="838080"/>
            <a:ext cx="3168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403280" y="350028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1403280" y="83808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140328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 rot="5400000">
            <a:off x="7186320" y="162576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хий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 rot="5400000">
            <a:off x="6951600" y="45529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целенаправлен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5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6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2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725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625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125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625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125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625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5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625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125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625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125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625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125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25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225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732720" y="1268280"/>
            <a:ext cx="216036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ъек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ственног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оздейств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732720" y="4797360"/>
            <a:ext cx="216036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убъек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ственно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026480" y="3449520"/>
            <a:ext cx="1948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ЧЕЛОВЕ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 flipV="1">
            <a:off x="781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7812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6084360" y="1905120"/>
            <a:ext cx="11160" cy="36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08472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6084720" y="5516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476360" y="3213000"/>
            <a:ext cx="316692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762120" y="762120"/>
            <a:ext cx="1733400" cy="144756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заимно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лия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люде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3924360" y="836640"/>
            <a:ext cx="1368360" cy="129528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едм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уль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900000" y="4581360"/>
            <a:ext cx="1440000" cy="122256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ервич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пы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3733920" y="4508640"/>
            <a:ext cx="1904760" cy="1295280"/>
          </a:xfrm>
          <a:prstGeom prst="flowChartPunchedTap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оцесс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аморе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1187280" y="393336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H="1">
            <a:off x="3564000" y="2133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 flipH="1" flipV="1">
            <a:off x="3780000" y="3860640"/>
            <a:ext cx="86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1905120" y="198108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4643280" y="342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25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275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775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75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75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75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75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575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475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975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475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075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575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225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04920" y="380880"/>
            <a:ext cx="837072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2120" y="838080"/>
            <a:ext cx="2160360" cy="432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воспит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52680" y="838080"/>
            <a:ext cx="2160720" cy="432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буч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943600" y="838080"/>
            <a:ext cx="2160720" cy="64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развит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лич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6765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4197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708660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46640" y="4460760"/>
            <a:ext cx="78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Усвоение социальных норм, умений, стереотипов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Формирование социальных установок, убежде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хождение индивида в социальную сре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иобщение индивида к системе социальных связе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Усвоение индивидом социальных влия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оциальное обучение принятия в обществе формам поведения 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н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771640" y="2924280"/>
            <a:ext cx="3529080" cy="64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4356000" y="1341360"/>
            <a:ext cx="432000" cy="1440000"/>
          </a:xfrm>
          <a:prstGeom prst="upDownArrow">
            <a:avLst>
              <a:gd name="adj1" fmla="val 50000"/>
              <a:gd name="adj2" fmla="val 66358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20326200">
            <a:off x="2096640" y="1346040"/>
            <a:ext cx="432000" cy="1438560"/>
          </a:xfrm>
          <a:prstGeom prst="upDownArrow">
            <a:avLst>
              <a:gd name="adj1" fmla="val 50000"/>
              <a:gd name="adj2" fmla="val 66292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5"/>
          <p:cNvSpPr/>
          <p:nvPr/>
        </p:nvSpPr>
        <p:spPr>
          <a:xfrm rot="1672800">
            <a:off x="6732360" y="1557360"/>
            <a:ext cx="431640" cy="1511280"/>
          </a:xfrm>
          <a:prstGeom prst="upDownArrow">
            <a:avLst>
              <a:gd name="adj1" fmla="val 50000"/>
              <a:gd name="adj2" fmla="val 69701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284720" y="3645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187280" y="836640"/>
            <a:ext cx="6624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ОСОБЕННОСТИ СОЦИАЛИЗАЦИ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09480" y="3733920"/>
            <a:ext cx="2384640" cy="23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Длительно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ман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64000" y="3716280"/>
            <a:ext cx="2232000" cy="23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Образован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и професс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248520" y="3733920"/>
            <a:ext cx="2438280" cy="2361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Характеролог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чер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мбивалентно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427640" y="162864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403280" y="155736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7093080" y="170028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83528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47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59636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56000" y="692280"/>
            <a:ext cx="611964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тадии развития личности в процессе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14600" y="2209680"/>
            <a:ext cx="6191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даптации- вхождение в мир люде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627280" y="3429000"/>
            <a:ext cx="612144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Индивидуализации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особление индивида как индивидуаль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27280" y="5013360"/>
            <a:ext cx="612144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Интеграции - достижение балан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между человеком и обществом, т. е.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амореализация личности в обществ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572436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796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79600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 rot="10800000">
            <a:off x="380880" y="228600"/>
            <a:ext cx="648000" cy="640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Динамика пассивной и активной позиции индивид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187280" y="1052640"/>
            <a:ext cx="12970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111600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1116000" y="5373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4"/>
          <p:cNvSpPr/>
          <p:nvPr/>
        </p:nvSpPr>
        <p:spPr>
          <a:xfrm>
            <a:off x="2627280" y="404640"/>
            <a:ext cx="3816360" cy="863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Факто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лич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0" y="24382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Тип посел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77080" y="1700280"/>
            <a:ext cx="1800360" cy="50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гиональ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усло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858000" y="1143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этно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029200" y="60958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ланет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08000" y="6093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осмо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635280" y="515772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га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410080" y="4572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ультур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835280" y="4292640"/>
            <a:ext cx="1800000" cy="7189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трана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государство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бществ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564000" y="3141720"/>
            <a:ext cx="180000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акр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90920" y="1523880"/>
            <a:ext cx="431640" cy="1944720"/>
          </a:xfrm>
          <a:prstGeom prst="rect">
            <a:avLst/>
          </a:prstGeom>
          <a:gradFill rotWithShape="0">
            <a:gsLst>
              <a:gs pos="0">
                <a:srgbClr val="c489ff"/>
              </a:gs>
              <a:gs pos="50000">
                <a:srgbClr val="ffffff"/>
              </a:gs>
              <a:gs pos="100000">
                <a:srgbClr val="c48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кр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228600" y="2666880"/>
            <a:ext cx="1728720" cy="576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Институты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воспита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28600" y="35812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лигиоз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рганизац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04920" y="1295280"/>
            <a:ext cx="180000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емь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50920" y="1989000"/>
            <a:ext cx="180000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икросоциу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877080" y="3213000"/>
            <a:ext cx="1800360" cy="72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ред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ассовой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оммуникац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5940360" y="1628640"/>
            <a:ext cx="432000" cy="2016360"/>
          </a:xfrm>
          <a:prstGeom prst="rect">
            <a:avLst/>
          </a:prstGeom>
          <a:gradFill rotWithShape="0">
            <a:gsLst>
              <a:gs pos="0">
                <a:srgbClr val="c489ff"/>
              </a:gs>
              <a:gs pos="50000">
                <a:srgbClr val="ffffff"/>
              </a:gs>
              <a:gs pos="100000">
                <a:srgbClr val="c48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з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916360" y="558972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427640" y="5589720"/>
            <a:ext cx="165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 flipH="1">
            <a:off x="2987640" y="357336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4427640" y="3573360"/>
            <a:ext cx="1728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4427640" y="3573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4427640" y="1268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197964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9"/>
          <p:cNvSpPr/>
          <p:nvPr/>
        </p:nvSpPr>
        <p:spPr>
          <a:xfrm flipV="1">
            <a:off x="2050920" y="3499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0"/>
          <p:cNvSpPr/>
          <p:nvPr/>
        </p:nvSpPr>
        <p:spPr>
          <a:xfrm>
            <a:off x="2050920" y="21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2050920" y="14130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3"/>
          <p:cNvSpPr/>
          <p:nvPr/>
        </p:nvSpPr>
        <p:spPr>
          <a:xfrm flipH="1">
            <a:off x="6443640" y="1125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4"/>
          <p:cNvSpPr/>
          <p:nvPr/>
        </p:nvSpPr>
        <p:spPr>
          <a:xfrm flipH="1" flipV="1">
            <a:off x="6443640" y="364500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5"/>
          <p:cNvSpPr/>
          <p:nvPr/>
        </p:nvSpPr>
        <p:spPr>
          <a:xfrm flipH="1">
            <a:off x="637236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6"/>
          <p:cNvSpPr/>
          <p:nvPr/>
        </p:nvSpPr>
        <p:spPr>
          <a:xfrm flipH="1">
            <a:off x="637236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042920" y="476280"/>
            <a:ext cx="2737080" cy="50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332000" y="2708280"/>
            <a:ext cx="25192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371600" y="1905120"/>
            <a:ext cx="25210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332000" y="3500280"/>
            <a:ext cx="244800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332000" y="4221000"/>
            <a:ext cx="23032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295280" y="4952880"/>
            <a:ext cx="237672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1219320"/>
            <a:ext cx="3240000" cy="11239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тоды вскармлива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ладенцев 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уход за ним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191120" y="3962520"/>
            <a:ext cx="3465360" cy="194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овательное приобщен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человека к многочисленным вида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тношений в различных сфера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его жизни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общен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познан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деятельнос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427640" y="2492280"/>
            <a:ext cx="3313080" cy="1295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тоды психологическог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воздействия в семье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группах сверстников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рофессиональны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рганизация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1280" y="6165720"/>
            <a:ext cx="547380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Особенности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80880" y="762120"/>
            <a:ext cx="381240" cy="5833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8317080" y="1916280"/>
            <a:ext cx="431640" cy="3816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реда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3780000" y="69228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8459640" y="692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7885080" y="63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8532720" y="5734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1"/>
          <p:cNvSpPr/>
          <p:nvPr/>
        </p:nvSpPr>
        <p:spPr>
          <a:xfrm flipH="1">
            <a:off x="539640" y="6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539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755640" y="6381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4"/>
          <p:cNvSpPr/>
          <p:nvPr/>
        </p:nvSpPr>
        <p:spPr>
          <a:xfrm flipH="1">
            <a:off x="774036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H="1" flipV="1">
            <a:off x="7667640" y="1700280"/>
            <a:ext cx="649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 flipH="1">
            <a:off x="7740360" y="3213000"/>
            <a:ext cx="57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755640" y="2852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755640" y="3645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75564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0"/>
          <p:cNvSpPr/>
          <p:nvPr/>
        </p:nvSpPr>
        <p:spPr>
          <a:xfrm flipV="1">
            <a:off x="755640" y="213336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755640" y="364500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066680" y="457200"/>
            <a:ext cx="273708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692360" y="2133720"/>
            <a:ext cx="2519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692360" y="1341360"/>
            <a:ext cx="25207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92360" y="2925720"/>
            <a:ext cx="2448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92360" y="3646440"/>
            <a:ext cx="2303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692360" y="4367160"/>
            <a:ext cx="2376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979640" y="5950080"/>
            <a:ext cx="54738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Полоролевой идентифик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04920" y="609480"/>
            <a:ext cx="457200" cy="624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752480" y="4952880"/>
            <a:ext cx="61930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Единство подражания, имитации, идентифик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H="1">
            <a:off x="76212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H="1" flipV="1">
            <a:off x="533160" y="685800"/>
            <a:ext cx="61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 flipV="1">
            <a:off x="684360" y="2349000"/>
            <a:ext cx="10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755640" y="3645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755640" y="321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755640" y="1773000"/>
            <a:ext cx="863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755640" y="3645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75564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755640" y="522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37:15Z</dcterms:modified>
  <cp:revision>29</cp:revision>
  <dc:subject/>
  <dc:title>PowerPoint Presentation</dc:title>
</cp:coreProperties>
</file>