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497-0E96-47E7-8C35-865436AF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112-D962-48E6-8B55-44DB12D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9D3-1E1B-4A60-878C-0B492E11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031-1CED-40CC-AAFA-3E0CE0C7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A41-87E4-4746-B0A9-34AFED67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836-65D1-4803-A85A-CAD1F433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C00-75FA-4CEF-B6C2-D0352F98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69E-3982-4FBE-9E31-ACB367C1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A79-494B-4025-9F27-094071B0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E09-8A7C-47FC-9A3E-5460550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2CA-C5EE-44B7-AFC8-6E3AC83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D1F-1B5A-4579-A99B-AB7BC0C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2FDF-EBD2-4525-B031-2BAD8B594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6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теме будут  рассмотрены вопро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ность конфликта и его структу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конфликтов и причины их возникнов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намика конфлик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управления конфлик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ория поведения личности в конфлик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09480" y="380880"/>
            <a:ext cx="7896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eda1"/>
                </a:solidFill>
                <a:latin typeface="Arial"/>
              </a:rPr>
              <a:t>Раздел  3.   Социальная    психология малых    групп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eda1"/>
              </a:solidFill>
              <a:latin typeface="Arial"/>
              <a:ea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8600" y="1295280"/>
            <a:ext cx="830592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2eba"/>
                </a:solidFill>
                <a:uFillTx/>
                <a:latin typeface="Times New Roman"/>
              </a:rPr>
              <a:t>Тема</a:t>
            </a:r>
            <a:r>
              <a:rPr b="0" lang="ru-RU" sz="4400" spc="-1" strike="noStrike" u="sng">
                <a:solidFill>
                  <a:srgbClr val="2e2eba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2e2eba"/>
                </a:solidFill>
                <a:uFillTx/>
                <a:latin typeface="Times New Roman"/>
              </a:rPr>
              <a:t>3.4</a:t>
            </a:r>
            <a:r>
              <a:rPr b="0" lang="ru-RU" sz="2800" spc="-1" strike="noStrike" u="sng">
                <a:solidFill>
                  <a:srgbClr val="2e2eba"/>
                </a:solidFill>
                <a:uFillTx/>
                <a:latin typeface="Times New Roman"/>
              </a:rPr>
              <a:t> Общая теория конфлик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е о конфликте как о социальном феномене происходящем в жизни люд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0880" y="4952880"/>
            <a:ext cx="7239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666880" y="457200"/>
            <a:ext cx="3657600" cy="42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вершение конфлик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295280"/>
            <a:ext cx="2895840" cy="58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о конфликтующими сторон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791320" y="1295280"/>
            <a:ext cx="2438280" cy="82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редством вмешательства третьих ли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09680"/>
            <a:ext cx="1981080" cy="5806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тухание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2895480"/>
            <a:ext cx="1981080" cy="5806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еря мотива в борь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04920" y="3581280"/>
            <a:ext cx="1981080" cy="5806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ориентация моти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04920" y="4267080"/>
            <a:ext cx="1981080" cy="5806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тощение ресурсов, с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200400" y="2209680"/>
            <a:ext cx="1447920" cy="580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ешение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43200" y="3200400"/>
            <a:ext cx="1066680" cy="3373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191120" y="3200400"/>
            <a:ext cx="1066680" cy="33732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пол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257800" y="2514600"/>
            <a:ext cx="1676520" cy="580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егулирование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162920" y="2514600"/>
            <a:ext cx="1295280" cy="58068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ранение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191120" y="3962520"/>
            <a:ext cx="1600200" cy="33732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трудниче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4191120" y="4419720"/>
            <a:ext cx="1600200" cy="33732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191120" y="4876920"/>
            <a:ext cx="1600200" cy="58068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упки одной из стор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6248520" y="3581280"/>
            <a:ext cx="2286000" cy="10674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вод одного или обоих оппонентов на другое место работы (увольнени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248520" y="4800600"/>
            <a:ext cx="2286000" cy="58068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ъятие объекта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6248520" y="5562720"/>
            <a:ext cx="2286000" cy="58068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ранение условий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2743200" y="5867280"/>
            <a:ext cx="2743200" cy="58068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растание в другой конфли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22"/>
          <p:cNvCxnSpPr/>
          <p:nvPr/>
        </p:nvCxnSpPr>
        <p:spPr>
          <a:xfrm>
            <a:off x="6324120" y="609480"/>
            <a:ext cx="686520" cy="619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23"/>
          <p:cNvCxnSpPr/>
          <p:nvPr/>
        </p:nvCxnSpPr>
        <p:spPr>
          <a:xfrm flipV="1" rot="10800000">
            <a:off x="1980360" y="608400"/>
            <a:ext cx="686520" cy="639000"/>
          </a:xfrm>
          <a:prstGeom prst="bentConnector3">
            <a:avLst>
              <a:gd name="adj1" fmla="val 1002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26"/>
          <p:cNvCxnSpPr>
            <a:endCxn id="233" idx="1"/>
          </p:cNvCxnSpPr>
          <p:nvPr/>
        </p:nvCxnSpPr>
        <p:spPr>
          <a:xfrm flipH="1" rot="16200000">
            <a:off x="460800" y="3881160"/>
            <a:ext cx="425844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27"/>
          <p:cNvCxnSpPr>
            <a:stCxn id="218" idx="0"/>
            <a:endCxn id="222" idx="0"/>
          </p:cNvCxnSpPr>
          <p:nvPr/>
        </p:nvCxnSpPr>
        <p:spPr>
          <a:xfrm flipH="1" rot="16200000">
            <a:off x="2608560" y="894960"/>
            <a:ext cx="2520" cy="2629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8" name="Line 28"/>
          <p:cNvSpPr/>
          <p:nvPr/>
        </p:nvSpPr>
        <p:spPr>
          <a:xfrm flipH="1">
            <a:off x="3352320" y="2819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4114800" y="2819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0"/>
          <p:cNvCxnSpPr>
            <a:stCxn id="222" idx="2"/>
            <a:endCxn id="229" idx="1"/>
          </p:cNvCxnSpPr>
          <p:nvPr/>
        </p:nvCxnSpPr>
        <p:spPr>
          <a:xfrm flipH="1" rot="16200000">
            <a:off x="2870640" y="3852720"/>
            <a:ext cx="23724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Line 31"/>
          <p:cNvSpPr/>
          <p:nvPr/>
        </p:nvSpPr>
        <p:spPr>
          <a:xfrm>
            <a:off x="39625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33"/>
          <p:cNvCxnSpPr>
            <a:endCxn id="229" idx="3"/>
          </p:cNvCxnSpPr>
          <p:nvPr/>
        </p:nvCxnSpPr>
        <p:spPr>
          <a:xfrm rot="5400000">
            <a:off x="4880880" y="4033440"/>
            <a:ext cx="204876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Line 34"/>
          <p:cNvSpPr/>
          <p:nvPr/>
        </p:nvSpPr>
        <p:spPr>
          <a:xfrm flipH="1">
            <a:off x="579096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H="1">
            <a:off x="579096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6"/>
          <p:cNvSpPr/>
          <p:nvPr/>
        </p:nvSpPr>
        <p:spPr>
          <a:xfrm>
            <a:off x="39625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37"/>
          <p:cNvCxnSpPr/>
          <p:nvPr/>
        </p:nvCxnSpPr>
        <p:spPr>
          <a:xfrm>
            <a:off x="8458200" y="2819520"/>
            <a:ext cx="2160" cy="30484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Line 38"/>
          <p:cNvSpPr/>
          <p:nvPr/>
        </p:nvSpPr>
        <p:spPr>
          <a:xfrm flipH="1">
            <a:off x="853416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39"/>
          <p:cNvSpPr/>
          <p:nvPr/>
        </p:nvSpPr>
        <p:spPr>
          <a:xfrm flipH="1">
            <a:off x="853416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40"/>
          <p:cNvCxnSpPr>
            <a:stCxn id="225" idx="0"/>
            <a:endCxn id="226" idx="0"/>
          </p:cNvCxnSpPr>
          <p:nvPr/>
        </p:nvCxnSpPr>
        <p:spPr>
          <a:xfrm flipH="1" rot="16200000">
            <a:off x="6952320" y="1657800"/>
            <a:ext cx="2160" cy="1715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AutoShape 44"/>
          <p:cNvCxnSpPr/>
          <p:nvPr/>
        </p:nvCxnSpPr>
        <p:spPr>
          <a:xfrm flipH="1">
            <a:off x="5486040" y="1828800"/>
            <a:ext cx="2743920" cy="4450320"/>
          </a:xfrm>
          <a:prstGeom prst="bentConnector3">
            <a:avLst>
              <a:gd name="adj1" fmla="val -243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676520" y="380880"/>
            <a:ext cx="5638680" cy="459720"/>
          </a:xfrm>
          <a:prstGeom prst="rect">
            <a:avLst/>
          </a:prstGeom>
          <a:gradFill rotWithShape="0">
            <a:gsLst>
              <a:gs pos="0">
                <a:srgbClr val="fff2bd"/>
              </a:gs>
              <a:gs pos="100000">
                <a:srgbClr val="82d4e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разре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3520" y="1219320"/>
            <a:ext cx="3504960" cy="162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министративн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оль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су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 на другую рабо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410080" y="1219320"/>
            <a:ext cx="2971800" cy="2037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с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б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ь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ъяс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666880" y="3505320"/>
            <a:ext cx="3810240" cy="39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2743200" y="4191120"/>
            <a:ext cx="3657600" cy="1935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е причин возникновения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граничение числа участ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полнительный анализ конфликта с помощью экспер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реш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44956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449568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30481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594360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22"/>
          <p:cNvCxnSpPr>
            <a:stCxn id="253" idx="2"/>
            <a:endCxn id="254" idx="3"/>
          </p:cNvCxnSpPr>
          <p:nvPr/>
        </p:nvCxnSpPr>
        <p:spPr>
          <a:xfrm rot="5400000">
            <a:off x="6455160" y="3267720"/>
            <a:ext cx="4626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23"/>
          <p:cNvCxnSpPr>
            <a:stCxn id="252" idx="2"/>
            <a:endCxn id="254" idx="1"/>
          </p:cNvCxnSpPr>
          <p:nvPr/>
        </p:nvCxnSpPr>
        <p:spPr>
          <a:xfrm flipH="1" rot="16200000">
            <a:off x="2039040" y="3080160"/>
            <a:ext cx="8755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Oval 2"/>
          <p:cNvSpPr/>
          <p:nvPr/>
        </p:nvSpPr>
        <p:spPr>
          <a:xfrm>
            <a:off x="1219320" y="609480"/>
            <a:ext cx="6248160" cy="5715000"/>
          </a:xfrm>
          <a:prstGeom prst="ellipse">
            <a:avLst/>
          </a:prstGeom>
          <a:gradFill rotWithShape="0">
            <a:gsLst>
              <a:gs pos="0">
                <a:srgbClr val="ffeda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3"/>
          <p:cNvSpPr/>
          <p:nvPr/>
        </p:nvSpPr>
        <p:spPr>
          <a:xfrm>
            <a:off x="2286000" y="2438280"/>
            <a:ext cx="4419720" cy="1447920"/>
          </a:xfrm>
          <a:prstGeom prst="ellipse">
            <a:avLst/>
          </a:prstGeom>
          <a:gradFill rotWithShape="0">
            <a:gsLst>
              <a:gs pos="0">
                <a:srgbClr val="e3f5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 повед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и в конфлик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WordArt 5"/>
          <p:cNvSpPr txBox="1"/>
          <p:nvPr/>
        </p:nvSpPr>
        <p:spPr>
          <a:xfrm>
            <a:off x="3200400" y="838080"/>
            <a:ext cx="22860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структивна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WordArt 6"/>
          <p:cNvSpPr txBox="1"/>
          <p:nvPr/>
        </p:nvSpPr>
        <p:spPr>
          <a:xfrm rot="1234800">
            <a:off x="1676520" y="44956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66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еструктивна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WordArt 7"/>
          <p:cNvSpPr txBox="1"/>
          <p:nvPr/>
        </p:nvSpPr>
        <p:spPr>
          <a:xfrm rot="20047800">
            <a:off x="4800600" y="4267080"/>
            <a:ext cx="235116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23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формистска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4114800" y="1371600"/>
            <a:ext cx="609480" cy="914400"/>
          </a:xfrm>
          <a:prstGeom prst="upArrow">
            <a:avLst>
              <a:gd name="adj1" fmla="val 50000"/>
              <a:gd name="adj2" fmla="val 37507"/>
            </a:avLst>
          </a:prstGeom>
          <a:gradFill rotWithShape="0">
            <a:gsLst>
              <a:gs pos="0">
                <a:srgbClr val="2e2eba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2819520" y="38098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cce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486400" y="38862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cce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914400" y="1447920"/>
            <a:ext cx="7010280" cy="1236960"/>
          </a:xfrm>
          <a:prstGeom prst="rect">
            <a:avLst/>
          </a:prstGeom>
          <a:gradFill rotWithShape="0">
            <a:gsLst>
              <a:gs pos="0">
                <a:srgbClr val="7fd8ed"/>
              </a:gs>
              <a:gs pos="100000">
                <a:srgbClr val="fff4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ратегии поведения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685800" y="3276720"/>
            <a:ext cx="2133720" cy="1143000"/>
          </a:xfrm>
          <a:prstGeom prst="flowChartAlternateProcess">
            <a:avLst/>
          </a:prstGeom>
          <a:gradFill rotWithShape="0">
            <a:gsLst>
              <a:gs pos="0">
                <a:srgbClr val="83deed"/>
              </a:gs>
              <a:gs pos="50000">
                <a:srgbClr val="fff2bd"/>
              </a:gs>
              <a:gs pos="100000">
                <a:srgbClr val="83de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у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6172200" y="3276720"/>
            <a:ext cx="2133720" cy="1143000"/>
          </a:xfrm>
          <a:prstGeom prst="flowChartAlternateProcess">
            <a:avLst/>
          </a:prstGeom>
          <a:gradFill rotWithShape="0">
            <a:gsLst>
              <a:gs pos="0">
                <a:srgbClr val="83deed"/>
              </a:gs>
              <a:gs pos="50000">
                <a:srgbClr val="fff2bd"/>
              </a:gs>
              <a:gs pos="100000">
                <a:srgbClr val="83de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уп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429000" y="3809880"/>
            <a:ext cx="2133720" cy="1143000"/>
          </a:xfrm>
          <a:prstGeom prst="flowChartAlternateProcess">
            <a:avLst/>
          </a:prstGeom>
          <a:gradFill rotWithShape="0">
            <a:gsLst>
              <a:gs pos="0">
                <a:srgbClr val="83deed"/>
              </a:gs>
              <a:gs pos="50000">
                <a:srgbClr val="fff2bd"/>
              </a:gs>
              <a:gs pos="100000">
                <a:srgbClr val="83de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6"/>
          <p:cNvSpPr/>
          <p:nvPr/>
        </p:nvSpPr>
        <p:spPr>
          <a:xfrm rot="2239800">
            <a:off x="1371240" y="251424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ccce6"/>
              </a:gs>
              <a:gs pos="100000">
                <a:srgbClr val="ddc9c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191120" y="251460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gradFill rotWithShape="0">
            <a:gsLst>
              <a:gs pos="0">
                <a:srgbClr val="4ccce6"/>
              </a:gs>
              <a:gs pos="100000">
                <a:srgbClr val="ddc9c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8"/>
          <p:cNvSpPr/>
          <p:nvPr/>
        </p:nvSpPr>
        <p:spPr>
          <a:xfrm rot="20058000">
            <a:off x="6858000" y="251460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ccce6"/>
              </a:gs>
              <a:gs pos="100000">
                <a:srgbClr val="ddc9c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62120" y="1523880"/>
            <a:ext cx="746748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4c5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и поведения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762120" y="3124080"/>
            <a:ext cx="28191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4c5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роми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5334120" y="3124080"/>
            <a:ext cx="28191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4c5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труднич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 rot="1957800">
            <a:off x="1676160" y="213336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8dc"/>
              </a:gs>
              <a:gs pos="50000">
                <a:srgbClr val="ffeda1"/>
              </a:gs>
              <a:gs pos="100000">
                <a:srgbClr val="0088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"/>
          <p:cNvSpPr/>
          <p:nvPr/>
        </p:nvSpPr>
        <p:spPr>
          <a:xfrm rot="19938600">
            <a:off x="6400440" y="213336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8dc"/>
              </a:gs>
              <a:gs pos="50000">
                <a:srgbClr val="ffeda1"/>
              </a:gs>
              <a:gs pos="100000">
                <a:srgbClr val="0088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2"/>
          <p:cNvSpPr/>
          <p:nvPr/>
        </p:nvSpPr>
        <p:spPr>
          <a:xfrm>
            <a:off x="2819520" y="2514600"/>
            <a:ext cx="3733560" cy="1371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ы конфликтных лич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457200" y="3048120"/>
            <a:ext cx="2057400" cy="53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правляем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1219320" y="1828800"/>
            <a:ext cx="1981080" cy="533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монстратив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3657600" y="5105520"/>
            <a:ext cx="2057400" cy="533160"/>
          </a:xfrm>
          <a:prstGeom prst="ellipse">
            <a:avLst/>
          </a:prstGeom>
          <a:gradFill rotWithShape="0">
            <a:gsLst>
              <a:gs pos="0">
                <a:srgbClr val="ffeda1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бесконфликтны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5943600" y="1828800"/>
            <a:ext cx="2057400" cy="533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гид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6781680" y="3124080"/>
            <a:ext cx="2057400" cy="5335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рхточ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25"/>
          <p:cNvSpPr/>
          <p:nvPr/>
        </p:nvSpPr>
        <p:spPr>
          <a:xfrm>
            <a:off x="5791320" y="3886200"/>
            <a:ext cx="1981080" cy="68580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26"/>
          <p:cNvSpPr/>
          <p:nvPr/>
        </p:nvSpPr>
        <p:spPr>
          <a:xfrm flipH="1">
            <a:off x="1447200" y="3733920"/>
            <a:ext cx="1904760" cy="838080"/>
          </a:xfrm>
          <a:custGeom>
            <a:avLst/>
            <a:gdLst>
              <a:gd name="textAreaLeft" fmla="*/ 333000 w 1904760"/>
              <a:gd name="textAreaRight" fmla="*/ 1380600 w 19047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35"/>
          <p:cNvSpPr/>
          <p:nvPr/>
        </p:nvSpPr>
        <p:spPr>
          <a:xfrm rot="5398800">
            <a:off x="4228560" y="4228920"/>
            <a:ext cx="914400" cy="533160"/>
          </a:xfrm>
          <a:prstGeom prst="pie">
            <a:avLst/>
          </a:prstGeom>
          <a:gradFill rotWithShape="0">
            <a:gsLst>
              <a:gs pos="0">
                <a:srgbClr val="ffeda1"/>
              </a:gs>
              <a:gs pos="100000">
                <a:srgbClr val="c7c7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45"/>
          <p:cNvSpPr/>
          <p:nvPr/>
        </p:nvSpPr>
        <p:spPr>
          <a:xfrm flipH="1" flipV="1" rot="3783000">
            <a:off x="5276880" y="208440"/>
            <a:ext cx="990720" cy="2248200"/>
          </a:xfrm>
          <a:custGeom>
            <a:avLst/>
            <a:gdLst>
              <a:gd name="textAreaLeft" fmla="*/ 132480 w 990720"/>
              <a:gd name="textAreaRight" fmla="*/ 858240 w 990720"/>
              <a:gd name="textAreaTop" fmla="*/ 393480 h 2248200"/>
              <a:gd name="textAreaBottom" fmla="*/ 1630080 h 224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eda1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8"/>
          <p:cNvSpPr/>
          <p:nvPr/>
        </p:nvSpPr>
        <p:spPr>
          <a:xfrm flipV="1" rot="17394600">
            <a:off x="2960280" y="335880"/>
            <a:ext cx="1295640" cy="19810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eda1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657600" y="533520"/>
            <a:ext cx="144792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нфлик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и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523880" y="533520"/>
            <a:ext cx="114300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торо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м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638680" y="533520"/>
            <a:ext cx="91440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отив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276720" y="2362320"/>
            <a:ext cx="20574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ы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505320" y="3124080"/>
            <a:ext cx="16002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52280" y="2438280"/>
            <a:ext cx="2514600" cy="82404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ическ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циально-полит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095880" y="2362320"/>
            <a:ext cx="2743200" cy="82404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о-демографическ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ндивидуально-психолог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90720" y="76320"/>
            <a:ext cx="167616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последств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5638680" y="76320"/>
            <a:ext cx="13716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предмет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429000" y="1447920"/>
            <a:ext cx="175248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дли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5638680" y="1447920"/>
            <a:ext cx="16002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бъект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990720" y="1447920"/>
            <a:ext cx="167616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фере проя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304920" y="3581280"/>
            <a:ext cx="861048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намика  конфликт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04920" y="3962520"/>
            <a:ext cx="167616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никновение и разви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2362320" y="4114800"/>
            <a:ext cx="129528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зн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4038480" y="3962520"/>
            <a:ext cx="182880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ало открытого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7696080" y="4114800"/>
            <a:ext cx="121932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6324480" y="4114800"/>
            <a:ext cx="99072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1295280" y="4724280"/>
            <a:ext cx="18288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альная фаз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114800" y="4724280"/>
            <a:ext cx="16002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за подъё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553080" y="4724280"/>
            <a:ext cx="53352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7543800" y="4724280"/>
            <a:ext cx="144792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за спа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1143000" y="5867280"/>
            <a:ext cx="701028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609480" y="5334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3733920" y="5257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6705720" y="5334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имул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15238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5943600" y="6400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0"/>
          <p:cNvSpPr/>
          <p:nvPr/>
        </p:nvSpPr>
        <p:spPr>
          <a:xfrm flipH="1" flipV="1">
            <a:off x="2743200" y="228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1"/>
          <p:cNvSpPr/>
          <p:nvPr/>
        </p:nvSpPr>
        <p:spPr>
          <a:xfrm flipV="1">
            <a:off x="5181480" y="3049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2"/>
          <p:cNvSpPr/>
          <p:nvPr/>
        </p:nvSpPr>
        <p:spPr>
          <a:xfrm flipH="1">
            <a:off x="5181480" y="838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3"/>
          <p:cNvSpPr/>
          <p:nvPr/>
        </p:nvSpPr>
        <p:spPr>
          <a:xfrm>
            <a:off x="2666880" y="838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4"/>
          <p:cNvSpPr/>
          <p:nvPr/>
        </p:nvSpPr>
        <p:spPr>
          <a:xfrm flipH="1">
            <a:off x="2743200" y="9907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5"/>
          <p:cNvSpPr/>
          <p:nvPr/>
        </p:nvSpPr>
        <p:spPr>
          <a:xfrm>
            <a:off x="5181480" y="1066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6"/>
          <p:cNvSpPr/>
          <p:nvPr/>
        </p:nvSpPr>
        <p:spPr>
          <a:xfrm>
            <a:off x="434340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37"/>
          <p:cNvCxnSpPr/>
          <p:nvPr/>
        </p:nvCxnSpPr>
        <p:spPr>
          <a:xfrm flipV="1" rot="16200000">
            <a:off x="3175920" y="1242360"/>
            <a:ext cx="1610280" cy="648360"/>
          </a:xfrm>
          <a:prstGeom prst="bentConnector4">
            <a:avLst>
              <a:gd name="adj1" fmla="val 16659"/>
              <a:gd name="adj2" fmla="val 164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39"/>
          <p:cNvCxnSpPr>
            <a:endCxn id="295" idx="3"/>
          </p:cNvCxnSpPr>
          <p:nvPr/>
        </p:nvCxnSpPr>
        <p:spPr>
          <a:xfrm flipH="1" flipV="1" rot="5400000">
            <a:off x="3995280" y="1252080"/>
            <a:ext cx="1534320" cy="686520"/>
          </a:xfrm>
          <a:prstGeom prst="bentConnector4">
            <a:avLst>
              <a:gd name="adj1" fmla="val 16756"/>
              <a:gd name="adj2" fmla="val 1467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40"/>
          <p:cNvCxnSpPr>
            <a:stCxn id="300" idx="3"/>
            <a:endCxn id="298" idx="1"/>
          </p:cNvCxnSpPr>
          <p:nvPr/>
        </p:nvCxnSpPr>
        <p:spPr>
          <a:xfrm flipV="1">
            <a:off x="2666880" y="2534400"/>
            <a:ext cx="610560" cy="321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3" name="AutoShape 41"/>
          <p:cNvCxnSpPr>
            <a:stCxn id="301" idx="1"/>
            <a:endCxn id="298" idx="3"/>
          </p:cNvCxnSpPr>
          <p:nvPr/>
        </p:nvCxnSpPr>
        <p:spPr>
          <a:xfrm rot="10800000">
            <a:off x="5333400" y="2534400"/>
            <a:ext cx="762480" cy="2448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4" name="AutoShape 42"/>
          <p:cNvCxnSpPr>
            <a:stCxn id="299" idx="0"/>
            <a:endCxn id="298" idx="2"/>
          </p:cNvCxnSpPr>
          <p:nvPr/>
        </p:nvCxnSpPr>
        <p:spPr>
          <a:xfrm flipV="1">
            <a:off x="4304880" y="270756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5" name="Line 43"/>
          <p:cNvSpPr/>
          <p:nvPr/>
        </p:nvSpPr>
        <p:spPr>
          <a:xfrm>
            <a:off x="20574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44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5"/>
          <p:cNvSpPr/>
          <p:nvPr/>
        </p:nvSpPr>
        <p:spPr>
          <a:xfrm>
            <a:off x="19810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46"/>
          <p:cNvSpPr/>
          <p:nvPr/>
        </p:nvSpPr>
        <p:spPr>
          <a:xfrm>
            <a:off x="36576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7"/>
          <p:cNvSpPr/>
          <p:nvPr/>
        </p:nvSpPr>
        <p:spPr>
          <a:xfrm>
            <a:off x="58672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8"/>
          <p:cNvSpPr/>
          <p:nvPr/>
        </p:nvSpPr>
        <p:spPr>
          <a:xfrm>
            <a:off x="73152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49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50"/>
          <p:cNvSpPr/>
          <p:nvPr/>
        </p:nvSpPr>
        <p:spPr>
          <a:xfrm>
            <a:off x="281952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1"/>
          <p:cNvSpPr/>
          <p:nvPr/>
        </p:nvSpPr>
        <p:spPr>
          <a:xfrm>
            <a:off x="48769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52"/>
          <p:cNvSpPr/>
          <p:nvPr/>
        </p:nvSpPr>
        <p:spPr>
          <a:xfrm>
            <a:off x="6781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53"/>
          <p:cNvSpPr/>
          <p:nvPr/>
        </p:nvSpPr>
        <p:spPr>
          <a:xfrm>
            <a:off x="82296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54"/>
          <p:cNvSpPr/>
          <p:nvPr/>
        </p:nvSpPr>
        <p:spPr>
          <a:xfrm flipV="1">
            <a:off x="1600200" y="56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5"/>
          <p:cNvSpPr/>
          <p:nvPr/>
        </p:nvSpPr>
        <p:spPr>
          <a:xfrm flipV="1">
            <a:off x="45720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56"/>
          <p:cNvSpPr/>
          <p:nvPr/>
        </p:nvSpPr>
        <p:spPr>
          <a:xfrm flipV="1">
            <a:off x="7543800" y="56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57"/>
          <p:cNvSpPr/>
          <p:nvPr/>
        </p:nvSpPr>
        <p:spPr>
          <a:xfrm>
            <a:off x="236232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58"/>
          <p:cNvSpPr/>
          <p:nvPr/>
        </p:nvSpPr>
        <p:spPr>
          <a:xfrm>
            <a:off x="662940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b8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2362320" y="2286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28600" y="685800"/>
            <a:ext cx="548640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айте определение конфлик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зовите и дайте определение основным структурным элементам конфлик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 каким причинам возникают конфликты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ведите классификацию конфликт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соотносятся фазы и этапы конфликт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значит управление конфликтом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ие виды деятельности субъекта управления включают в своё содержание процесс управления конфликтом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зовите основные формы завершения конфликта и охарактеризуйте и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зовите основные модели поведения в конфликтном взаимодейств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скройте основные стратегии поведения в конфликт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речислите основные типы конфликтных личност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352680" y="51814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 для обсу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28600" y="5562720"/>
            <a:ext cx="6858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ложите основные пути и условия профилактики и предупреждения конфликтов в малых групп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умайте и определите каким образом следует действовать находящимся в конфликте, чтобы разумно разрешить ег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6"/>
          <p:cNvGraphicFramePr/>
          <p:nvPr/>
        </p:nvGraphicFramePr>
        <p:xfrm>
          <a:off x="6705720" y="4114800"/>
          <a:ext cx="190476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114800"/>
                    <a:ext cx="190476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3"/>
          <p:cNvSpPr/>
          <p:nvPr/>
        </p:nvSpPr>
        <p:spPr>
          <a:xfrm>
            <a:off x="44956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971800" y="3352680"/>
            <a:ext cx="297180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толкнов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8"/>
          <p:cNvSpPr/>
          <p:nvPr/>
        </p:nvSpPr>
        <p:spPr>
          <a:xfrm flipH="1">
            <a:off x="2742840" y="38862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5257800" y="38862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572000" y="4724280"/>
            <a:ext cx="3505320" cy="137160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a9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борство субъектов социального взаимодействия в виде ущерб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914400" y="4724280"/>
            <a:ext cx="3124080" cy="137160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a9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противоположно направленных мо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3124080" y="1447920"/>
            <a:ext cx="2971800" cy="1371600"/>
          </a:xfrm>
          <a:prstGeom prst="irregularSeal2">
            <a:avLst/>
          </a:prstGeom>
          <a:gradFill rotWithShape="0">
            <a:gsLst>
              <a:gs pos="0">
                <a:srgbClr val="ffeda1"/>
              </a:gs>
              <a:gs pos="100000">
                <a:srgbClr val="ccecff"/>
              </a:gs>
            </a:gsLst>
            <a:lin ang="5400000"/>
          </a:gradFill>
          <a:ln w="1908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5720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8"/>
          <p:cNvSpPr/>
          <p:nvPr/>
        </p:nvSpPr>
        <p:spPr>
          <a:xfrm>
            <a:off x="1752480" y="152280"/>
            <a:ext cx="5715000" cy="83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eda1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латинског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447920" y="1143000"/>
            <a:ext cx="5943600" cy="457200"/>
          </a:xfrm>
          <a:prstGeom prst="rect">
            <a:avLst/>
          </a:prstGeom>
          <a:gradFill rotWithShape="0">
            <a:gsLst>
              <a:gs pos="0">
                <a:srgbClr val="fff5c9"/>
              </a:gs>
              <a:gs pos="100000">
                <a:srgbClr val="4fb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ные элементы конфли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600200" y="2362320"/>
            <a:ext cx="1828800" cy="91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личия конфликту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р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5943600" y="2286000"/>
            <a:ext cx="175248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иц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у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600200" y="3657600"/>
            <a:ext cx="1828800" cy="53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ы предм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6095880" y="3657600"/>
            <a:ext cx="1600200" cy="5335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ы предм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1600200" y="4572000"/>
            <a:ext cx="1371600" cy="5335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3962520" y="4572000"/>
            <a:ext cx="144756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6400800" y="4572000"/>
            <a:ext cx="1295280" cy="5335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р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2819520" y="5486400"/>
            <a:ext cx="990360" cy="3808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тив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5715000" y="5486400"/>
            <a:ext cx="990720" cy="3808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тив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9"/>
          <p:cNvSpPr/>
          <p:nvPr/>
        </p:nvSpPr>
        <p:spPr>
          <a:xfrm>
            <a:off x="342900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0"/>
          <p:cNvSpPr/>
          <p:nvPr/>
        </p:nvSpPr>
        <p:spPr>
          <a:xfrm>
            <a:off x="297180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1"/>
          <p:cNvSpPr/>
          <p:nvPr/>
        </p:nvSpPr>
        <p:spPr>
          <a:xfrm flipH="1">
            <a:off x="3429000" y="5105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2"/>
          <p:cNvSpPr/>
          <p:nvPr/>
        </p:nvSpPr>
        <p:spPr>
          <a:xfrm flipV="1">
            <a:off x="5410080" y="4191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3"/>
          <p:cNvSpPr/>
          <p:nvPr/>
        </p:nvSpPr>
        <p:spPr>
          <a:xfrm>
            <a:off x="54100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4"/>
          <p:cNvSpPr/>
          <p:nvPr/>
        </p:nvSpPr>
        <p:spPr>
          <a:xfrm>
            <a:off x="5410080" y="51055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5"/>
          <p:cNvSpPr/>
          <p:nvPr/>
        </p:nvSpPr>
        <p:spPr>
          <a:xfrm>
            <a:off x="24382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6"/>
          <p:cNvSpPr/>
          <p:nvPr/>
        </p:nvSpPr>
        <p:spPr>
          <a:xfrm>
            <a:off x="24382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89548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3429000" y="3886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0"/>
          <p:cNvSpPr/>
          <p:nvPr/>
        </p:nvSpPr>
        <p:spPr>
          <a:xfrm>
            <a:off x="3429000" y="2819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1"/>
          <p:cNvSpPr/>
          <p:nvPr/>
        </p:nvSpPr>
        <p:spPr>
          <a:xfrm>
            <a:off x="624852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3"/>
          <p:cNvSpPr/>
          <p:nvPr/>
        </p:nvSpPr>
        <p:spPr>
          <a:xfrm>
            <a:off x="69343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5"/>
          <p:cNvSpPr/>
          <p:nvPr/>
        </p:nvSpPr>
        <p:spPr>
          <a:xfrm>
            <a:off x="838080" y="27432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6"/>
          <p:cNvSpPr/>
          <p:nvPr/>
        </p:nvSpPr>
        <p:spPr>
          <a:xfrm>
            <a:off x="838080" y="2743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7"/>
          <p:cNvSpPr/>
          <p:nvPr/>
        </p:nvSpPr>
        <p:spPr>
          <a:xfrm>
            <a:off x="838080" y="5638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8"/>
          <p:cNvSpPr/>
          <p:nvPr/>
        </p:nvSpPr>
        <p:spPr>
          <a:xfrm>
            <a:off x="1219320" y="3962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59"/>
          <p:cNvSpPr/>
          <p:nvPr/>
        </p:nvSpPr>
        <p:spPr>
          <a:xfrm>
            <a:off x="12193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0"/>
          <p:cNvSpPr/>
          <p:nvPr/>
        </p:nvSpPr>
        <p:spPr>
          <a:xfrm>
            <a:off x="81532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1"/>
          <p:cNvSpPr/>
          <p:nvPr/>
        </p:nvSpPr>
        <p:spPr>
          <a:xfrm flipH="1">
            <a:off x="7696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2"/>
          <p:cNvSpPr/>
          <p:nvPr/>
        </p:nvSpPr>
        <p:spPr>
          <a:xfrm flipH="1">
            <a:off x="6705360" y="5638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63"/>
          <p:cNvSpPr/>
          <p:nvPr/>
        </p:nvSpPr>
        <p:spPr>
          <a:xfrm>
            <a:off x="79246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64"/>
          <p:cNvSpPr/>
          <p:nvPr/>
        </p:nvSpPr>
        <p:spPr>
          <a:xfrm flipH="1">
            <a:off x="76957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65"/>
          <p:cNvCxnSpPr>
            <a:stCxn id="60" idx="2"/>
            <a:endCxn id="63" idx="0"/>
          </p:cNvCxnSpPr>
          <p:nvPr/>
        </p:nvCxnSpPr>
        <p:spPr>
          <a:xfrm flipH="1" rot="16200000">
            <a:off x="2610000" y="478116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AutoShape 66"/>
          <p:cNvCxnSpPr>
            <a:stCxn id="63" idx="3"/>
            <a:endCxn id="64" idx="1"/>
          </p:cNvCxnSpPr>
          <p:nvPr/>
        </p:nvCxnSpPr>
        <p:spPr>
          <a:xfrm>
            <a:off x="3809880" y="5676480"/>
            <a:ext cx="19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228600"/>
            <a:ext cx="1676520" cy="3048120"/>
          </a:xfrm>
          <a:prstGeom prst="rect">
            <a:avLst/>
          </a:prstGeom>
          <a:gradFill rotWithShape="0">
            <a:gsLst>
              <a:gs pos="0">
                <a:srgbClr val="f6f5d8"/>
              </a:gs>
              <a:gs pos="100000">
                <a:srgbClr val="9d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фе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явл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37160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84360" y="114300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37160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1600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91480" y="16113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быт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13716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84000" y="213372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ейно-быт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60948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1371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760320" y="26668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ном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3581280" y="0"/>
            <a:ext cx="167652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теп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и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3655800" y="990720"/>
            <a:ext cx="13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р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стротеку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434340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34340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3810600" y="1676520"/>
            <a:ext cx="10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те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6"/>
          <p:cNvSpPr/>
          <p:nvPr/>
        </p:nvSpPr>
        <p:spPr>
          <a:xfrm>
            <a:off x="4343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3655800" y="2286000"/>
            <a:ext cx="15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абовыраж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ялотяну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9"/>
          <p:cNvSpPr/>
          <p:nvPr/>
        </p:nvSpPr>
        <p:spPr>
          <a:xfrm>
            <a:off x="43434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3655800" y="2895480"/>
            <a:ext cx="15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абовыраж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стро тяну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3581280" y="685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6248520" y="228600"/>
            <a:ext cx="1981080" cy="3048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е субъек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6248520" y="914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716292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6474960" y="114300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утриличност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6"/>
          <p:cNvSpPr/>
          <p:nvPr/>
        </p:nvSpPr>
        <p:spPr>
          <a:xfrm>
            <a:off x="716292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6552000" y="1600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личност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8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6320880" y="2133720"/>
            <a:ext cx="18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но-групп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0"/>
          <p:cNvSpPr/>
          <p:nvPr/>
        </p:nvSpPr>
        <p:spPr>
          <a:xfrm>
            <a:off x="71629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6627600" y="274320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групп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2895480" y="3733920"/>
            <a:ext cx="304812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609480" y="4724280"/>
            <a:ext cx="1600200" cy="1981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оциальн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дств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5"/>
          <p:cNvSpPr/>
          <p:nvPr/>
        </p:nvSpPr>
        <p:spPr>
          <a:xfrm>
            <a:off x="13716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6"/>
          <p:cNvSpPr/>
          <p:nvPr/>
        </p:nvSpPr>
        <p:spPr>
          <a:xfrm>
            <a:off x="60948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7"/>
          <p:cNvSpPr/>
          <p:nvPr/>
        </p:nvSpPr>
        <p:spPr>
          <a:xfrm>
            <a:off x="759960" y="56386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структив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8"/>
          <p:cNvSpPr/>
          <p:nvPr/>
        </p:nvSpPr>
        <p:spPr>
          <a:xfrm>
            <a:off x="13716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0"/>
          <p:cNvSpPr/>
          <p:nvPr/>
        </p:nvSpPr>
        <p:spPr>
          <a:xfrm>
            <a:off x="609480" y="6172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760680" y="62485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структив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2"/>
          <p:cNvSpPr/>
          <p:nvPr/>
        </p:nvSpPr>
        <p:spPr>
          <a:xfrm>
            <a:off x="6400800" y="4648320"/>
            <a:ext cx="1981080" cy="2057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е предм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3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640080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6781320" y="563868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алисти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7"/>
          <p:cNvSpPr/>
          <p:nvPr/>
        </p:nvSpPr>
        <p:spPr>
          <a:xfrm>
            <a:off x="73915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8"/>
          <p:cNvSpPr/>
          <p:nvPr/>
        </p:nvSpPr>
        <p:spPr>
          <a:xfrm>
            <a:off x="6400800" y="6172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9"/>
          <p:cNvSpPr/>
          <p:nvPr/>
        </p:nvSpPr>
        <p:spPr>
          <a:xfrm>
            <a:off x="6705000" y="624852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реалисти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7"/>
          <p:cNvCxnSpPr>
            <a:stCxn id="122" idx="1"/>
            <a:endCxn id="91" idx="2"/>
          </p:cNvCxnSpPr>
          <p:nvPr/>
        </p:nvCxnSpPr>
        <p:spPr>
          <a:xfrm rot="10800000">
            <a:off x="1447200" y="3276000"/>
            <a:ext cx="14482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69"/>
          <p:cNvCxnSpPr>
            <a:stCxn id="122" idx="0"/>
            <a:endCxn id="102" idx="2"/>
          </p:cNvCxnSpPr>
          <p:nvPr/>
        </p:nvCxnSpPr>
        <p:spPr>
          <a:xfrm flipV="1">
            <a:off x="441936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70"/>
          <p:cNvCxnSpPr>
            <a:stCxn id="122" idx="3"/>
            <a:endCxn id="112" idx="2"/>
          </p:cNvCxnSpPr>
          <p:nvPr/>
        </p:nvCxnSpPr>
        <p:spPr>
          <a:xfrm flipV="1">
            <a:off x="5943600" y="3276360"/>
            <a:ext cx="129600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AutoShape 71"/>
          <p:cNvCxnSpPr>
            <a:endCxn id="130" idx="1"/>
          </p:cNvCxnSpPr>
          <p:nvPr/>
        </p:nvCxnSpPr>
        <p:spPr>
          <a:xfrm>
            <a:off x="5029200" y="4647960"/>
            <a:ext cx="1372320" cy="10288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72"/>
          <p:cNvCxnSpPr>
            <a:endCxn id="123" idx="3"/>
          </p:cNvCxnSpPr>
          <p:nvPr/>
        </p:nvCxnSpPr>
        <p:spPr>
          <a:xfrm flipV="1" rot="10800000">
            <a:off x="2208960" y="4647240"/>
            <a:ext cx="1905840" cy="106740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838080" y="990720"/>
            <a:ext cx="2210040" cy="83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довлетвор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лов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429000" y="990720"/>
            <a:ext cx="213372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довлетворите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муник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248520" y="990720"/>
            <a:ext cx="175248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лич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цел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362320" y="2209680"/>
            <a:ext cx="1828800" cy="6098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ру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ужебной э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876920" y="2209680"/>
            <a:ext cx="1523880" cy="6098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гранич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066680" y="3505320"/>
            <a:ext cx="6553440" cy="4572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roxy 1"/>
              </a:rPr>
              <a:t>ПРИЧИНЫ КОНФЛИ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85800" y="5029200"/>
            <a:ext cx="1523880" cy="5806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полит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438280" y="5029200"/>
            <a:ext cx="1752840" cy="580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демограф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800600" y="5029200"/>
            <a:ext cx="1752480" cy="5806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о-психолог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858000" y="5029200"/>
            <a:ext cx="1752480" cy="580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294920" y="3962520"/>
            <a:ext cx="31244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 flipH="1">
            <a:off x="3123720" y="39625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4419720" y="3962520"/>
            <a:ext cx="3352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4419720" y="3962520"/>
            <a:ext cx="7617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 flipV="1">
            <a:off x="3200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7150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 flipV="1">
            <a:off x="4495680" y="18284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9"/>
          <p:cNvSpPr/>
          <p:nvPr/>
        </p:nvSpPr>
        <p:spPr>
          <a:xfrm flipV="1">
            <a:off x="1676520" y="18284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0"/>
          <p:cNvSpPr/>
          <p:nvPr/>
        </p:nvSpPr>
        <p:spPr>
          <a:xfrm flipV="1">
            <a:off x="7238880" y="18284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304920"/>
            <a:ext cx="830592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субъектов социального 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2120" y="1295280"/>
            <a:ext cx="2209680" cy="337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а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715000" y="1295280"/>
            <a:ext cx="2209680" cy="33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ная ситу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1280" y="1295280"/>
            <a:ext cx="1676520" cy="33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447920" y="2286000"/>
            <a:ext cx="6172200" cy="4597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    И     ФАК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438280" y="3352680"/>
            <a:ext cx="3962520" cy="703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Ы КОНФЛИКТНЫХ СИТУ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52280" y="4572000"/>
            <a:ext cx="2514600" cy="5806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добросовестное выполнение обязан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52680" y="4572000"/>
            <a:ext cx="2438640" cy="580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довлетворительный стиль 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029200" y="5638680"/>
            <a:ext cx="3124080" cy="5806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о психологические особенности ли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324480" y="4572000"/>
            <a:ext cx="2514600" cy="580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зкая профессиональная подготов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38080" y="5638680"/>
            <a:ext cx="2971800" cy="580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адекватное представление о конфликтных ситуац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190512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5"/>
          <p:cNvSpPr/>
          <p:nvPr/>
        </p:nvSpPr>
        <p:spPr>
          <a:xfrm flipV="1">
            <a:off x="449568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693432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90512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449568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693432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2"/>
          <p:cNvSpPr/>
          <p:nvPr/>
        </p:nvSpPr>
        <p:spPr>
          <a:xfrm flipH="1">
            <a:off x="220932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4008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44956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297180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601992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3"/>
          <p:cNvCxnSpPr>
            <a:stCxn id="165" idx="3"/>
            <a:endCxn id="161" idx="3"/>
          </p:cNvCxnSpPr>
          <p:nvPr/>
        </p:nvCxnSpPr>
        <p:spPr>
          <a:xfrm flipV="1">
            <a:off x="7619760" y="537480"/>
            <a:ext cx="1143720" cy="1981800"/>
          </a:xfrm>
          <a:prstGeom prst="bentConnector3">
            <a:avLst>
              <a:gd name="adj1" fmla="val 119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34"/>
          <p:cNvCxnSpPr>
            <a:stCxn id="165" idx="1"/>
            <a:endCxn id="161" idx="1"/>
          </p:cNvCxnSpPr>
          <p:nvPr/>
        </p:nvCxnSpPr>
        <p:spPr>
          <a:xfrm rot="10800000">
            <a:off x="456480" y="537480"/>
            <a:ext cx="991440" cy="1981800"/>
          </a:xfrm>
          <a:prstGeom prst="bentConnector3">
            <a:avLst>
              <a:gd name="adj1" fmla="val 12306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523880" y="1143000"/>
          <a:ext cx="6096240" cy="4363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31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 фаз и этапов конфли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ф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никновение и развитие конфликтной ситуации; осозн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подъё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открытого конфликтного взаимо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к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открытого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сп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6" name="Line 71"/>
          <p:cNvSpPr/>
          <p:nvPr/>
        </p:nvSpPr>
        <p:spPr>
          <a:xfrm>
            <a:off x="1523880" y="167652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75"/>
          <p:cNvSpPr/>
          <p:nvPr/>
        </p:nvSpPr>
        <p:spPr>
          <a:xfrm>
            <a:off x="1523880" y="213372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90920" y="1447920"/>
            <a:ext cx="365760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066680" y="2438280"/>
            <a:ext cx="3200400" cy="337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организующихся сист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876920" y="2438280"/>
            <a:ext cx="3200400" cy="33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ческими систем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352680" y="3505320"/>
            <a:ext cx="2210040" cy="33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ст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819520" y="4419720"/>
            <a:ext cx="3352680" cy="337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2819160" y="2057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410080" y="2057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449568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11"/>
          <p:cNvCxnSpPr>
            <a:stCxn id="188" idx="1"/>
            <a:endCxn id="192" idx="1"/>
          </p:cNvCxnSpPr>
          <p:nvPr/>
        </p:nvCxnSpPr>
        <p:spPr>
          <a:xfrm flipH="1" flipV="1" rot="10800000">
            <a:off x="2589840" y="1742040"/>
            <a:ext cx="229320" cy="2850120"/>
          </a:xfrm>
          <a:prstGeom prst="bentConnector3">
            <a:avLst>
              <a:gd name="adj1" fmla="val -9672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12"/>
          <p:cNvCxnSpPr>
            <a:stCxn id="188" idx="3"/>
            <a:endCxn id="192" idx="3"/>
          </p:cNvCxnSpPr>
          <p:nvPr/>
        </p:nvCxnSpPr>
        <p:spPr>
          <a:xfrm flipH="1">
            <a:off x="6172200" y="1742760"/>
            <a:ext cx="76680" cy="2850120"/>
          </a:xfrm>
          <a:prstGeom prst="bentConnector3">
            <a:avLst>
              <a:gd name="adj1" fmla="val -33905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Text Box 13"/>
          <p:cNvSpPr/>
          <p:nvPr/>
        </p:nvSpPr>
        <p:spPr>
          <a:xfrm>
            <a:off x="838080" y="42670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6708600" y="426708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609480" y="1447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стр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58000" y="1447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стр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981080" y="1447920"/>
          <a:ext cx="5105520" cy="4114800"/>
        </p:xfrm>
        <a:graphic>
          <a:graphicData uri="http://schemas.openxmlformats.org/drawingml/2006/table">
            <a:tbl>
              <a:tblPr/>
              <a:tblGrid>
                <a:gridCol w="51055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правления конфликт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 Box 14"/>
          <p:cNvSpPr/>
          <p:nvPr/>
        </p:nvSpPr>
        <p:spPr>
          <a:xfrm>
            <a:off x="3505320" y="2666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358128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едуп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35053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4419720" y="2438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0"/>
          <p:cNvSpPr/>
          <p:nvPr/>
        </p:nvSpPr>
        <p:spPr>
          <a:xfrm>
            <a:off x="4419720" y="2971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1"/>
          <p:cNvSpPr/>
          <p:nvPr/>
        </p:nvSpPr>
        <p:spPr>
          <a:xfrm>
            <a:off x="4419720" y="35053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32"/>
          <p:cNvSpPr/>
          <p:nvPr/>
        </p:nvSpPr>
        <p:spPr>
          <a:xfrm>
            <a:off x="4419720" y="4724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33"/>
          <p:cNvSpPr/>
          <p:nvPr/>
        </p:nvSpPr>
        <p:spPr>
          <a:xfrm>
            <a:off x="4419720" y="4114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36576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36576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2"/>
          <p:cNvSpPr/>
          <p:nvPr/>
        </p:nvSpPr>
        <p:spPr>
          <a:xfrm>
            <a:off x="1981080" y="14479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3"/>
          <p:cNvSpPr/>
          <p:nvPr/>
        </p:nvSpPr>
        <p:spPr>
          <a:xfrm>
            <a:off x="1981080" y="23623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0:57Z</dcterms:modified>
  <cp:revision>66</cp:revision>
  <dc:subject/>
  <dc:title>PowerPoint Presentation</dc:title>
</cp:coreProperties>
</file>