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322-ECE1-4F12-A50A-D6CBCE7F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D32-000A-4088-B60A-756BD6E5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358-B3AD-48BE-B46E-68B5D32E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F84-8573-4EDF-90BE-9C4DE7C7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A82-5A2B-454A-9968-AAC90A31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DF1-D3FD-46A1-97B6-A7AAF330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0C4-B210-447C-AE3E-7459B4D9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756-0E4C-41DC-A534-09569554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E9B-A9A3-46D6-A747-BFE72E99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D72-1112-4C1E-A9DD-4934D3FB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052-BD6F-45EC-A174-0C2BCD09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E78-068F-474D-BCD8-3391AA6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A42B-CEAC-46C5-8FE6-B25EB3121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2.1. Социально – психологическая  характеристика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57200" y="1371600"/>
            <a:ext cx="79246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результате изучения тем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будете иметь представление о социальном развитие человека  его личностной зрел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теме будут рассмотрены вопро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Личность как межнаучная категор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е характеристика и струк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оциальн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Теория и подходы к изучению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литератур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ин В.А. Социальная психология: учебник для спо / В.А. Соснин, Е.А. Красникова. - М.: ФОРУМ: ИНФРА-М.- 2009. - 336 с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литератур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Крысько В.Г.    Социальная психология / В.Г. Крысько. - 2-е изд. - М. [и др.]: Питер.- 2010. - 431 с. - (Учебник для вузов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йерс Д.    Социальная психология: пер. с англ. / Д. Майерс;  пер. З. Замчук. - 7-е изд. - М. [и др.] : Питер.- 2009. - 794 с.: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. - (Мастера психологии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800280" y="15228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2      Социальная психология личности.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Oval 5"/>
          <p:cNvSpPr/>
          <p:nvPr/>
        </p:nvSpPr>
        <p:spPr>
          <a:xfrm>
            <a:off x="3505320" y="2362320"/>
            <a:ext cx="2146320" cy="2146320"/>
          </a:xfrm>
          <a:prstGeom prst="ellipse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499200" y="2652840"/>
            <a:ext cx="21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 rot="19922400">
            <a:off x="5676480" y="5010480"/>
            <a:ext cx="2094840" cy="978120"/>
          </a:xfrm>
          <a:prstGeom prst="rect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терох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 rot="1935000">
            <a:off x="1462680" y="5009400"/>
            <a:ext cx="1866960" cy="978120"/>
          </a:xfrm>
          <a:prstGeom prst="rect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х ф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 rot="19450800">
            <a:off x="1563480" y="975600"/>
            <a:ext cx="2120760" cy="978120"/>
          </a:xfrm>
          <a:prstGeom prst="rect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олю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 rot="2007000">
            <a:off x="5936040" y="951480"/>
            <a:ext cx="1741320" cy="978120"/>
          </a:xfrm>
          <a:prstGeom prst="rect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зис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 flipV="1">
            <a:off x="5364000" y="1773000"/>
            <a:ext cx="1152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5364000" y="4221000"/>
            <a:ext cx="1008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 flipH="1">
            <a:off x="2771280" y="4221000"/>
            <a:ext cx="1079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 flipH="1" flipV="1">
            <a:off x="2916000" y="1773000"/>
            <a:ext cx="934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500"/>
                            </p:stCondLst>
                            <p:childTnLst>
                              <p:par>
                                <p:cTn id="9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3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4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 rot="16200000">
            <a:off x="2277720" y="682560"/>
            <a:ext cx="1341360" cy="642600"/>
          </a:xfrm>
          <a:prstGeom prst="rect">
            <a:avLst/>
          </a:prstGeom>
          <a:gradFill rotWithShape="0">
            <a:gsLst>
              <a:gs pos="0">
                <a:srgbClr val="ffff71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 rot="16200000">
            <a:off x="3502440" y="681840"/>
            <a:ext cx="1339920" cy="642600"/>
          </a:xfrm>
          <a:prstGeom prst="rect">
            <a:avLst/>
          </a:prstGeom>
          <a:gradFill rotWithShape="0">
            <a:gsLst>
              <a:gs pos="0">
                <a:srgbClr val="ffff71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 rot="16200000">
            <a:off x="4712760" y="695160"/>
            <a:ext cx="1224000" cy="642600"/>
          </a:xfrm>
          <a:prstGeom prst="rect">
            <a:avLst/>
          </a:prstGeom>
          <a:gradFill rotWithShape="0">
            <a:gsLst>
              <a:gs pos="0">
                <a:srgbClr val="ffff71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133720" y="1981080"/>
            <a:ext cx="4038480" cy="368280"/>
          </a:xfrm>
          <a:prstGeom prst="rect">
            <a:avLst/>
          </a:prstGeom>
          <a:gradFill rotWithShape="0">
            <a:gsLst>
              <a:gs pos="0">
                <a:srgbClr val="ffff71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как развит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362320" y="2514600"/>
          <a:ext cx="3539880" cy="4199040"/>
        </p:xfrm>
        <a:graphic>
          <a:graphicData uri="http://schemas.openxmlformats.org/drawingml/2006/table">
            <a:tbl>
              <a:tblPr/>
              <a:tblGrid>
                <a:gridCol w="3539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ологический(12 период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71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  <a:tr h="35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ен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ее дошкольное 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школьное 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школьны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ростк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период ю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й период ю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период зрело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й период зрело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ило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ж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71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55" name="Line 23"/>
          <p:cNvSpPr/>
          <p:nvPr/>
        </p:nvSpPr>
        <p:spPr>
          <a:xfrm flipV="1">
            <a:off x="4191120" y="1628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V="1">
            <a:off x="4716360" y="1628280"/>
            <a:ext cx="576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 flipH="1" flipV="1">
            <a:off x="2916360" y="170028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4211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4211640" y="2997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75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125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625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75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25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75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3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8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63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4"/>
          <p:cNvSpPr/>
          <p:nvPr/>
        </p:nvSpPr>
        <p:spPr>
          <a:xfrm>
            <a:off x="2050920" y="496800"/>
            <a:ext cx="4753080" cy="2427480"/>
          </a:xfrm>
          <a:prstGeom prst="triangle">
            <a:avLst>
              <a:gd name="adj" fmla="val 50486"/>
            </a:avLst>
          </a:prstGeom>
          <a:gradFill rotWithShape="0">
            <a:gsLst>
              <a:gs pos="0">
                <a:srgbClr val="ccecff"/>
              </a:gs>
              <a:gs pos="50000">
                <a:srgbClr val="ffff85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464280" y="1668600"/>
            <a:ext cx="18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448000" y="3133800"/>
            <a:ext cx="38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ная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аналитическая – 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124800" y="411480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фрейдизм – К. Хо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537280" y="47912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пологическая – К.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459520" y="55101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ая – А. Масл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AutoShape 10"/>
          <p:cNvCxnSpPr>
            <a:stCxn id="260" idx="2"/>
            <a:endCxn id="262" idx="1"/>
          </p:cNvCxnSpPr>
          <p:nvPr/>
        </p:nvCxnSpPr>
        <p:spPr>
          <a:xfrm flipH="1" rot="16200000">
            <a:off x="1981800" y="2992680"/>
            <a:ext cx="531000" cy="39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11"/>
          <p:cNvCxnSpPr/>
          <p:nvPr/>
        </p:nvCxnSpPr>
        <p:spPr>
          <a:xfrm flipH="1" rot="16200000">
            <a:off x="1313640" y="3589920"/>
            <a:ext cx="212328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13"/>
          <p:cNvCxnSpPr>
            <a:stCxn id="260" idx="2"/>
            <a:endCxn id="265" idx="1"/>
          </p:cNvCxnSpPr>
          <p:nvPr/>
        </p:nvCxnSpPr>
        <p:spPr>
          <a:xfrm flipH="1" rot="16200000">
            <a:off x="867240" y="4107240"/>
            <a:ext cx="27709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14"/>
          <p:cNvCxnSpPr>
            <a:stCxn id="260" idx="4"/>
            <a:endCxn id="262" idx="3"/>
          </p:cNvCxnSpPr>
          <p:nvPr/>
        </p:nvCxnSpPr>
        <p:spPr>
          <a:xfrm rot="5400000">
            <a:off x="6282720" y="2933640"/>
            <a:ext cx="531000" cy="511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15"/>
          <p:cNvCxnSpPr>
            <a:stCxn id="260" idx="4"/>
            <a:endCxn id="263" idx="3"/>
          </p:cNvCxnSpPr>
          <p:nvPr/>
        </p:nvCxnSpPr>
        <p:spPr>
          <a:xfrm rot="5400000">
            <a:off x="5788080" y="3283560"/>
            <a:ext cx="1375560" cy="65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16"/>
          <p:cNvCxnSpPr>
            <a:stCxn id="260" idx="4"/>
            <a:endCxn id="264" idx="3"/>
          </p:cNvCxnSpPr>
          <p:nvPr/>
        </p:nvCxnSpPr>
        <p:spPr>
          <a:xfrm rot="5400000">
            <a:off x="5270040" y="3441600"/>
            <a:ext cx="205164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17"/>
          <p:cNvCxnSpPr>
            <a:stCxn id="260" idx="4"/>
            <a:endCxn id="265" idx="3"/>
          </p:cNvCxnSpPr>
          <p:nvPr/>
        </p:nvCxnSpPr>
        <p:spPr>
          <a:xfrm rot="5400000">
            <a:off x="5024520" y="3915360"/>
            <a:ext cx="2770920" cy="788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advTm="5000">
    <p:random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15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650"/>
                            </p:stCondLst>
                            <p:childTnLst>
                              <p:par>
                                <p:cTn id="10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150"/>
                            </p:stCondLst>
                            <p:childTnLst>
                              <p:par>
                                <p:cTn id="10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65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15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65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15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65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6150"/>
                            </p:stCondLst>
                            <p:childTnLst>
                              <p:par>
                                <p:cTn id="10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665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715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2355840" y="379440"/>
            <a:ext cx="4138560" cy="703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ходы к изучению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зарубежн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3350880" y="2116080"/>
            <a:ext cx="214380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52360" y="2116080"/>
            <a:ext cx="242388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6229440" y="2116080"/>
            <a:ext cx="239652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 rot="16200000">
            <a:off x="-229320" y="4801320"/>
            <a:ext cx="201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 rot="16200000">
            <a:off x="498960" y="4763160"/>
            <a:ext cx="201636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 rot="16200000">
            <a:off x="1362600" y="4763160"/>
            <a:ext cx="201636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 rot="16200000">
            <a:off x="5466240" y="4763160"/>
            <a:ext cx="201636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дина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 rot="16200000">
            <a:off x="6331320" y="4764960"/>
            <a:ext cx="201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нитиви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 rot="16200000">
            <a:off x="7194960" y="4763160"/>
            <a:ext cx="201636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сонолог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 rot="16200000">
            <a:off x="2793240" y="3891600"/>
            <a:ext cx="144288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 Хо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 rot="16200000">
            <a:off x="3796920" y="3752640"/>
            <a:ext cx="14432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. Креч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 rot="16200000">
            <a:off x="4521960" y="3891600"/>
            <a:ext cx="144288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944640" y="3068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802320" y="278136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гл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6614640" y="3089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684000" y="2492280"/>
            <a:ext cx="7189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1"/>
          <p:cNvSpPr/>
          <p:nvPr/>
        </p:nvSpPr>
        <p:spPr>
          <a:xfrm>
            <a:off x="1403280" y="2492280"/>
            <a:ext cx="730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1403280" y="2492280"/>
            <a:ext cx="1008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3428640" y="2514600"/>
            <a:ext cx="863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"/>
          <p:cNvSpPr/>
          <p:nvPr/>
        </p:nvSpPr>
        <p:spPr>
          <a:xfrm>
            <a:off x="435600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4356000" y="2492280"/>
            <a:ext cx="86364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6"/>
          <p:cNvSpPr/>
          <p:nvPr/>
        </p:nvSpPr>
        <p:spPr>
          <a:xfrm flipH="1">
            <a:off x="6516360" y="249228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7"/>
          <p:cNvSpPr/>
          <p:nvPr/>
        </p:nvSpPr>
        <p:spPr>
          <a:xfrm flipH="1">
            <a:off x="7308360" y="2492280"/>
            <a:ext cx="71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8"/>
          <p:cNvSpPr/>
          <p:nvPr/>
        </p:nvSpPr>
        <p:spPr>
          <a:xfrm>
            <a:off x="7380360" y="249228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AutoShape 29"/>
          <p:cNvCxnSpPr>
            <a:stCxn id="273" idx="2"/>
            <a:endCxn id="274" idx="0"/>
          </p:cNvCxnSpPr>
          <p:nvPr/>
        </p:nvCxnSpPr>
        <p:spPr>
          <a:xfrm flipH="1">
            <a:off x="4421880" y="1090080"/>
            <a:ext cx="39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AutoShape 30"/>
          <p:cNvCxnSpPr>
            <a:endCxn id="276" idx="0"/>
          </p:cNvCxnSpPr>
          <p:nvPr/>
        </p:nvCxnSpPr>
        <p:spPr>
          <a:xfrm>
            <a:off x="4427640" y="1557360"/>
            <a:ext cx="300096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AutoShape 31"/>
          <p:cNvCxnSpPr>
            <a:endCxn id="275" idx="0"/>
          </p:cNvCxnSpPr>
          <p:nvPr/>
        </p:nvCxnSpPr>
        <p:spPr>
          <a:xfrm flipV="1" rot="10800000">
            <a:off x="1464480" y="1557360"/>
            <a:ext cx="296316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 advTm="5000">
    <p:random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75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375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3875"/>
                            </p:stCondLst>
                            <p:childTnLst>
                              <p:par>
                                <p:cTn id="1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4375"/>
                            </p:stCondLst>
                            <p:childTnLst>
                              <p:par>
                                <p:cTn id="10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875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75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15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75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7275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75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8550"/>
                            </p:stCondLst>
                            <p:childTnLst>
                              <p:par>
                                <p:cTn id="1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9050"/>
                            </p:stCondLst>
                            <p:childTnLst>
                              <p:par>
                                <p:cTn id="1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955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50"/>
                            </p:stCondLst>
                            <p:childTnLst>
                              <p:par>
                                <p:cTn id="1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5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1050"/>
                            </p:stCondLst>
                            <p:childTnLst>
                              <p:par>
                                <p:cTn id="1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1550"/>
                            </p:stCondLst>
                            <p:childTnLst>
                              <p:par>
                                <p:cTn id="1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75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 rot="19901400">
            <a:off x="239400" y="76212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лед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662640" y="208080"/>
            <a:ext cx="20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родно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 rot="1654200">
            <a:off x="6816600" y="69984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3886200" y="2198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596040" y="299736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947560" y="3062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790640" y="3089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4320000" y="3645000"/>
            <a:ext cx="1303920" cy="36828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50000">
                <a:srgbClr val="ccecff"/>
              </a:gs>
              <a:gs pos="100000">
                <a:srgbClr val="ffff8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5317200" y="5006880"/>
            <a:ext cx="3795840" cy="36828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50000">
                <a:srgbClr val="ccecff"/>
              </a:gs>
              <a:gs pos="100000">
                <a:srgbClr val="ffff8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ходы к изучению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228120" y="4097160"/>
            <a:ext cx="5502600" cy="64260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50000">
                <a:srgbClr val="ccecff"/>
              </a:gs>
              <a:gs pos="100000">
                <a:srgbClr val="ffff8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о – психологическая 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ззрения, социально - псих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3203640" y="5661000"/>
            <a:ext cx="5113440" cy="91692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50000">
                <a:srgbClr val="ccecff"/>
              </a:gs>
              <a:gs pos="100000">
                <a:srgbClr val="ffff8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7"/>
          <p:cNvSpPr/>
          <p:nvPr/>
        </p:nvSpPr>
        <p:spPr>
          <a:xfrm flipV="1">
            <a:off x="435600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651640" y="32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42847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2"/>
          <p:cNvSpPr/>
          <p:nvPr/>
        </p:nvSpPr>
        <p:spPr>
          <a:xfrm flipV="1">
            <a:off x="428472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692360" y="1484280"/>
            <a:ext cx="1655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4"/>
          <p:cNvSpPr/>
          <p:nvPr/>
        </p:nvSpPr>
        <p:spPr>
          <a:xfrm>
            <a:off x="45007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5"/>
          <p:cNvSpPr/>
          <p:nvPr/>
        </p:nvSpPr>
        <p:spPr>
          <a:xfrm flipH="1">
            <a:off x="5364000" y="1413000"/>
            <a:ext cx="1872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6"/>
          <p:cNvSpPr/>
          <p:nvPr/>
        </p:nvSpPr>
        <p:spPr>
          <a:xfrm flipH="1">
            <a:off x="5508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7"/>
          <p:cNvSpPr/>
          <p:nvPr/>
        </p:nvSpPr>
        <p:spPr>
          <a:xfrm>
            <a:off x="3130560" y="3357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8"/>
          <p:cNvSpPr/>
          <p:nvPr/>
        </p:nvSpPr>
        <p:spPr>
          <a:xfrm flipH="1">
            <a:off x="2987280" y="33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9"/>
          <p:cNvSpPr/>
          <p:nvPr/>
        </p:nvSpPr>
        <p:spPr>
          <a:xfrm>
            <a:off x="428472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0"/>
          <p:cNvSpPr/>
          <p:nvPr/>
        </p:nvSpPr>
        <p:spPr>
          <a:xfrm flipV="1">
            <a:off x="4284720" y="3355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1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0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онимается под личностью, индивидом, человеко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м сущность развития личност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характеризуется личность какова ее структур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м сущность социального стереотип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модели социального развития человека выделяют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арактеризуй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характеризуется психическое развитие личност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входит в понятие социальное развитие человека ? Может ли быть развитие человека не социальным ? Являются ли идентичными понятия «социальное развитие человека» и «Развитие 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стереотипы, касающиеся развития человека в обществе, вы можете назвать  в дополнение к уже обозначенным 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на в английском языке от латинского «персона»(ма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042920" y="3860640"/>
            <a:ext cx="72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ретный человек, обладающий сознанием и другими психологическими качествами, характеризующими его как представителя современной человеческой цивилизации,  члена общества, определенной социальной группы, способного достойно жить среди других людей, уважать, защищать  и созидать социальные ц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692360" y="1844640"/>
            <a:ext cx="5400720" cy="1008000"/>
          </a:xfrm>
          <a:prstGeom prst="flowChartInputOutput">
            <a:avLst/>
          </a:prstGeom>
          <a:gradFill rotWithShape="0">
            <a:gsLst>
              <a:gs pos="0">
                <a:srgbClr val="ffff71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987280" y="196200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4427640" y="691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442764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65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15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755640" y="549360"/>
            <a:ext cx="72010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ad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арактеристик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26920" y="5661000"/>
            <a:ext cx="712980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ad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обенности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379520" y="1360440"/>
            <a:ext cx="5954760" cy="3934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ad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мировоззрения человека,  его психологическая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целостности мировоззрения и убеждений, отсутствие или наличие в них противоречий, отражающих противоположные интересы разных слоев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сознанности человеком своего места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и характер потребностей и интере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ка соотношения и проявления различных личностных кач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5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75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5"/>
          <p:cNvSpPr/>
          <p:nvPr/>
        </p:nvSpPr>
        <p:spPr>
          <a:xfrm>
            <a:off x="3780000" y="292572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ношение базовых понятий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ловек, индивид, личность, субъект, индивиду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44800" y="3213000"/>
            <a:ext cx="1886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963400" y="2205000"/>
            <a:ext cx="151272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олог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171920" y="1052640"/>
            <a:ext cx="878760" cy="52020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012080" y="2778120"/>
            <a:ext cx="18810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885080" y="3284640"/>
            <a:ext cx="10000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889040" y="3860640"/>
            <a:ext cx="939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885080" y="4363920"/>
            <a:ext cx="96516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885080" y="4869000"/>
            <a:ext cx="91296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020000" y="5372280"/>
            <a:ext cx="18018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динич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020000" y="5877000"/>
            <a:ext cx="180792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335560" y="5229360"/>
            <a:ext cx="120636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6089040" y="6237360"/>
            <a:ext cx="83304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3188880" y="5229360"/>
            <a:ext cx="9532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еш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851280" y="5661000"/>
            <a:ext cx="18082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343960" y="5661000"/>
            <a:ext cx="939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3139560" y="6093000"/>
            <a:ext cx="878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324000" y="2852640"/>
            <a:ext cx="18810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324000" y="3357720"/>
            <a:ext cx="10000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327960" y="3933720"/>
            <a:ext cx="939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24000" y="4437000"/>
            <a:ext cx="96516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24000" y="4941720"/>
            <a:ext cx="912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331920" y="5446800"/>
            <a:ext cx="18018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331920" y="5951520"/>
            <a:ext cx="180792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554200" y="2286000"/>
            <a:ext cx="124452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2559960" y="1125360"/>
            <a:ext cx="939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1835280" y="1700280"/>
            <a:ext cx="912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3"/>
          <p:cNvSpPr/>
          <p:nvPr/>
        </p:nvSpPr>
        <p:spPr>
          <a:xfrm>
            <a:off x="3348000" y="1700280"/>
            <a:ext cx="18082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V="1">
            <a:off x="5435640" y="263664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 flipH="1">
            <a:off x="3563640" y="4724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5435640" y="479736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 flipH="1" flipV="1">
            <a:off x="3634920" y="2708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8"/>
          <p:cNvSpPr/>
          <p:nvPr/>
        </p:nvSpPr>
        <p:spPr>
          <a:xfrm>
            <a:off x="7164360" y="3068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2050920" y="314172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0"/>
          <p:cNvSpPr/>
          <p:nvPr/>
        </p:nvSpPr>
        <p:spPr>
          <a:xfrm>
            <a:off x="579600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1"/>
          <p:cNvSpPr/>
          <p:nvPr/>
        </p:nvSpPr>
        <p:spPr>
          <a:xfrm flipH="1">
            <a:off x="2195640" y="393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2"/>
          <p:cNvSpPr/>
          <p:nvPr/>
        </p:nvSpPr>
        <p:spPr>
          <a:xfrm>
            <a:off x="6084720" y="5516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3"/>
          <p:cNvSpPr/>
          <p:nvPr/>
        </p:nvSpPr>
        <p:spPr>
          <a:xfrm>
            <a:off x="3564000" y="551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4"/>
          <p:cNvSpPr/>
          <p:nvPr/>
        </p:nvSpPr>
        <p:spPr>
          <a:xfrm>
            <a:off x="3564000" y="5516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5"/>
          <p:cNvSpPr/>
          <p:nvPr/>
        </p:nvSpPr>
        <p:spPr>
          <a:xfrm flipH="1">
            <a:off x="3276720" y="5516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6"/>
          <p:cNvSpPr/>
          <p:nvPr/>
        </p:nvSpPr>
        <p:spPr>
          <a:xfrm flipV="1">
            <a:off x="111600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7"/>
          <p:cNvSpPr/>
          <p:nvPr/>
        </p:nvSpPr>
        <p:spPr>
          <a:xfrm flipV="1">
            <a:off x="755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8"/>
          <p:cNvSpPr/>
          <p:nvPr/>
        </p:nvSpPr>
        <p:spPr>
          <a:xfrm flipV="1">
            <a:off x="755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9"/>
          <p:cNvSpPr/>
          <p:nvPr/>
        </p:nvSpPr>
        <p:spPr>
          <a:xfrm flipV="1">
            <a:off x="755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0"/>
          <p:cNvSpPr/>
          <p:nvPr/>
        </p:nvSpPr>
        <p:spPr>
          <a:xfrm flipV="1">
            <a:off x="755640" y="31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1"/>
          <p:cNvSpPr/>
          <p:nvPr/>
        </p:nvSpPr>
        <p:spPr>
          <a:xfrm flipV="1">
            <a:off x="2987640" y="141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2"/>
          <p:cNvSpPr/>
          <p:nvPr/>
        </p:nvSpPr>
        <p:spPr>
          <a:xfrm flipV="1">
            <a:off x="2987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3"/>
          <p:cNvSpPr/>
          <p:nvPr/>
        </p:nvSpPr>
        <p:spPr>
          <a:xfrm flipH="1" flipV="1">
            <a:off x="2771640" y="184464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4"/>
          <p:cNvSpPr/>
          <p:nvPr/>
        </p:nvSpPr>
        <p:spPr>
          <a:xfrm flipV="1">
            <a:off x="6659640" y="162828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5"/>
          <p:cNvSpPr/>
          <p:nvPr/>
        </p:nvSpPr>
        <p:spPr>
          <a:xfrm>
            <a:off x="838836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7"/>
          <p:cNvSpPr/>
          <p:nvPr/>
        </p:nvSpPr>
        <p:spPr>
          <a:xfrm flipV="1">
            <a:off x="838836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8"/>
          <p:cNvSpPr/>
          <p:nvPr/>
        </p:nvSpPr>
        <p:spPr>
          <a:xfrm flipV="1">
            <a:off x="8388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9"/>
          <p:cNvSpPr/>
          <p:nvPr/>
        </p:nvSpPr>
        <p:spPr>
          <a:xfrm flipV="1">
            <a:off x="8388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0"/>
          <p:cNvSpPr/>
          <p:nvPr/>
        </p:nvSpPr>
        <p:spPr>
          <a:xfrm flipV="1">
            <a:off x="83883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1"/>
          <p:cNvSpPr/>
          <p:nvPr/>
        </p:nvSpPr>
        <p:spPr>
          <a:xfrm flipV="1">
            <a:off x="8388360" y="31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7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2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7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2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7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2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7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2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7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2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7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2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7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7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2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7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7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2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2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7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2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7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20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7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92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97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2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7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12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17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22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7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32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47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2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7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62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67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72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77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2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87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92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97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2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7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17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22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27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32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37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ическая структура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26640" y="1197000"/>
            <a:ext cx="1477800" cy="3682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128400" y="2060640"/>
            <a:ext cx="2466720" cy="64260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ззрен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59960" y="2060640"/>
            <a:ext cx="2223000" cy="91692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6720" y="2060640"/>
            <a:ext cx="2265480" cy="91692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о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492360" y="3716280"/>
          <a:ext cx="1729080" cy="2755800"/>
        </p:xfrm>
        <a:graphic>
          <a:graphicData uri="http://schemas.openxmlformats.org/drawingml/2006/table">
            <a:tbl>
              <a:tblPr/>
              <a:tblGrid>
                <a:gridCol w="172908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eebfa"/>
                        </a:gs>
                        <a:gs pos="50000">
                          <a:srgbClr val="ffff85"/>
                        </a:gs>
                        <a:gs pos="100000">
                          <a:srgbClr val="deebfa"/>
                        </a:gs>
                      </a:gsLst>
                      <a:lin ang="5400000"/>
                    </a:gra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овоз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eebfa"/>
                        </a:gs>
                        <a:gs pos="50000">
                          <a:srgbClr val="ffff85"/>
                        </a:gs>
                        <a:gs pos="100000">
                          <a:srgbClr val="deebfa"/>
                        </a:gs>
                      </a:gsLst>
                      <a:lin ang="5400000"/>
                    </a:gra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eebfa"/>
                        </a:gs>
                        <a:gs pos="50000">
                          <a:srgbClr val="ffff85"/>
                        </a:gs>
                        <a:gs pos="100000">
                          <a:srgbClr val="de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5" name="Text Box 23"/>
          <p:cNvSpPr/>
          <p:nvPr/>
        </p:nvSpPr>
        <p:spPr>
          <a:xfrm>
            <a:off x="543600" y="3524400"/>
            <a:ext cx="139068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548280" y="4365720"/>
            <a:ext cx="139068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48280" y="5157720"/>
            <a:ext cx="139068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547560" y="5950080"/>
            <a:ext cx="139536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6516720" y="3500280"/>
            <a:ext cx="144000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друг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6516720" y="4365720"/>
            <a:ext cx="144000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6530040" y="5133960"/>
            <a:ext cx="143208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6521400" y="5925960"/>
            <a:ext cx="143532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428472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435600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5148360" y="1557360"/>
            <a:ext cx="107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2627280" y="155736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5219640" y="3860280"/>
            <a:ext cx="1297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6"/>
          <p:cNvSpPr/>
          <p:nvPr/>
        </p:nvSpPr>
        <p:spPr>
          <a:xfrm flipV="1">
            <a:off x="5219640" y="4653000"/>
            <a:ext cx="1224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5219640" y="4941720"/>
            <a:ext cx="1297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5219640" y="494172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 flipH="1" flipV="1">
            <a:off x="2339640" y="3860280"/>
            <a:ext cx="1152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0"/>
          <p:cNvSpPr/>
          <p:nvPr/>
        </p:nvSpPr>
        <p:spPr>
          <a:xfrm flipH="1" flipV="1">
            <a:off x="2339640" y="4653000"/>
            <a:ext cx="115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39640" y="494172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2"/>
          <p:cNvSpPr/>
          <p:nvPr/>
        </p:nvSpPr>
        <p:spPr>
          <a:xfrm flipH="1">
            <a:off x="2339640" y="4941720"/>
            <a:ext cx="1152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4"/>
          <p:cNvSpPr/>
          <p:nvPr/>
        </p:nvSpPr>
        <p:spPr>
          <a:xfrm flipV="1">
            <a:off x="250920" y="3284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250920" y="3284640"/>
            <a:ext cx="821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8"/>
          <p:cNvSpPr/>
          <p:nvPr/>
        </p:nvSpPr>
        <p:spPr>
          <a:xfrm>
            <a:off x="8459640" y="328464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9"/>
          <p:cNvSpPr/>
          <p:nvPr/>
        </p:nvSpPr>
        <p:spPr>
          <a:xfrm flipH="1">
            <a:off x="7956360" y="6165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2"/>
          <p:cNvSpPr/>
          <p:nvPr/>
        </p:nvSpPr>
        <p:spPr>
          <a:xfrm flipH="1">
            <a:off x="250920" y="6237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3"/>
          <p:cNvSpPr/>
          <p:nvPr/>
        </p:nvSpPr>
        <p:spPr>
          <a:xfrm flipH="1">
            <a:off x="250920" y="54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25092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50920" y="3860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6"/>
          <p:cNvSpPr/>
          <p:nvPr/>
        </p:nvSpPr>
        <p:spPr>
          <a:xfrm flipH="1">
            <a:off x="7956360" y="5445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7"/>
          <p:cNvSpPr/>
          <p:nvPr/>
        </p:nvSpPr>
        <p:spPr>
          <a:xfrm flipH="1">
            <a:off x="7956360" y="465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8"/>
          <p:cNvSpPr/>
          <p:nvPr/>
        </p:nvSpPr>
        <p:spPr>
          <a:xfrm flipH="1">
            <a:off x="7956360" y="3860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>
            <a:off x="723600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0"/>
          <p:cNvSpPr/>
          <p:nvPr/>
        </p:nvSpPr>
        <p:spPr>
          <a:xfrm>
            <a:off x="140328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400"/>
                            </p:stCondLst>
                            <p:childTnLst>
                              <p:par>
                                <p:cTn id="3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9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4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9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4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9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4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9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4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9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4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9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4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9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4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9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4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9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4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39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44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69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74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79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4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9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340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39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64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69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74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79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890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94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99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4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9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ирование социального качества индивид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процессе социализации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119320" y="1706400"/>
            <a:ext cx="4824360" cy="505080"/>
          </a:xfrm>
          <a:prstGeom prst="flowChartInputOutpu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346200" y="177336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2195640" y="2631960"/>
            <a:ext cx="4464000" cy="436680"/>
          </a:xfrm>
          <a:prstGeom prst="flowChartInputOutpu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3346560" y="263700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 rot="16200000">
            <a:off x="1753920" y="4113360"/>
            <a:ext cx="2133360" cy="91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рат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 rot="16200000">
            <a:off x="3134160" y="4072680"/>
            <a:ext cx="2211480" cy="916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 rot="16200000">
            <a:off x="4425480" y="4073760"/>
            <a:ext cx="2209680" cy="91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281680" y="5950080"/>
            <a:ext cx="1960920" cy="3682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5154480" y="5734080"/>
            <a:ext cx="2309760" cy="3682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гене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181480" y="6172200"/>
            <a:ext cx="2286000" cy="3682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т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6"/>
          <p:cNvCxnSpPr>
            <a:stCxn id="149" idx="2"/>
            <a:endCxn id="156" idx="1"/>
          </p:cNvCxnSpPr>
          <p:nvPr/>
        </p:nvCxnSpPr>
        <p:spPr>
          <a:xfrm flipV="1" rot="10800000">
            <a:off x="2270880" y="1959120"/>
            <a:ext cx="331200" cy="4179960"/>
          </a:xfrm>
          <a:prstGeom prst="bentConnector3">
            <a:avLst>
              <a:gd name="adj1" fmla="val 2153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Line 17"/>
          <p:cNvSpPr/>
          <p:nvPr/>
        </p:nvSpPr>
        <p:spPr>
          <a:xfrm>
            <a:off x="4643280" y="11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464328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 flipH="1">
            <a:off x="2987640" y="3068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4284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5003640" y="3068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4140360" y="587700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140360" y="6165720"/>
            <a:ext cx="107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5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5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7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7500"/>
                            </p:stCondLst>
                            <p:childTnLst>
                              <p:par>
                                <p:cTn id="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9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9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48"/>
          <p:cNvSpPr/>
          <p:nvPr/>
        </p:nvSpPr>
        <p:spPr>
          <a:xfrm>
            <a:off x="3348000" y="2997360"/>
            <a:ext cx="2016000" cy="1295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a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0"/>
          <p:cNvSpPr/>
          <p:nvPr/>
        </p:nvSpPr>
        <p:spPr>
          <a:xfrm rot="16200000">
            <a:off x="3383640" y="4112280"/>
            <a:ext cx="2016000" cy="2808360"/>
          </a:xfrm>
          <a:prstGeom prst="rightArrow">
            <a:avLst>
              <a:gd name="adj1" fmla="val 47093"/>
              <a:gd name="adj2" fmla="val 55671"/>
            </a:avLst>
          </a:prstGeom>
          <a:gradFill rotWithShape="0">
            <a:gsLst>
              <a:gs pos="0">
                <a:srgbClr val="ccecff"/>
              </a:gs>
              <a:gs pos="100000">
                <a:srgbClr val="ffffa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акторы формирован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125360"/>
          <a:ext cx="2243160" cy="5310360"/>
        </p:xfrm>
        <a:graphic>
          <a:graphicData uri="http://schemas.openxmlformats.org/drawingml/2006/table">
            <a:tbl>
              <a:tblPr/>
              <a:tblGrid>
                <a:gridCol w="2243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a1"/>
                        </a:gs>
                      </a:gsLst>
                      <a:lin ang="5400000"/>
                    </a:gradFill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 - физиол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156360" y="1125360"/>
          <a:ext cx="2160720" cy="536436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a1"/>
                        </a:gs>
                      </a:gsLst>
                      <a:lin ang="5400000"/>
                    </a:gradFill>
                  </a:tcPr>
                </a:tc>
              </a:tr>
              <a:tr h="46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вос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2" name="Text Box 47"/>
          <p:cNvSpPr/>
          <p:nvPr/>
        </p:nvSpPr>
        <p:spPr>
          <a:xfrm>
            <a:off x="3548160" y="34034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3608280" y="5373720"/>
            <a:ext cx="147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ОГР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3"/>
          <p:cNvSpPr/>
          <p:nvPr/>
        </p:nvSpPr>
        <p:spPr>
          <a:xfrm>
            <a:off x="2627280" y="1844640"/>
            <a:ext cx="1440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4"/>
          <p:cNvSpPr/>
          <p:nvPr/>
        </p:nvSpPr>
        <p:spPr>
          <a:xfrm flipH="1">
            <a:off x="4858920" y="1844640"/>
            <a:ext cx="1297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5"/>
          <p:cNvSpPr/>
          <p:nvPr/>
        </p:nvSpPr>
        <p:spPr>
          <a:xfrm flipH="1">
            <a:off x="341928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6"/>
          <p:cNvSpPr/>
          <p:nvPr/>
        </p:nvSpPr>
        <p:spPr>
          <a:xfrm>
            <a:off x="4859280" y="2133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7"/>
          <p:cNvSpPr/>
          <p:nvPr/>
        </p:nvSpPr>
        <p:spPr>
          <a:xfrm>
            <a:off x="3419640" y="2133720"/>
            <a:ext cx="93636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8"/>
          <p:cNvSpPr/>
          <p:nvPr/>
        </p:nvSpPr>
        <p:spPr>
          <a:xfrm flipH="1">
            <a:off x="4356000" y="2133720"/>
            <a:ext cx="1152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9"/>
          <p:cNvSpPr/>
          <p:nvPr/>
        </p:nvSpPr>
        <p:spPr>
          <a:xfrm>
            <a:off x="2700360" y="1125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7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6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1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275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775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6275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775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275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7775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8275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5"/>
          <p:cNvSpPr/>
          <p:nvPr/>
        </p:nvSpPr>
        <p:spPr>
          <a:xfrm>
            <a:off x="900000" y="404640"/>
            <a:ext cx="2087640" cy="1008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869080" y="404640"/>
            <a:ext cx="2087640" cy="1008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9"/>
          <p:cNvSpPr/>
          <p:nvPr/>
        </p:nvSpPr>
        <p:spPr>
          <a:xfrm>
            <a:off x="3490920" y="5011560"/>
            <a:ext cx="1585800" cy="15861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08360" y="52236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983560" y="52236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72600" y="1916280"/>
            <a:ext cx="118188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225520" y="1916280"/>
            <a:ext cx="15080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292720" y="1844640"/>
            <a:ext cx="136692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267680" y="1844640"/>
            <a:ext cx="15080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53964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539640" y="2781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133200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597600" y="2421000"/>
            <a:ext cx="698760" cy="307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34000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2340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356400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294280" y="2349360"/>
            <a:ext cx="1293120" cy="307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огене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29272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5292720" y="29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 flipV="1">
            <a:off x="658800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334120" y="2286000"/>
            <a:ext cx="1218960" cy="641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7451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7451640" y="2924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1"/>
          <p:cNvSpPr/>
          <p:nvPr/>
        </p:nvSpPr>
        <p:spPr>
          <a:xfrm flipV="1">
            <a:off x="860436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7401960" y="2276640"/>
            <a:ext cx="1217160" cy="520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26920" y="3357720"/>
            <a:ext cx="7421760" cy="398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ижущие силы псих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3512520" y="4049640"/>
            <a:ext cx="1553760" cy="824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ни (ЗБ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074240" y="4925880"/>
            <a:ext cx="1425960" cy="824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у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875920" y="4915080"/>
            <a:ext cx="1428840" cy="824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ижайш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7"/>
          <p:cNvSpPr/>
          <p:nvPr/>
        </p:nvSpPr>
        <p:spPr>
          <a:xfrm>
            <a:off x="3886200" y="5410080"/>
            <a:ext cx="797040" cy="7621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3967560" y="5635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3894480" y="50594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>
            <a:off x="2411280" y="5516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 flipH="1">
            <a:off x="4643280" y="5300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4284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4932360" y="4437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5"/>
          <p:cNvSpPr/>
          <p:nvPr/>
        </p:nvSpPr>
        <p:spPr>
          <a:xfrm flipH="1">
            <a:off x="2411280" y="4437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6"/>
          <p:cNvSpPr/>
          <p:nvPr/>
        </p:nvSpPr>
        <p:spPr>
          <a:xfrm>
            <a:off x="428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7"/>
          <p:cNvSpPr/>
          <p:nvPr/>
        </p:nvSpPr>
        <p:spPr>
          <a:xfrm>
            <a:off x="586728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8"/>
          <p:cNvSpPr/>
          <p:nvPr/>
        </p:nvSpPr>
        <p:spPr>
          <a:xfrm>
            <a:off x="795672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9"/>
          <p:cNvSpPr/>
          <p:nvPr/>
        </p:nvSpPr>
        <p:spPr>
          <a:xfrm>
            <a:off x="291636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0"/>
          <p:cNvSpPr/>
          <p:nvPr/>
        </p:nvSpPr>
        <p:spPr>
          <a:xfrm>
            <a:off x="104292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1"/>
          <p:cNvSpPr/>
          <p:nvPr/>
        </p:nvSpPr>
        <p:spPr>
          <a:xfrm flipH="1">
            <a:off x="971280" y="134136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2"/>
          <p:cNvSpPr/>
          <p:nvPr/>
        </p:nvSpPr>
        <p:spPr>
          <a:xfrm>
            <a:off x="2340000" y="141300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3"/>
          <p:cNvSpPr/>
          <p:nvPr/>
        </p:nvSpPr>
        <p:spPr>
          <a:xfrm flipH="1">
            <a:off x="6084720" y="1413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4"/>
          <p:cNvSpPr/>
          <p:nvPr/>
        </p:nvSpPr>
        <p:spPr>
          <a:xfrm>
            <a:off x="7380360" y="134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5"/>
          <p:cNvSpPr/>
          <p:nvPr/>
        </p:nvSpPr>
        <p:spPr>
          <a:xfrm>
            <a:off x="4427640" y="907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6"/>
          <p:cNvSpPr/>
          <p:nvPr/>
        </p:nvSpPr>
        <p:spPr>
          <a:xfrm flipH="1">
            <a:off x="3203640" y="907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25"/>
                            </p:stCondLst>
                            <p:childTnLst>
                              <p:par>
                                <p:cTn id="6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25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35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85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635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85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735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7875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8625"/>
                            </p:stCondLst>
                            <p:childTnLst>
                              <p:par>
                                <p:cTn id="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9125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9625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125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625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1125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1625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2125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2625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3125"/>
                            </p:stCondLst>
                            <p:childTnLst>
                              <p:par>
                                <p:cTn id="7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365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415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4900"/>
                            </p:stCondLst>
                            <p:childTnLst>
                              <p:par>
                                <p:cTn id="7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40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9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64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6900"/>
                            </p:stCondLst>
                            <p:childTnLst>
                              <p:par>
                                <p:cTn id="7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7400"/>
                            </p:stCondLst>
                            <p:childTnLst>
                              <p:par>
                                <p:cTn id="7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79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84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89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94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99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4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9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7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33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38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6125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6625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8575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9075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9575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7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9800"/>
                            </p:stCondLst>
                            <p:childTnLst>
                              <p:par>
                                <p:cTn id="8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0300"/>
                            </p:stCondLst>
                            <p:childTnLst>
                              <p:par>
                                <p:cTn id="8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75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2174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2674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3175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33675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ffff5b"/>
              </a:gs>
              <a:gs pos="50000">
                <a:srgbClr val="ccecff"/>
              </a:gs>
              <a:gs pos="100000">
                <a:srgbClr val="ffff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ереотипы понимания социаль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288160" y="1819440"/>
            <a:ext cx="44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 ограничения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55040" y="2717640"/>
            <a:ext cx="43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 абсолютного де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658880" y="3625920"/>
            <a:ext cx="56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бсолютизация факторов опреде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сихологический фатал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140200" y="4775040"/>
            <a:ext cx="47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 абсолютизации зада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599480" y="562932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 неограниченных возм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AutoShape 9"/>
          <p:cNvCxnSpPr>
            <a:stCxn id="229" idx="1"/>
            <a:endCxn id="230" idx="1"/>
          </p:cNvCxnSpPr>
          <p:nvPr/>
        </p:nvCxnSpPr>
        <p:spPr>
          <a:xfrm flipH="1" flipV="1" rot="10800000">
            <a:off x="456840" y="663120"/>
            <a:ext cx="1836000" cy="1355040"/>
          </a:xfrm>
          <a:prstGeom prst="bentConnector3">
            <a:avLst>
              <a:gd name="adj1" fmla="val -124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12"/>
          <p:cNvCxnSpPr>
            <a:stCxn id="229" idx="1"/>
            <a:endCxn id="232" idx="1"/>
          </p:cNvCxnSpPr>
          <p:nvPr/>
        </p:nvCxnSpPr>
        <p:spPr>
          <a:xfrm flipH="1" flipV="1" rot="10800000">
            <a:off x="456120" y="662400"/>
            <a:ext cx="1207080" cy="3313800"/>
          </a:xfrm>
          <a:prstGeom prst="bentConnector3">
            <a:avLst>
              <a:gd name="adj1" fmla="val -189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14"/>
          <p:cNvCxnSpPr>
            <a:stCxn id="229" idx="1"/>
            <a:endCxn id="234" idx="1"/>
          </p:cNvCxnSpPr>
          <p:nvPr/>
        </p:nvCxnSpPr>
        <p:spPr>
          <a:xfrm flipH="1" flipV="1" rot="10800000">
            <a:off x="457200" y="662400"/>
            <a:ext cx="1148040" cy="5164920"/>
          </a:xfrm>
          <a:prstGeom prst="bentConnector3">
            <a:avLst>
              <a:gd name="adj1" fmla="val -199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15"/>
          <p:cNvCxnSpPr>
            <a:stCxn id="229" idx="3"/>
            <a:endCxn id="231" idx="3"/>
          </p:cNvCxnSpPr>
          <p:nvPr/>
        </p:nvCxnSpPr>
        <p:spPr>
          <a:xfrm flipH="1">
            <a:off x="6576120" y="663480"/>
            <a:ext cx="2110680" cy="2253600"/>
          </a:xfrm>
          <a:prstGeom prst="bentConnector3">
            <a:avLst>
              <a:gd name="adj1" fmla="val -108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16"/>
          <p:cNvCxnSpPr>
            <a:stCxn id="229" idx="3"/>
            <a:endCxn id="233" idx="3"/>
          </p:cNvCxnSpPr>
          <p:nvPr/>
        </p:nvCxnSpPr>
        <p:spPr>
          <a:xfrm flipH="1">
            <a:off x="6927480" y="663120"/>
            <a:ext cx="1759680" cy="4311000"/>
          </a:xfrm>
          <a:prstGeom prst="bentConnector3">
            <a:avLst>
              <a:gd name="adj1" fmla="val -12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advTm="5000"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7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85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35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45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950"/>
                            </p:stCondLst>
                            <p:childTnLst>
                              <p:par>
                                <p:cTn id="8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3" dur="7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7975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8475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2975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3475"/>
                            </p:stCondLst>
                            <p:childTnLst>
                              <p:par>
                                <p:cTn id="8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7" dur="7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725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6225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5:45:00Z</dcterms:created>
  <dc:creator>kaf_econ</dc:creator>
  <dc:description/>
  <dc:language>en-US</dc:language>
  <cp:lastModifiedBy>Кафедра</cp:lastModifiedBy>
  <dcterms:modified xsi:type="dcterms:W3CDTF">2014-04-07T06:33:46Z</dcterms:modified>
  <cp:revision>20</cp:revision>
  <dc:subject/>
  <dc:title>Раздел 2 Социальная психология личности.</dc:title>
</cp:coreProperties>
</file>