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E07-7D54-4EEE-A768-48921388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2A0-A3C1-4C27-9FC9-EC8F388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874-86DF-4C5A-8ACD-48C0A89B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8CF-2140-4DC8-B947-03580937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ED5-D473-4AE4-8A06-DA7B50F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CA3-05AE-4C71-B499-775FE28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449-CD1B-4480-B7A5-11CCC1A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768-BCD6-466E-83FE-4F0DCF8F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F76-DC43-4995-B71E-19A7924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ED2-0744-4BAA-8DB0-54C82EE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C8E-E91F-452B-9F9B-C2D83EC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0C5-C907-4E0D-B43C-A4DC6FB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B28-0F0D-437B-B3E1-2D29528479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Раздел 3. Социальная психология</a:t>
            </a:r>
            <a:br>
              <a:rPr sz="2800"/>
            </a:b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Swis721 Cn BT"/>
              </a:rPr>
              <a:t>Тема 3.3.  Лидерство как социально психологический феном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523880"/>
            <a:ext cx="83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том, кто такой лидер, что характеризует процесс лидерства и в чём его отличие от руковод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3520" y="2666880"/>
            <a:ext cx="7924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d4d4d"/>
                </a:solidFill>
                <a:uFillTx/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. Лидерство и руководство в малых групп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 Теории лидер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Я-концепция лидера, его психологические потребности и моти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 Власть и авторитет лиде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Психологические типы лидеров, стили и приёмы поведения в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0880" y="4572000"/>
            <a:ext cx="8534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2895480"/>
            <a:ext cx="3200400" cy="8254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ия трактовки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457200"/>
            <a:ext cx="25909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елеолог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14600" y="1066680"/>
            <a:ext cx="28195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нфронтацион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29000" y="1752480"/>
            <a:ext cx="30481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ихевиор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800600" y="2514600"/>
            <a:ext cx="259092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сихолог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952880" y="3733920"/>
            <a:ext cx="1828800" cy="4291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истем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429000" y="4343400"/>
            <a:ext cx="297180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ммуникацион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057400" y="4952880"/>
            <a:ext cx="3657600" cy="76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уктурно - функционал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09480" y="6019920"/>
            <a:ext cx="342900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ляцион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752480" y="388620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752480" y="38862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752480" y="388620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H="1">
            <a:off x="1295280" y="388620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1828800" y="274320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1828800" y="19807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1828800" y="15998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 flipH="1" flipV="1">
            <a:off x="1523520" y="9907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685800"/>
          <a:ext cx="6172200" cy="56466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войства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харак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имметр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детерм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ресурсов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а исполн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ный харак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сть властной детерминации пове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80"/>
          <p:cNvSpPr/>
          <p:nvPr/>
        </p:nvSpPr>
        <p:spPr>
          <a:xfrm>
            <a:off x="38098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1"/>
          <p:cNvSpPr/>
          <p:nvPr/>
        </p:nvSpPr>
        <p:spPr>
          <a:xfrm>
            <a:off x="525780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352680" y="2666880"/>
            <a:ext cx="2133720" cy="8254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а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5812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65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562720" y="685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7339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60020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94360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124080" y="3733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41972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 rot="16200000">
            <a:off x="572760" y="293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 rot="5400000">
            <a:off x="6666120" y="2856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371600" y="609480"/>
            <a:ext cx="6400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373356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724280" y="3505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V="1">
            <a:off x="449568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334120" y="3505320"/>
            <a:ext cx="1218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6"/>
          <p:cNvSpPr/>
          <p:nvPr/>
        </p:nvSpPr>
        <p:spPr>
          <a:xfrm flipH="1">
            <a:off x="2285640" y="350532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2819520" y="487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41972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48640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182844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 flipV="1">
            <a:off x="5181480" y="1066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 flipH="1" flipV="1">
            <a:off x="2437920" y="9907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76720" y="533520"/>
            <a:ext cx="1981080" cy="429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cc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 Л А С Т 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1676520"/>
            <a:ext cx="259092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029200" y="1676520"/>
            <a:ext cx="358128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сонифициров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895480" y="2971800"/>
            <a:ext cx="274320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895480" y="3429000"/>
            <a:ext cx="2743200" cy="1557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награ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анк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вторитет лиде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форм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2743200" y="990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191120" y="990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267080" y="9907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76720" y="609480"/>
            <a:ext cx="1981080" cy="429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Л А С Т 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828800"/>
            <a:ext cx="2438280" cy="459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105520" y="1828800"/>
            <a:ext cx="350496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сонифициров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2320" y="3048120"/>
            <a:ext cx="41148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99cc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3505320"/>
            <a:ext cx="4114800" cy="1922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егитимиз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б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дентифик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вычка к подчинен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рганизационная эк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191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2666880" y="1066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4267080" y="1066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43000" y="12952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ВТОРИТЕТ   ЛИДЕР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лияние на основе каче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143000" y="2209680"/>
            <a:ext cx="16002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581280" y="2209680"/>
            <a:ext cx="16002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743440" y="2209680"/>
            <a:ext cx="1981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у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90720" y="3352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чество уче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42900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тент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095880" y="3352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209680" y="4038480"/>
            <a:ext cx="1981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р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572000" y="4038480"/>
            <a:ext cx="22096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828800" y="4876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равственное ка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724280" y="4861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т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914400" y="1752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914400" y="16765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914400" y="5791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7848720" y="16765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190512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9"/>
          <p:cNvSpPr/>
          <p:nvPr/>
        </p:nvSpPr>
        <p:spPr>
          <a:xfrm flipV="1">
            <a:off x="190512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2670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67816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67816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5"/>
          <p:cNvSpPr/>
          <p:nvPr/>
        </p:nvSpPr>
        <p:spPr>
          <a:xfrm>
            <a:off x="3276720" y="1752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6"/>
          <p:cNvSpPr/>
          <p:nvPr/>
        </p:nvSpPr>
        <p:spPr>
          <a:xfrm>
            <a:off x="5638680" y="1752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8"/>
          <p:cNvSpPr/>
          <p:nvPr/>
        </p:nvSpPr>
        <p:spPr>
          <a:xfrm flipV="1"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9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14600" y="457200"/>
            <a:ext cx="3581280" cy="4597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ипология  лид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0880" y="1828800"/>
            <a:ext cx="2971800" cy="1374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олитич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лидеры прагмат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лидеры идеолог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етерминиров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86400" y="1828800"/>
            <a:ext cx="2666880" cy="1313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ел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нформацион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200400" y="3429000"/>
            <a:ext cx="2590920" cy="3143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вере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жа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тира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рганизато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блазни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ер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урной прим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уми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зг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зел отпу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4343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437920" y="99072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495680" y="990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143000" y="1066680"/>
          <a:ext cx="6858000" cy="4496040"/>
        </p:xfrm>
        <a:graphic>
          <a:graphicData uri="http://schemas.openxmlformats.org/drawingml/2006/table">
            <a:tbl>
              <a:tblPr/>
              <a:tblGrid>
                <a:gridCol w="3314880"/>
                <a:gridCol w="3543120"/>
              </a:tblGrid>
              <a:tr h="64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едение лид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ритетны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емократически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енерски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е убеждение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охновляющий призыв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ращение за советом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мен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ичный призыв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алиционирование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гитимизация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ин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124080" y="228600"/>
            <a:ext cx="2514600" cy="1008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 и д е р с т в 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 вли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ти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90720" y="1600200"/>
            <a:ext cx="236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вторитар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демократическ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либераль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ренер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7150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ории лидер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19920" y="1447920"/>
            <a:ext cx="2743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ория чер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туацион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туативно-личност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жидания взаимодейств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гуманистическ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мотивацион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стем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трибутив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29528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ид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6002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3886200" y="3809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 о т р е б н о с т ь   в о   в л а с т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8006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038480" y="44197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контрол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достижен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ффили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7010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400800" y="4419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о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70102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6019920" y="4800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9"/>
          <p:cNvSpPr/>
          <p:nvPr/>
        </p:nvSpPr>
        <p:spPr>
          <a:xfrm flipH="1">
            <a:off x="533520" y="685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56386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33520" y="6858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914400" y="4419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зкая самооцен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екват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3"/>
          <p:cNvSpPr/>
          <p:nvPr/>
        </p:nvSpPr>
        <p:spPr>
          <a:xfrm flipH="1">
            <a:off x="8380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5"/>
          <p:cNvSpPr/>
          <p:nvPr/>
        </p:nvSpPr>
        <p:spPr>
          <a:xfrm>
            <a:off x="1752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6"/>
          <p:cNvSpPr/>
          <p:nvPr/>
        </p:nvSpPr>
        <p:spPr>
          <a:xfrm>
            <a:off x="27432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8380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1066680" y="54864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ацио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0"/>
          <p:cNvSpPr/>
          <p:nvPr/>
        </p:nvSpPr>
        <p:spPr>
          <a:xfrm flipH="1">
            <a:off x="68544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1"/>
          <p:cNvSpPr/>
          <p:nvPr/>
        </p:nvSpPr>
        <p:spPr>
          <a:xfrm>
            <a:off x="68580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2"/>
          <p:cNvSpPr/>
          <p:nvPr/>
        </p:nvSpPr>
        <p:spPr>
          <a:xfrm>
            <a:off x="68580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3"/>
          <p:cNvSpPr/>
          <p:nvPr/>
        </p:nvSpPr>
        <p:spPr>
          <a:xfrm>
            <a:off x="28195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4"/>
          <p:cNvSpPr/>
          <p:nvPr/>
        </p:nvSpPr>
        <p:spPr>
          <a:xfrm>
            <a:off x="533520" y="1523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68580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46"/>
          <p:cNvCxnSpPr/>
          <p:nvPr/>
        </p:nvCxnSpPr>
        <p:spPr>
          <a:xfrm flipH="1" rot="16200000">
            <a:off x="3878280" y="1836360"/>
            <a:ext cx="16560" cy="3962880"/>
          </a:xfrm>
          <a:prstGeom prst="curvedConnector5">
            <a:avLst>
              <a:gd name="adj1" fmla="val -2808888"/>
              <a:gd name="adj2" fmla="val 49995"/>
              <a:gd name="adj3" fmla="val -28088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7"/>
          <p:cNvSpPr/>
          <p:nvPr/>
        </p:nvSpPr>
        <p:spPr>
          <a:xfrm>
            <a:off x="3048120" y="34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в т о р и т е 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31240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ла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9"/>
          <p:cNvSpPr/>
          <p:nvPr/>
        </p:nvSpPr>
        <p:spPr>
          <a:xfrm>
            <a:off x="8686800" y="685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51"/>
          <p:cNvSpPr/>
          <p:nvPr/>
        </p:nvSpPr>
        <p:spPr>
          <a:xfrm>
            <a:off x="86868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опросы для самоконтрол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762120"/>
            <a:ext cx="624852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Каковы основные различия между лидерством и руководств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Охарактеризуйте теории лидер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Опишите лидеров с различной самооцен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Какие потребности мотивируют поведение лидер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Раскройте содержание понятия «власть лидер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Что значит «механизм власти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Раскройте содержание понятия «авторитет лидер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Охарактеризуйте психологические типы лидеров и стили лидерского поведения</a:t>
            </a:r>
            <a:r>
              <a:rPr b="0" lang="ru-RU" sz="1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Вопросы для обсу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57200" y="4800600"/>
            <a:ext cx="7162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м образом можно использовать теории лидерства для анализа конкретной управленческой деятельност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о из выдающихся деятелей прошлого и настоящего вы могли бы назвать харизматическими личностями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2"/>
          <p:cNvSpPr/>
          <p:nvPr/>
        </p:nvSpPr>
        <p:spPr>
          <a:xfrm>
            <a:off x="3124080" y="304920"/>
            <a:ext cx="243864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33"/>
          <p:cNvSpPr/>
          <p:nvPr/>
        </p:nvSpPr>
        <p:spPr>
          <a:xfrm>
            <a:off x="3124080" y="2590920"/>
            <a:ext cx="2514600" cy="167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358128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МАЛ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3276720" y="109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правление неформальными отношени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36"/>
          <p:cNvSpPr/>
          <p:nvPr/>
        </p:nvSpPr>
        <p:spPr>
          <a:xfrm>
            <a:off x="434340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3200400" y="6095880"/>
            <a:ext cx="24382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8"/>
          <p:cNvSpPr/>
          <p:nvPr/>
        </p:nvSpPr>
        <p:spPr>
          <a:xfrm>
            <a:off x="3657600" y="51055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правление формальными отношени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9"/>
          <p:cNvSpPr/>
          <p:nvPr/>
        </p:nvSpPr>
        <p:spPr>
          <a:xfrm flipV="1">
            <a:off x="4419720" y="586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350532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1"/>
          <p:cNvSpPr/>
          <p:nvPr/>
        </p:nvSpPr>
        <p:spPr>
          <a:xfrm flipV="1">
            <a:off x="440064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3886200" y="1828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3"/>
          <p:cNvSpPr/>
          <p:nvPr/>
        </p:nvSpPr>
        <p:spPr>
          <a:xfrm>
            <a:off x="4343400" y="21528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Unicode MS"/>
              </a:rPr>
              <a:t>Р а з л и ч и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гулирует межличностные отношения, внутригрупп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лемент микро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ий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формальные са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ие решений непосред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гулирует внегрупповые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лемент макро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енаправл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альные и неформальные са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ие решений опосред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9480" y="144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800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5"/>
          <p:cNvSpPr/>
          <p:nvPr/>
        </p:nvSpPr>
        <p:spPr>
          <a:xfrm>
            <a:off x="2895480" y="685800"/>
            <a:ext cx="29718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. Галь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048120" y="1676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наследственность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895480" y="2514600"/>
            <a:ext cx="297180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ия ч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429000" y="3581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х а р и з м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819520" y="4495680"/>
            <a:ext cx="3200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т греч. «милость», «благодать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 flipV="1"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2"/>
          <p:cNvSpPr/>
          <p:nvPr/>
        </p:nvSpPr>
        <p:spPr>
          <a:xfrm>
            <a:off x="5867280" y="685800"/>
            <a:ext cx="914400" cy="2286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905120" y="685800"/>
            <a:ext cx="990360" cy="22860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 flipV="1">
            <a:off x="434340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Теории   лиде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запные критические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ческие повторяющиеся предсказуемые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е повторяющиеся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е повторяющиеся конвенцион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ые риту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т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ц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е характеристики лидера как социальной ро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итуциональный кон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30640" y="838080"/>
            <a:ext cx="2084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итуативна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724280" y="83808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итуативно – личностна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1337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ерство – функция сит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44792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708660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828800" y="1981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05120" y="1981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1905120" y="1981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981080" y="19810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2743200" y="2666880"/>
            <a:ext cx="3352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ор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дер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3"/>
          <p:cNvSpPr/>
          <p:nvPr/>
        </p:nvSpPr>
        <p:spPr>
          <a:xfrm rot="20031000">
            <a:off x="380880" y="129492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 ожидани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5"/>
          <p:cNvSpPr/>
          <p:nvPr/>
        </p:nvSpPr>
        <p:spPr>
          <a:xfrm rot="342000">
            <a:off x="3504960" y="68580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истиче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 rot="1341000">
            <a:off x="685800" y="441972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рибу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9"/>
          <p:cNvSpPr/>
          <p:nvPr/>
        </p:nvSpPr>
        <p:spPr>
          <a:xfrm rot="20588400">
            <a:off x="5029200" y="472392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ная 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0"/>
          <p:cNvSpPr/>
          <p:nvPr/>
        </p:nvSpPr>
        <p:spPr>
          <a:xfrm rot="2253000">
            <a:off x="6400440" y="1752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ацио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617220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 flipH="1" flipV="1">
            <a:off x="2209320" y="2438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 flipH="1">
            <a:off x="243828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3"/>
          <p:cNvSpPr/>
          <p:nvPr/>
        </p:nvSpPr>
        <p:spPr>
          <a:xfrm>
            <a:off x="5410080" y="41911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1828800" y="380880"/>
            <a:ext cx="5866920" cy="5867280"/>
            <a:chOff x="1828800" y="380880"/>
            <a:chExt cx="5866920" cy="5867280"/>
          </a:xfrm>
        </p:grpSpPr>
        <p:sp>
          <p:nvSpPr>
            <p:cNvPr id="95" name="AutoShape 2"/>
            <p:cNvSpPr/>
            <p:nvPr/>
          </p:nvSpPr>
          <p:spPr>
            <a:xfrm>
              <a:off x="3760200" y="380880"/>
              <a:ext cx="1990800" cy="20116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3"/>
            <p:cNvSpPr/>
            <p:nvPr/>
          </p:nvSpPr>
          <p:spPr>
            <a:xfrm flipV="1">
              <a:off x="2758320" y="2391480"/>
              <a:ext cx="3981600" cy="19278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 flipV="1">
              <a:off x="1828800" y="4320360"/>
              <a:ext cx="5866920" cy="19274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4039560" y="129528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дер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цен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026600" y="2716200"/>
            <a:ext cx="159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652560" y="4849920"/>
            <a:ext cx="241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ой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0880" y="533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400" spc="-1" strike="noStrike" u="sng">
                <a:solidFill>
                  <a:srgbClr val="993366"/>
                </a:solidFill>
                <a:uFillTx/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цепция  лид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590920" y="1143000"/>
            <a:ext cx="1371600" cy="152280"/>
          </a:xfrm>
          <a:prstGeom prst="pie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15000" cy="106704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нцепция лид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 rot="16200000">
            <a:off x="2323800" y="1181160"/>
            <a:ext cx="4724280" cy="57150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н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долевающ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конфликты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6171840" y="1676520"/>
            <a:ext cx="6094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5257440" y="1676520"/>
            <a:ext cx="1523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4266720" y="1676520"/>
            <a:ext cx="2514600" cy="2133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504960" y="1676520"/>
            <a:ext cx="3276360" cy="2361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2590560" y="1676520"/>
            <a:ext cx="4190760" cy="228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 rot="19986600">
            <a:off x="3113640" y="253836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ключ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886120" y="2362320"/>
            <a:ext cx="3124080" cy="1572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ре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тивирую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 лид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86120" y="990720"/>
            <a:ext cx="312408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тр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973240" y="4724280"/>
            <a:ext cx="29718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аффил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781680" y="2971800"/>
            <a:ext cx="1905120" cy="45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виж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2040" y="2959200"/>
            <a:ext cx="1676520" cy="4442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во власт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3434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2133720" y="30481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6095880" y="3124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343400" y="160020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8:24Z</dcterms:modified>
  <cp:revision>15</cp:revision>
  <dc:subject/>
  <dc:title>PowerPoint Presentation</dc:title>
</cp:coreProperties>
</file>