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824-1032-46B8-BD43-A9BF08E5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75F-77C8-41A1-BE41-4F060681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B54-3E6C-4A50-B36F-48751158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E7B1-E6CF-4391-B3EA-0AFB918F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536A-2F97-4975-878F-871F3453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8F8C-B324-4829-A093-4CEDED2F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4B33-9BD7-44DF-BE06-3A7A4BC4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C2A-3D75-4175-B1AF-4E51A710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2C12-75BD-46E8-A392-2366B758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C45-65EA-47AC-8DED-439E0667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C951-B184-4BD5-BDCC-2E4DC16D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E77D-B013-4C94-A8FB-B92A2E74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b4fe"/>
            </a:gs>
            <a:gs pos="100000">
              <a:srgbClr val="036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224D-98C3-493B-8E87-96ECA58CC8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Courier New"/>
              </a:rPr>
              <a:t>Тема 3.2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Групповая психодинамика</a:t>
            </a:r>
            <a:r>
              <a:rPr b="1" lang="ru-RU" sz="2400" spc="-1" strike="noStrike">
                <a:solidFill>
                  <a:srgbClr val="e1f6fd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4764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В результате изучения вы будете иметь представление  групповой динамике  и психодинамических процесс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В теме будут рассмотрены вопрос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1.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Характеристика понятия «Групповая динамика» и сущность её механи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2.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Элементы групповой динами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3.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Психодинамические процессы: образование и развитие, сплочение, групповое давление, руководство и лидерство, принятие решений, конфли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оснин В.А. Социальная психология: учебник для спо / В.А. Соснин, Е.А. Красникова. - М.: ФОРУМ: ИНФРА-М.- 2009. - 336 с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оциальная психология: учебник для спо / С.А. Сущенко, Т.В. Плотникова, Н.И. Сидоркин. - 2-е изд. - Ростов н/Д: Феникс.- 2009. - 345 с. - (Среднее проф. образование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рысько В.Г.    Социальная психология / В.Г. Крысько. - 2-е изд. - М. [и др.]: Питер.- 2010. - 431 с. - (Учебник для вузов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1905120" y="228600"/>
            <a:ext cx="6933960" cy="83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890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e5f7fd"/>
                </a:solidFill>
                <a:latin typeface="Arial"/>
              </a:rPr>
              <a:t>Социальная психология малых групп.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e5f7fd"/>
              </a:solidFill>
              <a:latin typeface="Arial"/>
              <a:ea typeface="Arial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0" y="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24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"/>
              </a:rPr>
              <a:t>Раздел 3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"/>
              <a:ea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33520" y="609480"/>
            <a:ext cx="807696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8. Концепция развития малой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990720" y="1219320"/>
            <a:ext cx="281916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Т. Санталайн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5257800" y="1219320"/>
            <a:ext cx="281952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Э. Воутилайн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4343400" y="1219320"/>
            <a:ext cx="485640" cy="685800"/>
          </a:xfrm>
          <a:prstGeom prst="downArrow">
            <a:avLst>
              <a:gd name="adj1" fmla="val 50000"/>
              <a:gd name="adj2" fmla="val 3530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6"/>
          <p:cNvSpPr/>
          <p:nvPr/>
        </p:nvSpPr>
        <p:spPr>
          <a:xfrm flipV="1">
            <a:off x="457200" y="1904760"/>
            <a:ext cx="8153280" cy="76176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СТАД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62120" y="2895480"/>
            <a:ext cx="609480" cy="381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562720" y="2895480"/>
            <a:ext cx="609480" cy="381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2057400" y="2895480"/>
            <a:ext cx="609480" cy="381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3200400" y="2895480"/>
            <a:ext cx="609480" cy="381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4267080" y="2895480"/>
            <a:ext cx="609840" cy="381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7772400" y="2895480"/>
            <a:ext cx="609480" cy="381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6705720" y="2895480"/>
            <a:ext cx="609480" cy="381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6"/>
          <p:cNvSpPr/>
          <p:nvPr/>
        </p:nvSpPr>
        <p:spPr>
          <a:xfrm>
            <a:off x="3505320" y="2666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 rot="16200000">
            <a:off x="-119520" y="45381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Новая груп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 rot="16169400">
            <a:off x="442440" y="458640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приобретение навы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 rot="16188000">
            <a:off x="2501640" y="46609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упроч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 rot="16200000">
            <a:off x="2630160" y="4532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разделение на кл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 rot="16200000">
            <a:off x="4037760" y="464076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внутренняя гармо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 rot="16200000">
            <a:off x="6096600" y="47206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дроб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 rot="16200000">
            <a:off x="6525000" y="45748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идеальная груп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4572000" y="2666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0"/>
          <p:cNvSpPr/>
          <p:nvPr/>
        </p:nvSpPr>
        <p:spPr>
          <a:xfrm>
            <a:off x="5867280" y="2666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1"/>
          <p:cNvSpPr/>
          <p:nvPr/>
        </p:nvSpPr>
        <p:spPr>
          <a:xfrm>
            <a:off x="7010280" y="2666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2"/>
          <p:cNvSpPr/>
          <p:nvPr/>
        </p:nvSpPr>
        <p:spPr>
          <a:xfrm>
            <a:off x="8077320" y="2666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3"/>
          <p:cNvSpPr/>
          <p:nvPr/>
        </p:nvSpPr>
        <p:spPr>
          <a:xfrm>
            <a:off x="2362320" y="2666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34"/>
          <p:cNvSpPr/>
          <p:nvPr/>
        </p:nvSpPr>
        <p:spPr>
          <a:xfrm>
            <a:off x="1066680" y="2666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2324160" y="533520"/>
            <a:ext cx="4495680" cy="1066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Социометрический показа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«индекс групповой сплочённост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819520" y="2057400"/>
            <a:ext cx="3581280" cy="1066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cc00"/>
                </a:solidFill>
                <a:latin typeface="Courier New"/>
              </a:rPr>
              <a:t>СПЛОЧЕНИЕ МАЛОЙ ГРУПП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228600" y="3886200"/>
            <a:ext cx="3048120" cy="228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Подход Л.Фестинге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Часто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коммуникатив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связ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276720" y="3886200"/>
            <a:ext cx="2514600" cy="228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Подход Т.Ньюко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Соглас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5791320" y="3886200"/>
            <a:ext cx="3047760" cy="228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Подход А.В.Петровск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Совмест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4572000" y="16002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4572000" y="31240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0"/>
          <p:cNvSpPr/>
          <p:nvPr/>
        </p:nvSpPr>
        <p:spPr>
          <a:xfrm flipV="1">
            <a:off x="1981080" y="3123720"/>
            <a:ext cx="259092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4572000" y="3124080"/>
            <a:ext cx="259092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133720" y="914400"/>
            <a:ext cx="487656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Courier New"/>
              </a:rPr>
              <a:t>Групповое д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4"/>
          <p:cNvSpPr/>
          <p:nvPr/>
        </p:nvSpPr>
        <p:spPr>
          <a:xfrm>
            <a:off x="914400" y="2362320"/>
            <a:ext cx="3505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914400" y="19098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В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447920" y="3124080"/>
            <a:ext cx="2536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Норматив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Информацио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4724280" y="1905120"/>
            <a:ext cx="3505320" cy="3809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4724280" y="2362320"/>
            <a:ext cx="3505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4724280" y="19051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Фу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4724280" y="2362320"/>
            <a:ext cx="3505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стремление обеспечить достижение групповых цел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сохранение группы как целог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определение членами группы отношения к социальному окруже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2666880" y="1295280"/>
            <a:ext cx="0" cy="6098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6477120" y="1295280"/>
            <a:ext cx="0" cy="6098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914400" y="1905120"/>
            <a:ext cx="3505320" cy="3809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Oval 2"/>
          <p:cNvSpPr/>
          <p:nvPr/>
        </p:nvSpPr>
        <p:spPr>
          <a:xfrm>
            <a:off x="2133720" y="762120"/>
            <a:ext cx="4876560" cy="12189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3276720" y="4495680"/>
            <a:ext cx="2590560" cy="12193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324480" y="2743200"/>
            <a:ext cx="25909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4572000" y="1981080"/>
            <a:ext cx="0" cy="2514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4572000" y="1981080"/>
            <a:ext cx="304812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0"/>
          <p:cNvSpPr/>
          <p:nvPr/>
        </p:nvSpPr>
        <p:spPr>
          <a:xfrm flipV="1">
            <a:off x="1523160" y="1980720"/>
            <a:ext cx="304812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8120" y="47242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Руководство и лиде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2362320" y="91440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Courier New"/>
              </a:rPr>
              <a:t>Психодинамические процессы в малой групп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22860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Принятие реш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6324480" y="2971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Конфли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228600" y="2743200"/>
            <a:ext cx="25909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533520" y="533520"/>
            <a:ext cx="8153280" cy="5638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533520" y="1066680"/>
            <a:ext cx="7543800" cy="3124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533520" y="4952880"/>
            <a:ext cx="6629400" cy="1219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533520" y="533520"/>
            <a:ext cx="81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Courier New"/>
              </a:rPr>
              <a:t>Групповая психодина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531000" y="1066680"/>
            <a:ext cx="493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Образование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Развитие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Сплочение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Групповое д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Групповое принятие реш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Руковод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Конфли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5943600" y="1066680"/>
            <a:ext cx="0" cy="3124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6019920" y="1066680"/>
            <a:ext cx="1844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5f7fd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7fd"/>
                </a:solidFill>
                <a:latin typeface="Courier New"/>
              </a:rPr>
              <a:t>Разреш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7fd"/>
                </a:solidFill>
                <a:latin typeface="Courier New"/>
              </a:rPr>
              <a:t>внутригруппов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7fd"/>
                </a:solidFill>
                <a:latin typeface="Courier New"/>
              </a:rPr>
              <a:t>противоре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5f7fd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7fd"/>
                </a:solidFill>
                <a:latin typeface="Courier New"/>
              </a:rPr>
              <a:t>«Идиосинкразический кредит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5f7fd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7fd"/>
                </a:solidFill>
                <a:latin typeface="Courier New"/>
              </a:rPr>
              <a:t>Психологический ценностный обме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5f7fd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1"/>
          <p:cNvSpPr/>
          <p:nvPr/>
        </p:nvSpPr>
        <p:spPr>
          <a:xfrm rot="5359800">
            <a:off x="7696440" y="2130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МЕХАНИЗ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2"/>
          <p:cNvSpPr/>
          <p:nvPr/>
        </p:nvSpPr>
        <p:spPr>
          <a:xfrm flipH="1" flipV="1">
            <a:off x="7696080" y="1447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3"/>
          <p:cNvSpPr/>
          <p:nvPr/>
        </p:nvSpPr>
        <p:spPr>
          <a:xfrm flipH="1">
            <a:off x="7696080" y="26668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4"/>
          <p:cNvSpPr/>
          <p:nvPr/>
        </p:nvSpPr>
        <p:spPr>
          <a:xfrm flipH="1" flipV="1">
            <a:off x="7772400" y="22096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905040" y="4343400"/>
            <a:ext cx="49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Интеграция групповой актив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Дифференциация групповой актив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 flipV="1">
            <a:off x="2057400" y="41907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989640" y="4902120"/>
            <a:ext cx="34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e5f7fd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цели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e5f7fd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нормы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e5f7fd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структура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8"/>
          <p:cNvSpPr/>
          <p:nvPr/>
        </p:nvSpPr>
        <p:spPr>
          <a:xfrm rot="5388000">
            <a:off x="6782400" y="5330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ЭЛЕМЕН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9"/>
          <p:cNvSpPr/>
          <p:nvPr/>
        </p:nvSpPr>
        <p:spPr>
          <a:xfrm flipH="1">
            <a:off x="5181480" y="5181480"/>
            <a:ext cx="1982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20"/>
          <p:cNvSpPr/>
          <p:nvPr/>
        </p:nvSpPr>
        <p:spPr>
          <a:xfrm flipH="1">
            <a:off x="5181480" y="5562720"/>
            <a:ext cx="1982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1"/>
          <p:cNvSpPr/>
          <p:nvPr/>
        </p:nvSpPr>
        <p:spPr>
          <a:xfrm flipH="1">
            <a:off x="5181480" y="5943600"/>
            <a:ext cx="1982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669960" y="666720"/>
            <a:ext cx="794052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Courier New"/>
              </a:rPr>
              <a:t>Вопросы для самоконтрол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5f7fd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Каково содержание понятия «групповая психодинамика»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5f7fd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Раскройте содержание современных представлений о сущности механизма групповой динам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5f7fd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Раскройте содержание основных элементов групповой динам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5f7fd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Какие основные социально-психологические процессы составляют групповую психодинамик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5f7fd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Назовите концепции различных психологов в отношении развития групп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5f7fd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Какие учённые изучали феномен групповой сплочённости и в чём разница в их подходах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685800" y="4127400"/>
            <a:ext cx="801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Courier New"/>
              </a:rPr>
              <a:t>Вопросы для обсужд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5f7fd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В результате чего меняется  поведение индивида в группе и что в большей степени этому способствует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5f7fd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Есть ли отличие групповой психодинамики в группах специально создаваемых для работы в экстремальных условиях либо в условиях социальной изоляции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4"/>
          <p:cNvSpPr/>
          <p:nvPr/>
        </p:nvSpPr>
        <p:spPr>
          <a:xfrm>
            <a:off x="2781360" y="2438280"/>
            <a:ext cx="3581280" cy="19814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1"/>
          <p:cNvSpPr/>
          <p:nvPr/>
        </p:nvSpPr>
        <p:spPr>
          <a:xfrm>
            <a:off x="762120" y="533520"/>
            <a:ext cx="19810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Образование и разви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22"/>
          <p:cNvSpPr/>
          <p:nvPr/>
        </p:nvSpPr>
        <p:spPr>
          <a:xfrm>
            <a:off x="3795840" y="533520"/>
            <a:ext cx="15523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Спло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23"/>
          <p:cNvSpPr/>
          <p:nvPr/>
        </p:nvSpPr>
        <p:spPr>
          <a:xfrm>
            <a:off x="6553080" y="457200"/>
            <a:ext cx="205740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Руководство и лидер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4"/>
          <p:cNvSpPr/>
          <p:nvPr/>
        </p:nvSpPr>
        <p:spPr>
          <a:xfrm>
            <a:off x="914400" y="5334120"/>
            <a:ext cx="144792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Принятие реш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5"/>
          <p:cNvSpPr/>
          <p:nvPr/>
        </p:nvSpPr>
        <p:spPr>
          <a:xfrm>
            <a:off x="6781680" y="5334120"/>
            <a:ext cx="160020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Групповое д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6"/>
          <p:cNvSpPr/>
          <p:nvPr/>
        </p:nvSpPr>
        <p:spPr>
          <a:xfrm>
            <a:off x="3873600" y="5715000"/>
            <a:ext cx="14000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Конфли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7"/>
          <p:cNvSpPr/>
          <p:nvPr/>
        </p:nvSpPr>
        <p:spPr>
          <a:xfrm>
            <a:off x="3048120" y="2651040"/>
            <a:ext cx="30477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Групповая динамика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психологические процессы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малой групп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AutoShape 28"/>
          <p:cNvCxnSpPr>
            <a:stCxn id="45" idx="1"/>
            <a:endCxn id="46" idx="2"/>
          </p:cNvCxnSpPr>
          <p:nvPr/>
        </p:nvCxnSpPr>
        <p:spPr>
          <a:xfrm flipH="1" flipV="1">
            <a:off x="1751760" y="1247400"/>
            <a:ext cx="1553400" cy="14724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AutoShape 29"/>
          <p:cNvCxnSpPr>
            <a:stCxn id="45" idx="0"/>
            <a:endCxn id="47" idx="2"/>
          </p:cNvCxnSpPr>
          <p:nvPr/>
        </p:nvCxnSpPr>
        <p:spPr>
          <a:xfrm flipV="1">
            <a:off x="4571640" y="942480"/>
            <a:ext cx="1080" cy="14868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5" name="AutoShape 30"/>
          <p:cNvCxnSpPr>
            <a:stCxn id="45" idx="7"/>
            <a:endCxn id="48" idx="2"/>
          </p:cNvCxnSpPr>
          <p:nvPr/>
        </p:nvCxnSpPr>
        <p:spPr>
          <a:xfrm flipV="1">
            <a:off x="5838840" y="1171080"/>
            <a:ext cx="1743840" cy="15487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6" name="AutoShape 31"/>
          <p:cNvCxnSpPr>
            <a:stCxn id="45" idx="3"/>
            <a:endCxn id="49" idx="0"/>
          </p:cNvCxnSpPr>
          <p:nvPr/>
        </p:nvCxnSpPr>
        <p:spPr>
          <a:xfrm flipH="1">
            <a:off x="1638000" y="4138200"/>
            <a:ext cx="1667520" cy="11962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7" name="AutoShape 32"/>
          <p:cNvCxnSpPr>
            <a:stCxn id="45" idx="4"/>
            <a:endCxn id="51" idx="0"/>
          </p:cNvCxnSpPr>
          <p:nvPr/>
        </p:nvCxnSpPr>
        <p:spPr>
          <a:xfrm>
            <a:off x="4572000" y="4429080"/>
            <a:ext cx="2160" cy="12866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8" name="AutoShape 33"/>
          <p:cNvCxnSpPr>
            <a:stCxn id="45" idx="5"/>
            <a:endCxn id="50" idx="0"/>
          </p:cNvCxnSpPr>
          <p:nvPr/>
        </p:nvCxnSpPr>
        <p:spPr>
          <a:xfrm>
            <a:off x="5838840" y="4138200"/>
            <a:ext cx="1743840" cy="11962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lg" type="stealth" w="lg"/>
          </a:ln>
        </p:spPr>
      </p:cxn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6"/>
          <p:cNvSpPr/>
          <p:nvPr/>
        </p:nvSpPr>
        <p:spPr>
          <a:xfrm>
            <a:off x="2857680" y="533520"/>
            <a:ext cx="3429000" cy="1295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7"/>
          <p:cNvSpPr/>
          <p:nvPr/>
        </p:nvSpPr>
        <p:spPr>
          <a:xfrm>
            <a:off x="2857680" y="4952880"/>
            <a:ext cx="3429000" cy="1295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3276720" y="283536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Изменение психодинамики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6"/>
          <p:cNvSpPr/>
          <p:nvPr/>
        </p:nvSpPr>
        <p:spPr>
          <a:xfrm>
            <a:off x="1714680" y="266688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1676520" y="2666880"/>
            <a:ext cx="106668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9"/>
          <p:cNvSpPr/>
          <p:nvPr/>
        </p:nvSpPr>
        <p:spPr>
          <a:xfrm flipV="1">
            <a:off x="1752480" y="3428640"/>
            <a:ext cx="99072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0"/>
          <p:cNvSpPr/>
          <p:nvPr/>
        </p:nvSpPr>
        <p:spPr>
          <a:xfrm flipH="1" flipV="1">
            <a:off x="6553080" y="3428640"/>
            <a:ext cx="9144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1"/>
          <p:cNvSpPr/>
          <p:nvPr/>
        </p:nvSpPr>
        <p:spPr>
          <a:xfrm flipV="1">
            <a:off x="6553080" y="2666520"/>
            <a:ext cx="91440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2"/>
          <p:cNvSpPr/>
          <p:nvPr/>
        </p:nvSpPr>
        <p:spPr>
          <a:xfrm>
            <a:off x="1752480" y="411480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AutoShape 33"/>
          <p:cNvCxnSpPr>
            <a:stCxn id="59" idx="2"/>
            <a:endCxn id="63" idx="0"/>
          </p:cNvCxnSpPr>
          <p:nvPr/>
        </p:nvCxnSpPr>
        <p:spPr>
          <a:xfrm flipH="1">
            <a:off x="1676160" y="1180800"/>
            <a:ext cx="1172160" cy="1477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stealth" w="lg"/>
          </a:ln>
        </p:spPr>
      </p:cxnSp>
      <p:cxnSp>
        <p:nvCxnSpPr>
          <p:cNvPr id="69" name="AutoShape 34"/>
          <p:cNvCxnSpPr>
            <a:stCxn id="59" idx="6"/>
            <a:endCxn id="62" idx="0"/>
          </p:cNvCxnSpPr>
          <p:nvPr/>
        </p:nvCxnSpPr>
        <p:spPr>
          <a:xfrm>
            <a:off x="6295680" y="1181160"/>
            <a:ext cx="1134360" cy="14961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stealth" w="lg"/>
          </a:ln>
        </p:spPr>
      </p:cxnSp>
      <p:cxnSp>
        <p:nvCxnSpPr>
          <p:cNvPr id="70" name="AutoShape 35"/>
          <p:cNvCxnSpPr>
            <a:stCxn id="60" idx="2"/>
            <a:endCxn id="67" idx="0"/>
          </p:cNvCxnSpPr>
          <p:nvPr/>
        </p:nvCxnSpPr>
        <p:spPr>
          <a:xfrm flipH="1" flipV="1">
            <a:off x="1751760" y="4105080"/>
            <a:ext cx="1096200" cy="14961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stealth" w="lg"/>
          </a:ln>
        </p:spPr>
      </p:cxnSp>
      <p:cxnSp>
        <p:nvCxnSpPr>
          <p:cNvPr id="71" name="AutoShape 36"/>
          <p:cNvCxnSpPr>
            <a:stCxn id="60" idx="6"/>
            <a:endCxn id="67" idx="1"/>
          </p:cNvCxnSpPr>
          <p:nvPr/>
        </p:nvCxnSpPr>
        <p:spPr>
          <a:xfrm flipV="1">
            <a:off x="6296040" y="4123800"/>
            <a:ext cx="1172160" cy="1477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stealth" w="lg"/>
          </a:ln>
        </p:spPr>
      </p:cxnSp>
      <p:sp>
        <p:nvSpPr>
          <p:cNvPr id="72" name="Text Box 40"/>
          <p:cNvSpPr/>
          <p:nvPr/>
        </p:nvSpPr>
        <p:spPr>
          <a:xfrm>
            <a:off x="3238560" y="7621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Интеграция групповой актив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1"/>
          <p:cNvSpPr/>
          <p:nvPr/>
        </p:nvSpPr>
        <p:spPr>
          <a:xfrm>
            <a:off x="2857680" y="51814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Дифференциация группов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актив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5"/>
          <p:cNvSpPr/>
          <p:nvPr/>
        </p:nvSpPr>
        <p:spPr>
          <a:xfrm>
            <a:off x="3429000" y="228600"/>
            <a:ext cx="2743200" cy="990720"/>
          </a:xfrm>
          <a:prstGeom prst="parallelogram">
            <a:avLst>
              <a:gd name="adj" fmla="val 3189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733920" y="30492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Разрешение внутригрупповых противореч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>
            <a:off x="4572000" y="1219320"/>
            <a:ext cx="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514600" y="2209680"/>
            <a:ext cx="4191120" cy="129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143000" y="4419720"/>
            <a:ext cx="2895480" cy="1218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5334120" y="4419720"/>
            <a:ext cx="2895480" cy="1218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Психологиче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или ценност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обме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2"/>
          <p:cNvSpPr/>
          <p:nvPr/>
        </p:nvSpPr>
        <p:spPr>
          <a:xfrm flipV="1">
            <a:off x="2590920" y="3505320"/>
            <a:ext cx="106668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3"/>
          <p:cNvSpPr/>
          <p:nvPr/>
        </p:nvSpPr>
        <p:spPr>
          <a:xfrm flipH="1" flipV="1">
            <a:off x="5486400" y="3505320"/>
            <a:ext cx="129528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1143000" y="4724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Идиосинкразический креди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476440" y="2438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Courier New"/>
              </a:rPr>
              <a:t>Механизмы групповой дина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1752480" y="533520"/>
            <a:ext cx="1676520" cy="838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Цел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доминиру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над част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486400" y="228600"/>
            <a:ext cx="2057400" cy="1219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543480" y="1828800"/>
            <a:ext cx="20574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зако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209680" y="4876920"/>
            <a:ext cx="1067040" cy="60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Це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груп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5791320" y="4876920"/>
            <a:ext cx="1447560" cy="60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Структ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груп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19520" y="2666880"/>
            <a:ext cx="3581280" cy="838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cc00"/>
                </a:solidFill>
                <a:latin typeface="Courier New"/>
              </a:rPr>
              <a:t>Групповая психодинам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3543480" y="3809880"/>
            <a:ext cx="20574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Элемен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 flipH="1" flipV="1">
            <a:off x="2590560" y="1371600"/>
            <a:ext cx="19810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 flipV="1">
            <a:off x="4572000" y="1447920"/>
            <a:ext cx="19051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5"/>
          <p:cNvSpPr/>
          <p:nvPr/>
        </p:nvSpPr>
        <p:spPr>
          <a:xfrm flipV="1">
            <a:off x="4572000" y="2362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4572000" y="3505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>
            <a:off x="4572000" y="4343400"/>
            <a:ext cx="190512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4572000" y="43434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0"/>
          <p:cNvSpPr/>
          <p:nvPr/>
        </p:nvSpPr>
        <p:spPr>
          <a:xfrm flipH="1">
            <a:off x="2666880" y="4343400"/>
            <a:ext cx="190512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4038480" y="6019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Нормы груп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5486400" y="2286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Отд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элемен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объединяются в цел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914400" y="685800"/>
            <a:ext cx="7467480" cy="838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Courier New"/>
              </a:rPr>
              <a:t>Психодинамические процес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09480" y="2209680"/>
            <a:ext cx="3429000" cy="327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609480" y="304812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143000" y="2209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Образование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685800" y="2857680"/>
            <a:ext cx="335268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Потребность в обще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Потребность в защи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Особенности орган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Разделение тру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724280" y="2209680"/>
            <a:ext cx="4038840" cy="327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4886280" y="2743200"/>
            <a:ext cx="387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127120" y="22096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Развитие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800600" y="2819520"/>
            <a:ext cx="395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ceecfc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Стадия  - знаком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ceecfc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Стадия – появление межличностных отно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ceecfc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Стадия – отношения становятся устойчивы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ceecfc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Стадия – общность «мы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2438280" y="15238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6400800" y="15238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2666880" y="2286000"/>
            <a:ext cx="38102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cc00"/>
                </a:solidFill>
                <a:latin typeface="Courier New"/>
              </a:rPr>
              <a:t>Развитие малой групп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914400" y="3276720"/>
            <a:ext cx="3276720" cy="533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2. Концепция Б.Такме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1295280" y="4114800"/>
            <a:ext cx="24386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Двухфазная моде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152280" y="4495680"/>
            <a:ext cx="21337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2514600" y="4800600"/>
            <a:ext cx="2057400" cy="1295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5"/>
          <p:cNvSpPr/>
          <p:nvPr/>
        </p:nvSpPr>
        <p:spPr>
          <a:xfrm flipV="1">
            <a:off x="4568760" y="19051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6"/>
          <p:cNvSpPr/>
          <p:nvPr/>
        </p:nvSpPr>
        <p:spPr>
          <a:xfrm flipH="1">
            <a:off x="2895120" y="2819520"/>
            <a:ext cx="129564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2514600" y="38098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8"/>
          <p:cNvSpPr/>
          <p:nvPr/>
        </p:nvSpPr>
        <p:spPr>
          <a:xfrm flipH="1">
            <a:off x="1219320" y="44956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14600" y="4495680"/>
            <a:ext cx="9144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0"/>
          <p:cNvSpPr/>
          <p:nvPr/>
        </p:nvSpPr>
        <p:spPr>
          <a:xfrm>
            <a:off x="5029200" y="3276720"/>
            <a:ext cx="3657600" cy="533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3. Концепция И. Ял К.Хе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1"/>
          <p:cNvSpPr/>
          <p:nvPr/>
        </p:nvSpPr>
        <p:spPr>
          <a:xfrm>
            <a:off x="5257800" y="4114800"/>
            <a:ext cx="281952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Трёхфазная моде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22"/>
          <p:cNvSpPr/>
          <p:nvPr/>
        </p:nvSpPr>
        <p:spPr>
          <a:xfrm>
            <a:off x="4724280" y="5105520"/>
            <a:ext cx="16002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Круж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на мест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23"/>
          <p:cNvSpPr/>
          <p:nvPr/>
        </p:nvSpPr>
        <p:spPr>
          <a:xfrm>
            <a:off x="5791320" y="6019920"/>
            <a:ext cx="16002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Стабилиз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24"/>
          <p:cNvSpPr/>
          <p:nvPr/>
        </p:nvSpPr>
        <p:spPr>
          <a:xfrm>
            <a:off x="6934320" y="5105520"/>
            <a:ext cx="2133360" cy="838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Целенаправленна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деятельность</a:t>
            </a: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5"/>
          <p:cNvSpPr/>
          <p:nvPr/>
        </p:nvSpPr>
        <p:spPr>
          <a:xfrm>
            <a:off x="4952880" y="2819520"/>
            <a:ext cx="1676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6705720" y="38098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7"/>
          <p:cNvSpPr/>
          <p:nvPr/>
        </p:nvSpPr>
        <p:spPr>
          <a:xfrm flipH="1">
            <a:off x="5562360" y="4495680"/>
            <a:ext cx="53316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7162920" y="4495680"/>
            <a:ext cx="83808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6629400" y="4495680"/>
            <a:ext cx="0" cy="1524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30"/>
          <p:cNvSpPr/>
          <p:nvPr/>
        </p:nvSpPr>
        <p:spPr>
          <a:xfrm>
            <a:off x="3200400" y="533520"/>
            <a:ext cx="2743200" cy="1371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eecfc"/>
                </a:solidFill>
                <a:latin typeface="Courier New"/>
              </a:rPr>
              <a:t>Коллекти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eecfc"/>
                </a:solidFill>
                <a:latin typeface="Courier New"/>
              </a:rPr>
              <a:t>Конгломера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eecfc"/>
                </a:solidFill>
                <a:latin typeface="Courier New"/>
              </a:rPr>
              <a:t>Антиколлекти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31"/>
          <p:cNvSpPr/>
          <p:nvPr/>
        </p:nvSpPr>
        <p:spPr>
          <a:xfrm flipH="1" flipV="1">
            <a:off x="2703600" y="533160"/>
            <a:ext cx="7617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2"/>
          <p:cNvSpPr/>
          <p:nvPr/>
        </p:nvSpPr>
        <p:spPr>
          <a:xfrm flipV="1">
            <a:off x="5750640" y="456840"/>
            <a:ext cx="76212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5"/>
          <p:cNvSpPr/>
          <p:nvPr/>
        </p:nvSpPr>
        <p:spPr>
          <a:xfrm flipV="1">
            <a:off x="2703600" y="2282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6"/>
          <p:cNvSpPr/>
          <p:nvPr/>
        </p:nvSpPr>
        <p:spPr>
          <a:xfrm flipV="1">
            <a:off x="6513480" y="2282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37"/>
          <p:cNvSpPr/>
          <p:nvPr/>
        </p:nvSpPr>
        <p:spPr>
          <a:xfrm flipH="1">
            <a:off x="2703240" y="228600"/>
            <a:ext cx="3809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8"/>
          <p:cNvSpPr/>
          <p:nvPr/>
        </p:nvSpPr>
        <p:spPr>
          <a:xfrm>
            <a:off x="2748960" y="22860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1. Концепция Л.И. Уманск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9"/>
          <p:cNvSpPr/>
          <p:nvPr/>
        </p:nvSpPr>
        <p:spPr>
          <a:xfrm>
            <a:off x="2590920" y="502920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Сфера межличностн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актив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0"/>
          <p:cNvSpPr/>
          <p:nvPr/>
        </p:nvSpPr>
        <p:spPr>
          <a:xfrm>
            <a:off x="228600" y="472428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Сфе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деловой актив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1"/>
          <p:cNvSpPr/>
          <p:nvPr/>
        </p:nvSpPr>
        <p:spPr>
          <a:xfrm rot="19711800">
            <a:off x="2321280" y="83772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опер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2"/>
          <p:cNvSpPr/>
          <p:nvPr/>
        </p:nvSpPr>
        <p:spPr>
          <a:xfrm>
            <a:off x="4572000" y="1295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3"/>
          <p:cNvSpPr/>
          <p:nvPr/>
        </p:nvSpPr>
        <p:spPr>
          <a:xfrm flipV="1">
            <a:off x="4572000" y="8377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5"/>
          <p:cNvSpPr/>
          <p:nvPr/>
        </p:nvSpPr>
        <p:spPr>
          <a:xfrm rot="2778000">
            <a:off x="5658480" y="9687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номиз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1219320" y="838080"/>
            <a:ext cx="7315200" cy="480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1219320" y="3276720"/>
            <a:ext cx="7315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1219320" y="1523880"/>
            <a:ext cx="7315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1219320" y="2362320"/>
            <a:ext cx="7315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1219320" y="4038480"/>
            <a:ext cx="7315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1219320" y="4876920"/>
            <a:ext cx="7315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1371600" y="83808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4. Концепция развития малой группы М.Вудкок, Д.Фрэнс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1449720" y="174636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1 стадия - притир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1449360" y="261144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2 стадия – «ближний бой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1449360" y="34495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3 стадия - эксперимент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1449360" y="421164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4 стадия - эффектив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1449720" y="504972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5 стадия - зрел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"/>
          <p:cNvSpPr/>
          <p:nvPr/>
        </p:nvSpPr>
        <p:spPr>
          <a:xfrm>
            <a:off x="1066680" y="144792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5"/>
          <p:cNvSpPr/>
          <p:nvPr/>
        </p:nvSpPr>
        <p:spPr>
          <a:xfrm>
            <a:off x="990720" y="1371600"/>
            <a:ext cx="228600" cy="1447920"/>
          </a:xfrm>
          <a:custGeom>
            <a:avLst/>
            <a:gdLst>
              <a:gd name="textAreaLeft" fmla="*/ 66960 w 228600"/>
              <a:gd name="textAreaRight" fmla="*/ 228960 w 228600"/>
              <a:gd name="textAreaTop" fmla="*/ 60120 h 1447920"/>
              <a:gd name="textAreaBottom" fmla="*/ 138780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26"/>
          <p:cNvSpPr/>
          <p:nvPr/>
        </p:nvSpPr>
        <p:spPr>
          <a:xfrm>
            <a:off x="914400" y="1295280"/>
            <a:ext cx="304920" cy="2362320"/>
          </a:xfrm>
          <a:custGeom>
            <a:avLst/>
            <a:gdLst>
              <a:gd name="textAreaLeft" fmla="*/ 89640 w 304920"/>
              <a:gd name="textAreaRight" fmla="*/ 305280 w 304920"/>
              <a:gd name="textAreaTop" fmla="*/ 98280 h 2362320"/>
              <a:gd name="textAreaBottom" fmla="*/ 22640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27"/>
          <p:cNvSpPr/>
          <p:nvPr/>
        </p:nvSpPr>
        <p:spPr>
          <a:xfrm>
            <a:off x="838080" y="1219320"/>
            <a:ext cx="381240" cy="3200400"/>
          </a:xfrm>
          <a:custGeom>
            <a:avLst/>
            <a:gdLst>
              <a:gd name="textAreaLeft" fmla="*/ 111960 w 381240"/>
              <a:gd name="textAreaRight" fmla="*/ 381600 w 381240"/>
              <a:gd name="textAreaTop" fmla="*/ 133200 h 3200400"/>
              <a:gd name="textAreaBottom" fmla="*/ 306720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8"/>
          <p:cNvSpPr/>
          <p:nvPr/>
        </p:nvSpPr>
        <p:spPr>
          <a:xfrm>
            <a:off x="685800" y="1143000"/>
            <a:ext cx="533520" cy="4038480"/>
          </a:xfrm>
          <a:custGeom>
            <a:avLst/>
            <a:gdLst>
              <a:gd name="textAreaLeft" fmla="*/ 156600 w 533520"/>
              <a:gd name="textAreaRight" fmla="*/ 533880 w 533520"/>
              <a:gd name="textAreaTop" fmla="*/ 168120 h 4038480"/>
              <a:gd name="textAreaBottom" fmla="*/ 3870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523880" y="685800"/>
            <a:ext cx="609624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Courier New"/>
              </a:rPr>
              <a:t>Развитие малой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80880" y="2133720"/>
            <a:ext cx="2362320" cy="243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553080" y="2133720"/>
            <a:ext cx="2286000" cy="289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390840" y="2133720"/>
            <a:ext cx="2362320" cy="4190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80880" y="281952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3390840" y="281952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6553080" y="304812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1447920" y="1371600"/>
            <a:ext cx="312408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4572000" y="13716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4572000" y="1371600"/>
            <a:ext cx="320040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609480" y="2209680"/>
            <a:ext cx="182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5. Концепция И.В Волко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566160" y="2209680"/>
            <a:ext cx="200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6. Концепц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А.В Петровск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6553080" y="213372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7.Концепция для групп в различных условия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457200" y="2895480"/>
            <a:ext cx="2454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фаза первичного восприя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фаза сближ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фаза «сцеплени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3429000" y="2819520"/>
            <a:ext cx="2362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диффузонная групп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группа ассоци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группа коопе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группа коллекти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группа коман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6629400" y="3124080"/>
            <a:ext cx="2247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период ознаком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фаза дискусс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фаза ролев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орган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46:06Z</dcterms:modified>
  <cp:revision>21</cp:revision>
  <dc:subject/>
  <dc:title>PowerPoint Presentation</dc:title>
</cp:coreProperties>
</file>