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17D0-BDC9-4174-864F-68A8BA55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9DF-A0FD-4658-BB40-478251A3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F5A-72BB-412A-A70B-2307AE48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EDD-4A31-49F2-87D1-FA7C0B01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331F-4052-43AE-BB2A-73AC2176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A92-15BB-4148-A77D-E09C61A9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14E-09FD-419B-96A3-A1E48698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89FA-B31E-4417-BC77-59D9ECA3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635-8819-4887-A7AF-168236CD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292-DDDC-42BC-A383-E72E05BB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2B5-C1AE-46AB-8C94-3DFBB3B2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C801-6AC5-4E69-9FC1-EFEE57FA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f3"/>
            </a:gs>
            <a:gs pos="100000">
              <a:srgbClr val="00a9f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160B-EC45-4F71-8149-86C6F9765B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130a8c"/>
                </a:solidFill>
                <a:latin typeface="Times New Roman"/>
              </a:rPr>
              <a:t>Тема 3.5.   </a:t>
            </a:r>
            <a:r>
              <a:rPr b="1" lang="ru-RU" sz="3200" spc="-1" strike="noStrike">
                <a:solidFill>
                  <a:srgbClr val="130a8c"/>
                </a:solidFill>
                <a:latin typeface="Times New Roman"/>
              </a:rPr>
              <a:t>Психология конфликтов.</a:t>
            </a:r>
            <a:r>
              <a:rPr b="1" lang="ru-RU" sz="4000" spc="-1" strike="noStrike">
                <a:solidFill>
                  <a:srgbClr val="130a8c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0040" y="3352680"/>
            <a:ext cx="7958160" cy="32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теме будут рассмотрены вопрос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утриличностные конфликты: формы проявления и способы разреш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личностные конфликты и управление и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нятие групповых конфликтов и их классифика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. Соснин В.А. Социальная психология: учебник для спо / В.А. Соснин, Е.А. Красникова. - М.: ФОРУМ: ИНФРА-М.- 2009. - 336 с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. Социальная психология: учебник для спо / С.А. Сущенко, Т.В. Плотникова, Н.И. Сидоркин. - 2-е изд. - Ростов н/Д: Феникс.- 2009. - 345 с. - (Среднее проф. образование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. Крысько В.Г.    Социальная психология / В.Г. Крысько. - 2-е изд. - М. [и др.]: Питер.- 2010. - 431 с. - (Учебник для вузов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. Морозов,А.В.    Социальная психология : учебник для вузов / Морозов,А.В. - 2-е изд. - М. : Академический проект: Логос.- 2010. - 336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62120" y="2146320"/>
            <a:ext cx="76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езультате изучения темы вы будете иметь представления о психологических особенностях некоторых видов конфликтов, причин их возникновения и способах управления и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762120" y="38088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аздел 3.  Социальная психология.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3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666880" y="838080"/>
            <a:ext cx="3810240" cy="914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23b6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руппов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нфлик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457200" y="3352680"/>
            <a:ext cx="3124080" cy="8384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23b6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личность-групп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5562720" y="3352680"/>
            <a:ext cx="3124080" cy="8384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23b6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группа-групп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5"/>
          <p:cNvSpPr/>
          <p:nvPr/>
        </p:nvSpPr>
        <p:spPr>
          <a:xfrm flipV="1">
            <a:off x="2209680" y="1752120"/>
            <a:ext cx="221004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4572000" y="1752480"/>
            <a:ext cx="22860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2209680" y="762120"/>
            <a:ext cx="4648320" cy="1143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нфли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личность-групп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838080" y="2666880"/>
            <a:ext cx="2057400" cy="15242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бъек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ч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838080" y="3276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3505320" y="3276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8"/>
          <p:cNvSpPr/>
          <p:nvPr/>
        </p:nvSpPr>
        <p:spPr>
          <a:xfrm>
            <a:off x="6324480" y="3276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63244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"/>
          <p:cNvSpPr/>
          <p:nvPr/>
        </p:nvSpPr>
        <p:spPr>
          <a:xfrm>
            <a:off x="6324480" y="4191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6324480" y="4876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2"/>
          <p:cNvSpPr/>
          <p:nvPr/>
        </p:nvSpPr>
        <p:spPr>
          <a:xfrm flipH="1">
            <a:off x="1828800" y="1905120"/>
            <a:ext cx="2666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449568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>
            <a:off x="4495680" y="1905120"/>
            <a:ext cx="2743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7"/>
          <p:cNvSpPr/>
          <p:nvPr/>
        </p:nvSpPr>
        <p:spPr>
          <a:xfrm>
            <a:off x="3505320" y="2666880"/>
            <a:ext cx="2057400" cy="15242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3162600" y="2757600"/>
            <a:ext cx="197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3565440" y="3390840"/>
            <a:ext cx="17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ож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диви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0"/>
          <p:cNvSpPr/>
          <p:nvPr/>
        </p:nvSpPr>
        <p:spPr>
          <a:xfrm>
            <a:off x="6324480" y="2666880"/>
            <a:ext cx="2057400" cy="26672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6406560" y="2604960"/>
            <a:ext cx="1374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явлен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6692400" y="3338640"/>
            <a:ext cx="1108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уппов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нк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3"/>
          <p:cNvSpPr/>
          <p:nvPr/>
        </p:nvSpPr>
        <p:spPr>
          <a:xfrm>
            <a:off x="6693480" y="3871800"/>
            <a:ext cx="157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кращ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формальн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щени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4"/>
          <p:cNvSpPr/>
          <p:nvPr/>
        </p:nvSpPr>
        <p:spPr>
          <a:xfrm>
            <a:off x="6705720" y="464832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итика в адре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фликтующи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6"/>
          <p:cNvSpPr/>
          <p:nvPr/>
        </p:nvSpPr>
        <p:spPr>
          <a:xfrm>
            <a:off x="3505320" y="3276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7"/>
          <p:cNvSpPr/>
          <p:nvPr/>
        </p:nvSpPr>
        <p:spPr>
          <a:xfrm>
            <a:off x="6324480" y="3276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324480" y="3657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32448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30"/>
          <p:cNvSpPr/>
          <p:nvPr/>
        </p:nvSpPr>
        <p:spPr>
          <a:xfrm>
            <a:off x="6324480" y="4952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Oval 2"/>
          <p:cNvSpPr/>
          <p:nvPr/>
        </p:nvSpPr>
        <p:spPr>
          <a:xfrm>
            <a:off x="3429000" y="228600"/>
            <a:ext cx="1981080" cy="137160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5000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дер-груп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3"/>
          <p:cNvSpPr/>
          <p:nvPr/>
        </p:nvSpPr>
        <p:spPr>
          <a:xfrm>
            <a:off x="2743200" y="2057400"/>
            <a:ext cx="3352680" cy="24382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5000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ариан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фли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личность-групп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5"/>
          <p:cNvSpPr/>
          <p:nvPr/>
        </p:nvSpPr>
        <p:spPr>
          <a:xfrm>
            <a:off x="6095880" y="4495680"/>
            <a:ext cx="2438640" cy="19814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5000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ядовой чл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лектива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лекти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533520" y="4495680"/>
            <a:ext cx="2438280" cy="19814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5000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ководитель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лекти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7"/>
          <p:cNvSpPr/>
          <p:nvPr/>
        </p:nvSpPr>
        <p:spPr>
          <a:xfrm flipH="1">
            <a:off x="2514240" y="4114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5715000" y="411480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9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1676520" y="533520"/>
            <a:ext cx="571500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правление конфликт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личность-групп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3657600" y="2209680"/>
            <a:ext cx="1981080" cy="6858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АП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3200400" y="3352680"/>
            <a:ext cx="2895480" cy="2286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ноз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упре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ул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5"/>
          <p:cNvSpPr/>
          <p:nvPr/>
        </p:nvSpPr>
        <p:spPr>
          <a:xfrm>
            <a:off x="3200400" y="38862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3200400" y="4495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7"/>
          <p:cNvSpPr/>
          <p:nvPr/>
        </p:nvSpPr>
        <p:spPr>
          <a:xfrm>
            <a:off x="3200400" y="51055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4572000" y="1676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457200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1295280" y="685800"/>
            <a:ext cx="6553440" cy="7621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ежгрупповой конфли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2971800" y="2286000"/>
            <a:ext cx="3352680" cy="380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295280" y="2666880"/>
            <a:ext cx="6629400" cy="19814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олкновение групповых мотив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 индивидуализация взаимного восприят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адекватное социальное сравн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упповая атрибу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ы протек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4572000" y="1447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Oval 2"/>
          <p:cNvSpPr/>
          <p:nvPr/>
        </p:nvSpPr>
        <p:spPr>
          <a:xfrm>
            <a:off x="533520" y="380880"/>
            <a:ext cx="2438280" cy="152424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аци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3"/>
          <p:cNvSpPr/>
          <p:nvPr/>
        </p:nvSpPr>
        <p:spPr>
          <a:xfrm>
            <a:off x="3276720" y="380880"/>
            <a:ext cx="2438280" cy="152424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 микр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уппами  внутр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лекти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4"/>
          <p:cNvSpPr/>
          <p:nvPr/>
        </p:nvSpPr>
        <p:spPr>
          <a:xfrm>
            <a:off x="6172200" y="380880"/>
            <a:ext cx="2438280" cy="152424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формальны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уппами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3124080" y="2895480"/>
            <a:ext cx="2743200" cy="12193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ариан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ежгруппов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фли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7"/>
          <p:cNvSpPr/>
          <p:nvPr/>
        </p:nvSpPr>
        <p:spPr>
          <a:xfrm>
            <a:off x="380880" y="4724280"/>
            <a:ext cx="2438640" cy="152424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ковод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ации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сон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8"/>
          <p:cNvSpPr/>
          <p:nvPr/>
        </p:nvSpPr>
        <p:spPr>
          <a:xfrm>
            <a:off x="3276720" y="4800600"/>
            <a:ext cx="2438280" cy="15238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министрация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союз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9"/>
          <p:cNvSpPr/>
          <p:nvPr/>
        </p:nvSpPr>
        <p:spPr>
          <a:xfrm>
            <a:off x="6172200" y="4724280"/>
            <a:ext cx="2438280" cy="152424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разделени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утр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441972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1"/>
          <p:cNvSpPr/>
          <p:nvPr/>
        </p:nvSpPr>
        <p:spPr>
          <a:xfrm flipV="1">
            <a:off x="4419720" y="1904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6"/>
          <p:cNvSpPr/>
          <p:nvPr/>
        </p:nvSpPr>
        <p:spPr>
          <a:xfrm flipV="1">
            <a:off x="5410080" y="1904760"/>
            <a:ext cx="19051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7"/>
          <p:cNvSpPr/>
          <p:nvPr/>
        </p:nvSpPr>
        <p:spPr>
          <a:xfrm flipH="1" flipV="1">
            <a:off x="1752480" y="1904760"/>
            <a:ext cx="19051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8"/>
          <p:cNvSpPr/>
          <p:nvPr/>
        </p:nvSpPr>
        <p:spPr>
          <a:xfrm flipH="1">
            <a:off x="1676160" y="4114800"/>
            <a:ext cx="2057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5334120" y="4114800"/>
            <a:ext cx="2057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2590920" y="380880"/>
            <a:ext cx="3886200" cy="1371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пр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ежгруппов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фликт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733920" y="2514600"/>
            <a:ext cx="1752480" cy="609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АП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743200" y="3505320"/>
            <a:ext cx="3733920" cy="21333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ноз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упре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ул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5"/>
          <p:cNvSpPr/>
          <p:nvPr/>
        </p:nvSpPr>
        <p:spPr>
          <a:xfrm>
            <a:off x="2743200" y="39625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2743200" y="45720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8"/>
          <p:cNvSpPr/>
          <p:nvPr/>
        </p:nvSpPr>
        <p:spPr>
          <a:xfrm>
            <a:off x="2743200" y="5181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4495680" y="1752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44956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286000" y="457200"/>
            <a:ext cx="4648320" cy="4572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утриличнос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685800" y="1371600"/>
            <a:ext cx="7924680" cy="34290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4"/>
          <p:cNvSpPr/>
          <p:nvPr/>
        </p:nvSpPr>
        <p:spPr>
          <a:xfrm>
            <a:off x="3352680" y="2362320"/>
            <a:ext cx="2667240" cy="1447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нфли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2819520" y="1600200"/>
            <a:ext cx="3733560" cy="5335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ноз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3352680" y="4038480"/>
            <a:ext cx="2819520" cy="4572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762120" y="2743200"/>
            <a:ext cx="2286000" cy="6858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упре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6248520" y="2743200"/>
            <a:ext cx="2286000" cy="609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ул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 flipV="1">
            <a:off x="4648320" y="213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60199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464832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 flipH="1">
            <a:off x="30481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685800" y="5105520"/>
            <a:ext cx="2895480" cy="4572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личнос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5715000" y="5105520"/>
            <a:ext cx="2895480" cy="4572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уппов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3581280" y="5867280"/>
            <a:ext cx="2133720" cy="6858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чность и груп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6477120" y="5867280"/>
            <a:ext cx="2133360" cy="6858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уппа и груп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7"/>
          <p:cNvSpPr/>
          <p:nvPr/>
        </p:nvSpPr>
        <p:spPr>
          <a:xfrm flipH="1">
            <a:off x="2057040" y="3581280"/>
            <a:ext cx="16765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8"/>
          <p:cNvSpPr/>
          <p:nvPr/>
        </p:nvSpPr>
        <p:spPr>
          <a:xfrm>
            <a:off x="5562720" y="3657600"/>
            <a:ext cx="16002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9"/>
          <p:cNvSpPr/>
          <p:nvPr/>
        </p:nvSpPr>
        <p:spPr>
          <a:xfrm flipH="1">
            <a:off x="4648320" y="5562720"/>
            <a:ext cx="2133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1"/>
          <p:cNvSpPr/>
          <p:nvPr/>
        </p:nvSpPr>
        <p:spPr>
          <a:xfrm>
            <a:off x="7162920" y="5562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2"/>
          <p:cNvSpPr/>
          <p:nvPr/>
        </p:nvSpPr>
        <p:spPr>
          <a:xfrm flipV="1">
            <a:off x="4648320" y="914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просы для самоконтрол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160" y="685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йте определение внутриличностного конфликта и выделите его особен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числите основные психологические концепции внутриличностного конфлик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каких формах проявляется внутриличностный конфликт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числите способы разрешения внутриличностных конфликт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овы особенности межличностных конфликтов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зовите сферы проявления и типы межличностных конфликт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кройте основное содержание управленческой деятельности по прогнозированию, регулированию и разрешению межличностных конфликт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какие типы делятся групповые конфликты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м отличается конфликт «личность-группа» от конфликтов «группа-группа»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числите варианты межгрупповых конфликт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2820600" y="429408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просы для обсужде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609480" y="5029200"/>
            <a:ext cx="825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им образом связаны конфликтность человека и его психическое здоровье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ясните почему конфликтами можно и нужно управлять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3200400" y="609480"/>
            <a:ext cx="2438280" cy="1143000"/>
          </a:xfrm>
          <a:prstGeom prst="rect">
            <a:avLst/>
          </a:prstGeom>
          <a:gradFill rotWithShape="0">
            <a:gsLst>
              <a:gs pos="0">
                <a:srgbClr val="add6ff"/>
              </a:gs>
              <a:gs pos="50000">
                <a:srgbClr val="3399ff"/>
              </a:gs>
              <a:gs pos="100000">
                <a:srgbClr val="add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Т СУБЪЕК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ФЛИКТН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АИМО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895480" y="2514600"/>
            <a:ext cx="3048120" cy="838080"/>
          </a:xfrm>
          <a:prstGeom prst="rect">
            <a:avLst/>
          </a:prstGeom>
          <a:gradFill rotWithShape="0">
            <a:gsLst>
              <a:gs pos="0">
                <a:srgbClr val="add6ff"/>
              </a:gs>
              <a:gs pos="50000">
                <a:srgbClr val="3399ff"/>
              </a:gs>
              <a:gs pos="100000">
                <a:srgbClr val="add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НУТРИЛИЧНОС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НФЛИ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6"/>
          <p:cNvSpPr/>
          <p:nvPr/>
        </p:nvSpPr>
        <p:spPr>
          <a:xfrm>
            <a:off x="3124080" y="4114800"/>
            <a:ext cx="2438640" cy="1295280"/>
          </a:xfrm>
          <a:prstGeom prst="ellipse">
            <a:avLst/>
          </a:prstGeom>
          <a:gradFill rotWithShape="0">
            <a:gsLst>
              <a:gs pos="0">
                <a:srgbClr val="add6ff"/>
              </a:gs>
              <a:gs pos="50000">
                <a:srgbClr val="3399ff"/>
              </a:gs>
              <a:gs pos="100000">
                <a:srgbClr val="add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Ч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28600" y="2362320"/>
            <a:ext cx="1905120" cy="1295280"/>
          </a:xfrm>
          <a:prstGeom prst="rect">
            <a:avLst/>
          </a:prstGeom>
          <a:gradFill rotWithShape="0">
            <a:gsLst>
              <a:gs pos="0">
                <a:srgbClr val="add6ff"/>
              </a:gs>
              <a:gs pos="50000">
                <a:srgbClr val="3399ff"/>
              </a:gs>
              <a:gs pos="100000">
                <a:srgbClr val="add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ФОР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ЯЖЁЛ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ЖИВА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6705720" y="2362320"/>
            <a:ext cx="1752480" cy="1295280"/>
          </a:xfrm>
          <a:prstGeom prst="rect">
            <a:avLst/>
          </a:prstGeom>
          <a:gradFill rotWithShape="0">
            <a:gsLst>
              <a:gs pos="0">
                <a:srgbClr val="add6ff"/>
              </a:gs>
              <a:gs pos="50000">
                <a:srgbClr val="3399ff"/>
              </a:gs>
              <a:gs pos="100000">
                <a:srgbClr val="add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АТЕНТ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2133720" y="36576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1"/>
          <p:cNvSpPr/>
          <p:nvPr/>
        </p:nvSpPr>
        <p:spPr>
          <a:xfrm flipH="1">
            <a:off x="5409720" y="3657600"/>
            <a:ext cx="129564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5638680" y="1752480"/>
            <a:ext cx="106704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3"/>
          <p:cNvSpPr/>
          <p:nvPr/>
        </p:nvSpPr>
        <p:spPr>
          <a:xfrm flipH="1">
            <a:off x="2133360" y="17524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4"/>
          <p:cNvSpPr/>
          <p:nvPr/>
        </p:nvSpPr>
        <p:spPr>
          <a:xfrm flipH="1">
            <a:off x="2133720" y="2895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5943600" y="289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6"/>
          <p:cNvSpPr/>
          <p:nvPr/>
        </p:nvSpPr>
        <p:spPr>
          <a:xfrm flipV="1">
            <a:off x="4343400" y="17521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7"/>
          <p:cNvSpPr/>
          <p:nvPr/>
        </p:nvSpPr>
        <p:spPr>
          <a:xfrm>
            <a:off x="4343400" y="3352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6094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99cc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НЦЕПЦИИ     ВНУТРИЛИЧНОСТНЫХ      КОНФЛИКТ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0880" y="2438280"/>
            <a:ext cx="2133720" cy="5335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99cc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. Фрей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629400" y="2438280"/>
            <a:ext cx="2133720" cy="5335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99cc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. Адл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6"/>
          <p:cNvSpPr/>
          <p:nvPr/>
        </p:nvSpPr>
        <p:spPr>
          <a:xfrm flipV="1">
            <a:off x="1905120" y="1143000"/>
            <a:ext cx="190476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7"/>
          <p:cNvSpPr/>
          <p:nvPr/>
        </p:nvSpPr>
        <p:spPr>
          <a:xfrm>
            <a:off x="4952880" y="1143000"/>
            <a:ext cx="2210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1981080" y="3809880"/>
            <a:ext cx="5181840" cy="4572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99cc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снова    внутриличностного   конфлик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22096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1"/>
          <p:cNvSpPr/>
          <p:nvPr/>
        </p:nvSpPr>
        <p:spPr>
          <a:xfrm>
            <a:off x="685800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457200" y="5257800"/>
            <a:ext cx="2743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рьб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стин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6324480" y="525780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лек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олноц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380880" y="29718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8763120" y="29718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7"/>
          <p:cNvSpPr/>
          <p:nvPr/>
        </p:nvSpPr>
        <p:spPr>
          <a:xfrm>
            <a:off x="380880" y="63244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9"/>
          <p:cNvSpPr/>
          <p:nvPr/>
        </p:nvSpPr>
        <p:spPr>
          <a:xfrm flipH="1">
            <a:off x="8229600" y="5638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3"/>
          <p:cNvSpPr/>
          <p:nvPr/>
        </p:nvSpPr>
        <p:spPr>
          <a:xfrm>
            <a:off x="38088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6"/>
          <p:cNvSpPr/>
          <p:nvPr/>
        </p:nvSpPr>
        <p:spPr>
          <a:xfrm flipH="1">
            <a:off x="2514240" y="426708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7"/>
          <p:cNvSpPr/>
          <p:nvPr/>
        </p:nvSpPr>
        <p:spPr>
          <a:xfrm>
            <a:off x="5334120" y="426708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1371600" y="380880"/>
            <a:ext cx="6553080" cy="6098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295280" y="1828800"/>
            <a:ext cx="1371600" cy="53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. Юн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2971800" y="1828800"/>
            <a:ext cx="1371600" cy="53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. Фром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724280" y="1828800"/>
            <a:ext cx="1371600" cy="53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. Эрикс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6477120" y="1828800"/>
            <a:ext cx="1371600" cy="53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. Леви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>
            <a:off x="1905120" y="990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8"/>
          <p:cNvSpPr/>
          <p:nvPr/>
        </p:nvSpPr>
        <p:spPr>
          <a:xfrm>
            <a:off x="3581280" y="990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>
            <a:off x="5334120" y="990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7162920" y="990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1219320" y="3352680"/>
            <a:ext cx="6629400" cy="6098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а  внутриличностного  конфли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190512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35812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533412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716292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57200" y="4648320"/>
            <a:ext cx="205740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авленнос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страверс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роверс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648320"/>
            <a:ext cx="213372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зистенциона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из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мер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648320" y="4648320"/>
            <a:ext cx="205740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изис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ту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6705720" y="4648320"/>
            <a:ext cx="205740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 объ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0"/>
          <p:cNvSpPr/>
          <p:nvPr/>
        </p:nvSpPr>
        <p:spPr>
          <a:xfrm>
            <a:off x="190512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1"/>
          <p:cNvSpPr/>
          <p:nvPr/>
        </p:nvSpPr>
        <p:spPr>
          <a:xfrm>
            <a:off x="358128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2"/>
          <p:cNvSpPr/>
          <p:nvPr/>
        </p:nvSpPr>
        <p:spPr>
          <a:xfrm>
            <a:off x="533412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716292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24"/>
          <p:cNvSpPr txBox="1"/>
          <p:nvPr/>
        </p:nvSpPr>
        <p:spPr>
          <a:xfrm>
            <a:off x="1752480" y="380880"/>
            <a:ext cx="5757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c0c0c0"/>
                  </a:outerShdw>
                </a:effectLst>
                <a:latin typeface="Monotype Corsiva"/>
              </a:rPr>
              <a:t>Концепции      внутриличностных       конфликтов </a:t>
            </a: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 advTm="3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нутриличностный    конфли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>
            <a:off x="5105520" y="1676520"/>
            <a:ext cx="3200400" cy="33526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 разреш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роми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ориен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блим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деал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тесн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4"/>
          <p:cNvSpPr/>
          <p:nvPr/>
        </p:nvSpPr>
        <p:spPr>
          <a:xfrm>
            <a:off x="457200" y="1676520"/>
            <a:ext cx="2895480" cy="33526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 проявл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враст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йфор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ресс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ек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мадиз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ционализ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6"/>
          <p:cNvSpPr/>
          <p:nvPr/>
        </p:nvSpPr>
        <p:spPr>
          <a:xfrm>
            <a:off x="4572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7"/>
          <p:cNvSpPr/>
          <p:nvPr/>
        </p:nvSpPr>
        <p:spPr>
          <a:xfrm>
            <a:off x="45720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8"/>
          <p:cNvSpPr/>
          <p:nvPr/>
        </p:nvSpPr>
        <p:spPr>
          <a:xfrm>
            <a:off x="4572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9"/>
          <p:cNvSpPr/>
          <p:nvPr/>
        </p:nvSpPr>
        <p:spPr>
          <a:xfrm>
            <a:off x="45720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30"/>
          <p:cNvSpPr/>
          <p:nvPr/>
        </p:nvSpPr>
        <p:spPr>
          <a:xfrm>
            <a:off x="45720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1"/>
          <p:cNvSpPr/>
          <p:nvPr/>
        </p:nvSpPr>
        <p:spPr>
          <a:xfrm>
            <a:off x="4572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2"/>
          <p:cNvSpPr/>
          <p:nvPr/>
        </p:nvSpPr>
        <p:spPr>
          <a:xfrm>
            <a:off x="7391520" y="487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3"/>
          <p:cNvSpPr/>
          <p:nvPr/>
        </p:nvSpPr>
        <p:spPr>
          <a:xfrm>
            <a:off x="7391520" y="2666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5"/>
          <p:cNvSpPr/>
          <p:nvPr/>
        </p:nvSpPr>
        <p:spPr>
          <a:xfrm>
            <a:off x="739152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6"/>
          <p:cNvSpPr/>
          <p:nvPr/>
        </p:nvSpPr>
        <p:spPr>
          <a:xfrm>
            <a:off x="7391520" y="3429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7"/>
          <p:cNvSpPr/>
          <p:nvPr/>
        </p:nvSpPr>
        <p:spPr>
          <a:xfrm>
            <a:off x="73915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8"/>
          <p:cNvSpPr/>
          <p:nvPr/>
        </p:nvSpPr>
        <p:spPr>
          <a:xfrm>
            <a:off x="7391520" y="4114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9"/>
          <p:cNvSpPr/>
          <p:nvPr/>
        </p:nvSpPr>
        <p:spPr>
          <a:xfrm>
            <a:off x="7391520" y="449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0"/>
          <p:cNvSpPr/>
          <p:nvPr/>
        </p:nvSpPr>
        <p:spPr>
          <a:xfrm flipH="1">
            <a:off x="1752120" y="990720"/>
            <a:ext cx="2590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41"/>
          <p:cNvSpPr/>
          <p:nvPr/>
        </p:nvSpPr>
        <p:spPr>
          <a:xfrm>
            <a:off x="4648320" y="9907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2"/>
          <p:cNvSpPr/>
          <p:nvPr/>
        </p:nvSpPr>
        <p:spPr>
          <a:xfrm>
            <a:off x="457200" y="22860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43"/>
          <p:cNvSpPr/>
          <p:nvPr/>
        </p:nvSpPr>
        <p:spPr>
          <a:xfrm>
            <a:off x="5105520" y="2286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Oval 4"/>
          <p:cNvSpPr/>
          <p:nvPr/>
        </p:nvSpPr>
        <p:spPr>
          <a:xfrm>
            <a:off x="533520" y="380880"/>
            <a:ext cx="2438280" cy="12956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50000">
                <a:srgbClr val="ccecff"/>
              </a:gs>
              <a:gs pos="100000">
                <a:srgbClr val="00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Полигон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провер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рактер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3429000" y="380880"/>
            <a:ext cx="2438280" cy="12956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50000">
                <a:srgbClr val="ccecff"/>
              </a:gs>
              <a:gs pos="100000">
                <a:srgbClr val="00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со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моциональ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6"/>
          <p:cNvSpPr/>
          <p:nvPr/>
        </p:nvSpPr>
        <p:spPr>
          <a:xfrm>
            <a:off x="6248520" y="380880"/>
            <a:ext cx="2438280" cy="12956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50000">
                <a:srgbClr val="ccecff"/>
              </a:gs>
              <a:gs pos="100000">
                <a:srgbClr val="00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трагиваю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терес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г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676520" y="2286000"/>
            <a:ext cx="5790960" cy="8380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50000">
                <a:srgbClr val="ccecff"/>
              </a:gs>
              <a:gs pos="100000">
                <a:srgbClr val="00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ежличностный конфли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1905120" y="3505320"/>
            <a:ext cx="1600200" cy="114300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50000">
                <a:srgbClr val="ccecff"/>
              </a:gs>
              <a:gs pos="100000">
                <a:srgbClr val="00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11"/>
          <p:cNvSpPr/>
          <p:nvPr/>
        </p:nvSpPr>
        <p:spPr>
          <a:xfrm>
            <a:off x="5562720" y="3505320"/>
            <a:ext cx="1600200" cy="114300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50000">
                <a:srgbClr val="ccecff"/>
              </a:gs>
              <a:gs pos="100000">
                <a:srgbClr val="00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25909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6324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4"/>
          <p:cNvSpPr/>
          <p:nvPr/>
        </p:nvSpPr>
        <p:spPr>
          <a:xfrm flipV="1">
            <a:off x="4572000" y="1676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5"/>
          <p:cNvSpPr/>
          <p:nvPr/>
        </p:nvSpPr>
        <p:spPr>
          <a:xfrm>
            <a:off x="380880" y="5029200"/>
            <a:ext cx="2743200" cy="152388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50000">
                <a:srgbClr val="ccecff"/>
              </a:gs>
              <a:gs pos="100000">
                <a:srgbClr val="00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исход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десь и сейча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6"/>
          <p:cNvSpPr/>
          <p:nvPr/>
        </p:nvSpPr>
        <p:spPr>
          <a:xfrm>
            <a:off x="6095880" y="4952880"/>
            <a:ext cx="2743200" cy="15242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50000">
                <a:srgbClr val="ccecff"/>
              </a:gs>
              <a:gs pos="100000">
                <a:srgbClr val="00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являе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сь спектр прич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3124080" y="57150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8"/>
          <p:cNvSpPr/>
          <p:nvPr/>
        </p:nvSpPr>
        <p:spPr>
          <a:xfrm>
            <a:off x="1676520" y="16765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9"/>
          <p:cNvSpPr/>
          <p:nvPr/>
        </p:nvSpPr>
        <p:spPr>
          <a:xfrm>
            <a:off x="7467480" y="16765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0"/>
          <p:cNvSpPr/>
          <p:nvPr/>
        </p:nvSpPr>
        <p:spPr>
          <a:xfrm>
            <a:off x="3505320" y="4038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1"/>
          <p:cNvSpPr/>
          <p:nvPr/>
        </p:nvSpPr>
        <p:spPr>
          <a:xfrm>
            <a:off x="297180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2"/>
          <p:cNvSpPr/>
          <p:nvPr/>
        </p:nvSpPr>
        <p:spPr>
          <a:xfrm>
            <a:off x="5867280" y="1066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28600" y="228600"/>
            <a:ext cx="8686800" cy="68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феры  проявления  межличностных  конфлик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228600" y="1219320"/>
            <a:ext cx="2590920" cy="91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лекти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организац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648320" y="1066680"/>
            <a:ext cx="4038480" cy="1295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ководитель-подчинен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ду сотрудниками одного р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ужеб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служеб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 flipV="1">
            <a:off x="2819520" y="137124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2819520" y="1676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2819520" y="167652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819520" y="1676520"/>
            <a:ext cx="1828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1371600" y="914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3352680" y="12193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и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228600" y="2666880"/>
            <a:ext cx="2590920" cy="762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4648320" y="2514600"/>
            <a:ext cx="4038480" cy="1143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пруж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и-де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пруги-родственн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3"/>
          <p:cNvSpPr/>
          <p:nvPr/>
        </p:nvSpPr>
        <p:spPr>
          <a:xfrm flipV="1">
            <a:off x="2819520" y="2819520"/>
            <a:ext cx="1828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2819520" y="3124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5"/>
          <p:cNvSpPr/>
          <p:nvPr/>
        </p:nvSpPr>
        <p:spPr>
          <a:xfrm>
            <a:off x="2819520" y="31240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3429000" y="266688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и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7"/>
          <p:cNvSpPr/>
          <p:nvPr/>
        </p:nvSpPr>
        <p:spPr>
          <a:xfrm>
            <a:off x="228600" y="3809880"/>
            <a:ext cx="2971800" cy="12193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ство (учрежд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. сферы, гос. учреж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ния, обществен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анспор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4648320" y="3809880"/>
            <a:ext cx="4038480" cy="12956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жданин-обще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жданин-чинов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9"/>
          <p:cNvSpPr/>
          <p:nvPr/>
        </p:nvSpPr>
        <p:spPr>
          <a:xfrm flipV="1">
            <a:off x="3200400" y="4343040"/>
            <a:ext cx="1447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3200400" y="4495680"/>
            <a:ext cx="1447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1"/>
          <p:cNvSpPr/>
          <p:nvPr/>
        </p:nvSpPr>
        <p:spPr>
          <a:xfrm>
            <a:off x="13716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13716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3"/>
          <p:cNvSpPr/>
          <p:nvPr/>
        </p:nvSpPr>
        <p:spPr>
          <a:xfrm>
            <a:off x="228600" y="5410080"/>
            <a:ext cx="2971800" cy="11430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личност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4"/>
          <p:cNvSpPr/>
          <p:nvPr/>
        </p:nvSpPr>
        <p:spPr>
          <a:xfrm>
            <a:off x="4648320" y="5181480"/>
            <a:ext cx="4038480" cy="14479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заимно-положитель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заимно-отрицатель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заимно противоречив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различ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дносторонне-положительн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рицатель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5"/>
          <p:cNvSpPr/>
          <p:nvPr/>
        </p:nvSpPr>
        <p:spPr>
          <a:xfrm flipV="1">
            <a:off x="3200400" y="533376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6"/>
          <p:cNvSpPr/>
          <p:nvPr/>
        </p:nvSpPr>
        <p:spPr>
          <a:xfrm flipV="1">
            <a:off x="3200400" y="556272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7"/>
          <p:cNvSpPr/>
          <p:nvPr/>
        </p:nvSpPr>
        <p:spPr>
          <a:xfrm flipV="1">
            <a:off x="3200400" y="579096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8"/>
          <p:cNvSpPr/>
          <p:nvPr/>
        </p:nvSpPr>
        <p:spPr>
          <a:xfrm>
            <a:off x="3200400" y="6019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9"/>
          <p:cNvSpPr/>
          <p:nvPr/>
        </p:nvSpPr>
        <p:spPr>
          <a:xfrm>
            <a:off x="3200400" y="601992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0"/>
          <p:cNvSpPr/>
          <p:nvPr/>
        </p:nvSpPr>
        <p:spPr>
          <a:xfrm>
            <a:off x="137160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1"/>
          <p:cNvSpPr/>
          <p:nvPr/>
        </p:nvSpPr>
        <p:spPr>
          <a:xfrm>
            <a:off x="3429000" y="411480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и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2"/>
          <p:cNvSpPr/>
          <p:nvPr/>
        </p:nvSpPr>
        <p:spPr>
          <a:xfrm>
            <a:off x="3429000" y="53341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и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2971800" y="2666880"/>
            <a:ext cx="3200400" cy="1524240"/>
          </a:xfrm>
          <a:prstGeom prst="rect">
            <a:avLst/>
          </a:prstGeom>
          <a:gradFill rotWithShape="0">
            <a:gsLst>
              <a:gs pos="0">
                <a:srgbClr val="ff603b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 rot="18600000">
            <a:off x="304920" y="1904400"/>
            <a:ext cx="2057400" cy="914400"/>
          </a:xfrm>
          <a:prstGeom prst="rect">
            <a:avLst/>
          </a:prstGeom>
          <a:gradFill rotWithShape="0">
            <a:gsLst>
              <a:gs pos="0">
                <a:srgbClr val="43c0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еден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 rot="3000000">
            <a:off x="6743520" y="1866600"/>
            <a:ext cx="2057400" cy="914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43c0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ност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 rot="1800000">
            <a:off x="1219320" y="5257800"/>
            <a:ext cx="2057400" cy="914400"/>
          </a:xfrm>
          <a:prstGeom prst="rect">
            <a:avLst/>
          </a:prstGeom>
          <a:gradFill rotWithShape="0">
            <a:gsLst>
              <a:gs pos="0">
                <a:srgbClr val="43c0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 rot="19800000">
            <a:off x="5943600" y="5257800"/>
            <a:ext cx="2057400" cy="914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43c0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уктур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3352680" y="457200"/>
            <a:ext cx="2514600" cy="914400"/>
          </a:xfrm>
          <a:prstGeom prst="rect">
            <a:avLst/>
          </a:prstGeom>
          <a:gradFill rotWithShape="0">
            <a:gsLst>
              <a:gs pos="0">
                <a:srgbClr val="43c0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формацио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0"/>
          <p:cNvSpPr/>
          <p:nvPr/>
        </p:nvSpPr>
        <p:spPr>
          <a:xfrm flipV="1">
            <a:off x="6172200" y="25146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1"/>
          <p:cNvSpPr/>
          <p:nvPr/>
        </p:nvSpPr>
        <p:spPr>
          <a:xfrm flipH="1" flipV="1">
            <a:off x="1828440" y="25146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2"/>
          <p:cNvSpPr/>
          <p:nvPr/>
        </p:nvSpPr>
        <p:spPr>
          <a:xfrm flipV="1">
            <a:off x="4572000" y="1371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3"/>
          <p:cNvSpPr/>
          <p:nvPr/>
        </p:nvSpPr>
        <p:spPr>
          <a:xfrm flipH="1">
            <a:off x="2437920" y="4191120"/>
            <a:ext cx="129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4"/>
          <p:cNvSpPr/>
          <p:nvPr/>
        </p:nvSpPr>
        <p:spPr>
          <a:xfrm>
            <a:off x="5334120" y="419112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WordArt 25"/>
          <p:cNvSpPr txBox="1"/>
          <p:nvPr/>
        </p:nvSpPr>
        <p:spPr>
          <a:xfrm>
            <a:off x="3505320" y="2743200"/>
            <a:ext cx="21621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Факторы</a:t>
            </a:r>
            <a:endParaRPr b="0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0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межличностных </a:t>
            </a:r>
            <a:endParaRPr b="0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конфликтов</a:t>
            </a:r>
            <a:endParaRPr b="0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 advTm="3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219320" y="380880"/>
            <a:ext cx="6705360" cy="68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581280" y="2133720"/>
            <a:ext cx="2057400" cy="533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АП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666880" y="3505320"/>
            <a:ext cx="4114800" cy="23619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ноз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упре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ул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2743200" y="53341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2666880" y="41148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2666880" y="47242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4495680" y="1066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449568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1219320" y="457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правление   межличностными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фликт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52:29Z</dcterms:modified>
  <cp:revision>20</cp:revision>
  <dc:subject/>
  <dc:title>PowerPoint Presentation</dc:title>
</cp:coreProperties>
</file>