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1645-B0FD-43A2-9E34-C48D5B92A608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71CB-1588-402F-BE75-426C8E6FEA21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ыасвыя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67C-6FE1-4D5F-8C1B-239BCE27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860D-EAB3-4A3A-A0AF-80215285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56A-21D6-4B2F-80EB-83DA86E1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1DE-E203-4E5F-AD85-68340AFB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A3F0-2BB7-4618-AB8C-301FDE2B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7781-BC21-4CD1-A950-046B0846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C86-6837-4756-A629-0C36D682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1527-EA90-4AE4-A62A-D9BF27FC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1D0B-00D7-4F57-8A4A-904C6954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CE6-B548-400F-909C-81B1997D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05E-E86C-4F9C-A841-AB16641B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3ECC-3AD8-474D-996A-5726E1E4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e7fc"/>
            </a:gs>
            <a:gs pos="100000">
              <a:srgbClr val="0e7cd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CAFD-7320-4A60-9DF8-DEF2F810AF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f4fe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9907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Courier New"/>
              </a:rPr>
              <a:t>Тема 3.1.</a:t>
            </a:r>
            <a:r>
              <a:rPr b="1" lang="ru-RU" sz="2400" spc="-1" strike="noStrike">
                <a:solidFill>
                  <a:srgbClr val="0a5da2"/>
                </a:solidFill>
                <a:latin typeface="Courier New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Основа психологии малых групп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57200" y="1905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 результате изучения темы вы поймёте психологию малой группы и её влияние на поведение её членов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28760" y="2590920"/>
            <a:ext cx="8219880" cy="50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 теме будут рассмотрены вопросы: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Специфика социально-психологического подхода к пониманию групп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Сущность содержание понятия «малая  группа»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Классификация малых групп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Психологические характеристики малой групп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рысько В.Г.    Социальная психология / В.Г. Крысько. - 2-е изд. - М. [и др.]: Питер.- 2010. - 431 с. - (Учебник для вузов).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орозов,А.В.    Социальная психология : учебник для вузов / Морозов,А.В. - 2-е изд. - М. : Академический проект: Логос.- 2010. - 336.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762120" y="228600"/>
            <a:ext cx="754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аздел 3.Социальная психология малых групп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2247840" y="304920"/>
            <a:ext cx="4648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8f4fe"/>
                </a:solidFill>
                <a:latin typeface="Courier New"/>
              </a:rPr>
              <a:t>Малые групп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609480" y="19051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значимост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228600" y="3886200"/>
            <a:ext cx="1905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референт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2438280" y="464832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группы членств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5410080" y="1447920"/>
            <a:ext cx="3200400" cy="465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естествен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подоби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по общности интересов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организован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стихий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долговременные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кратковремен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устойчив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нестабиль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открыт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закрытые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развивающиес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психотренинг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5"/>
          <p:cNvCxnSpPr>
            <a:stCxn id="213" idx="2"/>
            <a:endCxn id="214" idx="0"/>
          </p:cNvCxnSpPr>
          <p:nvPr/>
        </p:nvCxnSpPr>
        <p:spPr>
          <a:xfrm flipH="1">
            <a:off x="1637640" y="771120"/>
            <a:ext cx="2934360" cy="1134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19" name="AutoShape 16"/>
          <p:cNvCxnSpPr>
            <a:stCxn id="214" idx="2"/>
            <a:endCxn id="215" idx="0"/>
          </p:cNvCxnSpPr>
          <p:nvPr/>
        </p:nvCxnSpPr>
        <p:spPr>
          <a:xfrm flipH="1">
            <a:off x="1180800" y="2281320"/>
            <a:ext cx="457920" cy="1605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20" name="AutoShape 17"/>
          <p:cNvCxnSpPr>
            <a:stCxn id="214" idx="2"/>
            <a:endCxn id="216" idx="0"/>
          </p:cNvCxnSpPr>
          <p:nvPr/>
        </p:nvCxnSpPr>
        <p:spPr>
          <a:xfrm>
            <a:off x="1638000" y="2280960"/>
            <a:ext cx="1943640" cy="2367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21" name="Text Box 12"/>
          <p:cNvSpPr/>
          <p:nvPr/>
        </p:nvSpPr>
        <p:spPr>
          <a:xfrm>
            <a:off x="3352680" y="1676520"/>
            <a:ext cx="160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другим основаниям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AutoShape 20"/>
          <p:cNvCxnSpPr>
            <a:stCxn id="213" idx="2"/>
            <a:endCxn id="221" idx="0"/>
          </p:cNvCxnSpPr>
          <p:nvPr/>
        </p:nvCxnSpPr>
        <p:spPr>
          <a:xfrm flipH="1">
            <a:off x="4152600" y="771480"/>
            <a:ext cx="419760" cy="905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23" name="AutoShape 21"/>
          <p:cNvCxnSpPr>
            <a:stCxn id="221" idx="2"/>
            <a:endCxn id="217" idx="0"/>
          </p:cNvCxnSpPr>
          <p:nvPr/>
        </p:nvCxnSpPr>
        <p:spPr>
          <a:xfrm flipH="1" flipV="1" rot="5400000">
            <a:off x="5140800" y="458280"/>
            <a:ext cx="880200" cy="2858040"/>
          </a:xfrm>
          <a:prstGeom prst="bentConnector5">
            <a:avLst>
              <a:gd name="adj1" fmla="val -25981"/>
              <a:gd name="adj2" fmla="val 35991"/>
              <a:gd name="adj3" fmla="val 125981"/>
            </a:avLst>
          </a:prstGeom>
          <a:ln w="15840">
            <a:solidFill>
              <a:srgbClr val="000000"/>
            </a:solidFill>
            <a:miter/>
          </a:ln>
        </p:spPr>
      </p:cxn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819520" y="228600"/>
            <a:ext cx="4190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труктура малой групп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33526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65530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3352680" y="9907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3352680" y="609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дструктур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2819520" y="990720"/>
            <a:ext cx="419076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2819520" y="6019920"/>
            <a:ext cx="4190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труктура малой групп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3352680" y="5638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6553080" y="5638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6"/>
          <p:cNvSpPr/>
          <p:nvPr/>
        </p:nvSpPr>
        <p:spPr>
          <a:xfrm>
            <a:off x="3352680" y="6019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3352680" y="5638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дструктур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9"/>
          <p:cNvSpPr/>
          <p:nvPr/>
        </p:nvSpPr>
        <p:spPr>
          <a:xfrm>
            <a:off x="1828800" y="380880"/>
            <a:ext cx="990720" cy="5791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21"/>
          <p:cNvSpPr/>
          <p:nvPr/>
        </p:nvSpPr>
        <p:spPr>
          <a:xfrm>
            <a:off x="7010280" y="380880"/>
            <a:ext cx="762120" cy="586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3352680" y="1143000"/>
            <a:ext cx="3200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композиционна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3276720" y="2286000"/>
            <a:ext cx="3352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межличностных предпочтени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3352680" y="3657600"/>
            <a:ext cx="3200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коммуникативна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3352680" y="4800600"/>
            <a:ext cx="3200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функциональных отношени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600200" y="457200"/>
            <a:ext cx="5943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8fafe"/>
                </a:solidFill>
                <a:latin typeface="Courier New"/>
              </a:rPr>
              <a:t>Психология малой групп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4572000" y="914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4343400" y="2590920"/>
            <a:ext cx="457200" cy="381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М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5715000" y="2590920"/>
            <a:ext cx="457200" cy="385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Р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048120" y="2590920"/>
            <a:ext cx="457200" cy="387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У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Р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М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676520" y="2590920"/>
            <a:ext cx="457200" cy="38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В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З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М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Ш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7086600" y="2590920"/>
            <a:ext cx="457200" cy="384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Р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Д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Ц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0"/>
          <p:cNvSpPr/>
          <p:nvPr/>
        </p:nvSpPr>
        <p:spPr>
          <a:xfrm flipV="1">
            <a:off x="1905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1"/>
          <p:cNvSpPr/>
          <p:nvPr/>
        </p:nvSpPr>
        <p:spPr>
          <a:xfrm flipV="1">
            <a:off x="32767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2"/>
          <p:cNvSpPr/>
          <p:nvPr/>
        </p:nvSpPr>
        <p:spPr>
          <a:xfrm flipV="1">
            <a:off x="594360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 flipV="1">
            <a:off x="731520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2971800" y="1523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Г р у п п о в ы 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AutoShape 17"/>
          <p:cNvCxnSpPr>
            <a:stCxn id="248" idx="0"/>
            <a:endCxn id="251" idx="0"/>
          </p:cNvCxnSpPr>
          <p:nvPr/>
        </p:nvCxnSpPr>
        <p:spPr>
          <a:xfrm>
            <a:off x="1905120" y="1904760"/>
            <a:ext cx="541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866960" y="304920"/>
            <a:ext cx="5410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8f4fe"/>
                </a:solidFill>
                <a:latin typeface="Courier New"/>
              </a:rPr>
              <a:t>Взаимоотношения в малой групп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533520" y="220968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Вид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6248520" y="220968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ринцип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762120" y="3200400"/>
            <a:ext cx="228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бщественно политически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762120" y="426708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лужеб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762120" y="533412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еслужеб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2"/>
          <p:cNvSpPr/>
          <p:nvPr/>
        </p:nvSpPr>
        <p:spPr>
          <a:xfrm flipH="1">
            <a:off x="685800" y="5562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4"/>
          <p:cNvSpPr/>
          <p:nvPr/>
        </p:nvSpPr>
        <p:spPr>
          <a:xfrm flipH="1">
            <a:off x="685800" y="4495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5"/>
          <p:cNvSpPr/>
          <p:nvPr/>
        </p:nvSpPr>
        <p:spPr>
          <a:xfrm flipH="1">
            <a:off x="685800" y="3581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 flipV="1">
            <a:off x="685800" y="2590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7"/>
          <p:cNvSpPr/>
          <p:nvPr/>
        </p:nvSpPr>
        <p:spPr>
          <a:xfrm flipH="1">
            <a:off x="6477120" y="3200400"/>
            <a:ext cx="228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Уважения и субординаци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 flipH="1">
            <a:off x="6477120" y="426708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плоченност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 flipH="1">
            <a:off x="6477120" y="533412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гуманизм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0"/>
          <p:cNvSpPr/>
          <p:nvPr/>
        </p:nvSpPr>
        <p:spPr>
          <a:xfrm flipH="1">
            <a:off x="6400800" y="5562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"/>
          <p:cNvSpPr/>
          <p:nvPr/>
        </p:nvSpPr>
        <p:spPr>
          <a:xfrm flipH="1">
            <a:off x="6400800" y="4495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"/>
          <p:cNvSpPr/>
          <p:nvPr/>
        </p:nvSpPr>
        <p:spPr>
          <a:xfrm flipH="1">
            <a:off x="6400800" y="3581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3"/>
          <p:cNvSpPr/>
          <p:nvPr/>
        </p:nvSpPr>
        <p:spPr>
          <a:xfrm flipV="1">
            <a:off x="6400800" y="2590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AutoShape 26"/>
          <p:cNvCxnSpPr>
            <a:stCxn id="254" idx="2"/>
            <a:endCxn id="255" idx="0"/>
          </p:cNvCxnSpPr>
          <p:nvPr/>
        </p:nvCxnSpPr>
        <p:spPr>
          <a:xfrm flipH="1">
            <a:off x="1675800" y="1136160"/>
            <a:ext cx="289620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AutoShape 27"/>
          <p:cNvCxnSpPr>
            <a:stCxn id="254" idx="2"/>
            <a:endCxn id="256" idx="0"/>
          </p:cNvCxnSpPr>
          <p:nvPr/>
        </p:nvCxnSpPr>
        <p:spPr>
          <a:xfrm>
            <a:off x="4572000" y="1136160"/>
            <a:ext cx="282024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47640" y="304920"/>
            <a:ext cx="784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8fafe"/>
                </a:solidFill>
                <a:latin typeface="Courier New"/>
              </a:rPr>
              <a:t>Устремления групп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47640" y="6172200"/>
            <a:ext cx="784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791ff"/>
                </a:solidFill>
                <a:latin typeface="Courier New"/>
              </a:rPr>
              <a:t>Устремления групп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160020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09480" y="541008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685800" y="548640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мотив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16002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685800" y="480060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требност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9"/>
          <p:cNvSpPr/>
          <p:nvPr/>
        </p:nvSpPr>
        <p:spPr>
          <a:xfrm>
            <a:off x="160020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685800" y="411480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задач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V="1">
            <a:off x="7391520" y="68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85800" y="342900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цел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066680" y="1752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21c04"/>
                </a:solidFill>
                <a:latin typeface="Courier New"/>
              </a:rPr>
              <a:t>вид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6248520" y="990720"/>
            <a:ext cx="228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Ценностно-нормативна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6248520" y="1905120"/>
            <a:ext cx="228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рганизационно функциональна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6248520" y="2895480"/>
            <a:ext cx="2361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ндивидуально-мотивационна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1"/>
          <p:cNvSpPr/>
          <p:nvPr/>
        </p:nvSpPr>
        <p:spPr>
          <a:xfrm>
            <a:off x="6324480" y="3581280"/>
            <a:ext cx="2210040" cy="2590920"/>
          </a:xfrm>
          <a:prstGeom prst="upArrow">
            <a:avLst>
              <a:gd name="adj1" fmla="val 50000"/>
              <a:gd name="adj2" fmla="val 293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640080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21c04"/>
                </a:solidFill>
                <a:latin typeface="Courier New"/>
              </a:rPr>
              <a:t>функци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85800" y="685800"/>
            <a:ext cx="1828800" cy="2743200"/>
          </a:xfrm>
          <a:prstGeom prst="downArrow">
            <a:avLst>
              <a:gd name="adj1" fmla="val 50000"/>
              <a:gd name="adj2" fmla="val 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"/>
          <p:cNvSpPr/>
          <p:nvPr/>
        </p:nvSpPr>
        <p:spPr>
          <a:xfrm>
            <a:off x="16002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3"/>
          <p:cNvSpPr/>
          <p:nvPr/>
        </p:nvSpPr>
        <p:spPr>
          <a:xfrm>
            <a:off x="1866960" y="304920"/>
            <a:ext cx="5410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8f4fe"/>
                </a:solidFill>
                <a:latin typeface="Courier New"/>
              </a:rPr>
              <a:t>Групповое мнени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495360" y="205740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функци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5638680" y="205740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Этапы формировани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762120" y="320040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нформаци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723960" y="411480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воздействи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23960" y="518148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ценк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 flipH="1">
            <a:off x="647640" y="5410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 flipH="1">
            <a:off x="647640" y="4343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4"/>
          <p:cNvSpPr/>
          <p:nvPr/>
        </p:nvSpPr>
        <p:spPr>
          <a:xfrm flipH="1">
            <a:off x="647640" y="3429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V="1">
            <a:off x="647640" y="2437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 flipH="1">
            <a:off x="5790600" y="2743200"/>
            <a:ext cx="2819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1.Выяснение и изучение индивидуальных мнени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7"/>
          <p:cNvSpPr/>
          <p:nvPr/>
        </p:nvSpPr>
        <p:spPr>
          <a:xfrm flipH="1">
            <a:off x="5791320" y="4038480"/>
            <a:ext cx="26668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2.Выработка правильных оценочных суждени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 flipH="1">
            <a:off x="5791320" y="5257800"/>
            <a:ext cx="2666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3.Обобщение и объединение мнени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9"/>
          <p:cNvSpPr/>
          <p:nvPr/>
        </p:nvSpPr>
        <p:spPr>
          <a:xfrm flipH="1">
            <a:off x="5715000" y="5562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 flipH="1">
            <a:off x="5715000" y="4419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1"/>
          <p:cNvSpPr/>
          <p:nvPr/>
        </p:nvSpPr>
        <p:spPr>
          <a:xfrm flipH="1">
            <a:off x="5715000" y="3124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2"/>
          <p:cNvSpPr/>
          <p:nvPr/>
        </p:nvSpPr>
        <p:spPr>
          <a:xfrm flipV="1">
            <a:off x="571500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AutoShape 33"/>
          <p:cNvCxnSpPr>
            <a:stCxn id="293" idx="0"/>
            <a:endCxn id="292" idx="2"/>
          </p:cNvCxnSpPr>
          <p:nvPr/>
        </p:nvCxnSpPr>
        <p:spPr>
          <a:xfrm flipV="1">
            <a:off x="1638000" y="771120"/>
            <a:ext cx="293436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AutoShape 34"/>
          <p:cNvCxnSpPr>
            <a:stCxn id="292" idx="2"/>
            <a:endCxn id="294" idx="0"/>
          </p:cNvCxnSpPr>
          <p:nvPr/>
        </p:nvCxnSpPr>
        <p:spPr>
          <a:xfrm>
            <a:off x="4571640" y="771480"/>
            <a:ext cx="255312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3"/>
          <p:cNvSpPr/>
          <p:nvPr/>
        </p:nvSpPr>
        <p:spPr>
          <a:xfrm>
            <a:off x="2209680" y="2286000"/>
            <a:ext cx="4724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8fafe"/>
                </a:solidFill>
                <a:latin typeface="Courier New"/>
              </a:rPr>
              <a:t>Групповые настроени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2209680" y="19051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21c04"/>
                </a:solidFill>
                <a:uFillTx/>
                <a:latin typeface="Courier New"/>
              </a:rPr>
              <a:t>характеризуютс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2209680" y="1523880"/>
            <a:ext cx="533520" cy="762120"/>
          </a:xfrm>
          <a:prstGeom prst="upArrow">
            <a:avLst>
              <a:gd name="adj1" fmla="val 60713"/>
              <a:gd name="adj2" fmla="val 535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8"/>
          <p:cNvSpPr/>
          <p:nvPr/>
        </p:nvSpPr>
        <p:spPr>
          <a:xfrm>
            <a:off x="6400800" y="1523880"/>
            <a:ext cx="533520" cy="762120"/>
          </a:xfrm>
          <a:prstGeom prst="upArrow">
            <a:avLst>
              <a:gd name="adj1" fmla="val 60713"/>
              <a:gd name="adj2" fmla="val 535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3619440" y="304920"/>
            <a:ext cx="19051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большой силой воздейств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457200" y="457200"/>
            <a:ext cx="2590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динамичностью и изменчивостью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6095880" y="45720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определённой направленностью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2"/>
          <p:cNvSpPr/>
          <p:nvPr/>
        </p:nvSpPr>
        <p:spPr>
          <a:xfrm rot="10800000">
            <a:off x="2209680" y="2666520"/>
            <a:ext cx="533520" cy="762120"/>
          </a:xfrm>
          <a:prstGeom prst="upArrow">
            <a:avLst>
              <a:gd name="adj1" fmla="val 60713"/>
              <a:gd name="adj2" fmla="val 535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3"/>
          <p:cNvSpPr/>
          <p:nvPr/>
        </p:nvSpPr>
        <p:spPr>
          <a:xfrm rot="10800000">
            <a:off x="6400800" y="2666520"/>
            <a:ext cx="533520" cy="762120"/>
          </a:xfrm>
          <a:prstGeom prst="upArrow">
            <a:avLst>
              <a:gd name="adj1" fmla="val 60713"/>
              <a:gd name="adj2" fmla="val 535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4"/>
          <p:cNvSpPr/>
          <p:nvPr/>
        </p:nvSpPr>
        <p:spPr>
          <a:xfrm>
            <a:off x="2209680" y="2743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21c04"/>
                </a:solidFill>
                <a:uFillTx/>
                <a:latin typeface="Courier New"/>
              </a:rPr>
              <a:t>делятся на: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6"/>
          <p:cNvSpPr/>
          <p:nvPr/>
        </p:nvSpPr>
        <p:spPr>
          <a:xfrm>
            <a:off x="1295280" y="3581280"/>
            <a:ext cx="2362320" cy="274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Способствующие совместным усилиям людей в групп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Энтузиазм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Общий подъём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Вера в общий успе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Увлечённость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7"/>
          <p:cNvSpPr/>
          <p:nvPr/>
        </p:nvSpPr>
        <p:spPr>
          <a:xfrm>
            <a:off x="1295280" y="4800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>
            <a:off x="5410080" y="3581280"/>
            <a:ext cx="2743200" cy="303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Препятствующие совместным усилиям людей в групп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Состояние упадк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Неверие в свои силы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Уныние, скука, обида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9"/>
          <p:cNvSpPr/>
          <p:nvPr/>
        </p:nvSpPr>
        <p:spPr>
          <a:xfrm>
            <a:off x="5410080" y="4800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3"/>
          <p:cNvSpPr/>
          <p:nvPr/>
        </p:nvSpPr>
        <p:spPr>
          <a:xfrm>
            <a:off x="2324160" y="380880"/>
            <a:ext cx="4495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8fafe"/>
                </a:solidFill>
                <a:latin typeface="Courier New"/>
              </a:rPr>
              <a:t>Виды традици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3352680" y="1371600"/>
            <a:ext cx="24386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принадлежности к различным группам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6248520" y="1371600"/>
            <a:ext cx="2743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сферам проявлени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304920" y="13716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содержанию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04920" y="262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трудов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304920" y="331776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учеб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304920" y="46846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бытов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304920" y="53704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портив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276720" y="278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бщенарод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3276720" y="32400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ациональ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76720" y="3736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классов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3276720" y="41940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территориаль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3276720" y="46512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возраст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76720" y="51084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внутригруппов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3276720" y="55656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рофессиональ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3276720" y="602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мешан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6324480" y="2627280"/>
            <a:ext cx="259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литически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6324480" y="3317760"/>
            <a:ext cx="259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мораль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3"/>
          <p:cNvSpPr/>
          <p:nvPr/>
        </p:nvSpPr>
        <p:spPr>
          <a:xfrm>
            <a:off x="6324480" y="3998880"/>
            <a:ext cx="259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художествен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4"/>
          <p:cNvSpPr/>
          <p:nvPr/>
        </p:nvSpPr>
        <p:spPr>
          <a:xfrm>
            <a:off x="6324480" y="4684680"/>
            <a:ext cx="259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равов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5"/>
          <p:cNvSpPr/>
          <p:nvPr/>
        </p:nvSpPr>
        <p:spPr>
          <a:xfrm>
            <a:off x="6324480" y="5370480"/>
            <a:ext cx="259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религиоз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304920" y="39988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боев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8"/>
          <p:cNvSpPr/>
          <p:nvPr/>
        </p:nvSpPr>
        <p:spPr>
          <a:xfrm>
            <a:off x="1600200" y="1789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9"/>
          <p:cNvSpPr/>
          <p:nvPr/>
        </p:nvSpPr>
        <p:spPr>
          <a:xfrm>
            <a:off x="1600200" y="3008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0"/>
          <p:cNvSpPr/>
          <p:nvPr/>
        </p:nvSpPr>
        <p:spPr>
          <a:xfrm>
            <a:off x="1600200" y="3693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1"/>
          <p:cNvSpPr/>
          <p:nvPr/>
        </p:nvSpPr>
        <p:spPr>
          <a:xfrm>
            <a:off x="1600200" y="4379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2"/>
          <p:cNvSpPr/>
          <p:nvPr/>
        </p:nvSpPr>
        <p:spPr>
          <a:xfrm>
            <a:off x="1600200" y="5065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3"/>
          <p:cNvSpPr/>
          <p:nvPr/>
        </p:nvSpPr>
        <p:spPr>
          <a:xfrm>
            <a:off x="7620120" y="3008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44"/>
          <p:cNvSpPr/>
          <p:nvPr/>
        </p:nvSpPr>
        <p:spPr>
          <a:xfrm>
            <a:off x="7620120" y="3693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5"/>
          <p:cNvSpPr/>
          <p:nvPr/>
        </p:nvSpPr>
        <p:spPr>
          <a:xfrm>
            <a:off x="7620120" y="4379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6"/>
          <p:cNvSpPr/>
          <p:nvPr/>
        </p:nvSpPr>
        <p:spPr>
          <a:xfrm>
            <a:off x="7620120" y="5065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7"/>
          <p:cNvSpPr/>
          <p:nvPr/>
        </p:nvSpPr>
        <p:spPr>
          <a:xfrm>
            <a:off x="7620120" y="2057400"/>
            <a:ext cx="0" cy="5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4"/>
          <p:cNvSpPr/>
          <p:nvPr/>
        </p:nvSpPr>
        <p:spPr>
          <a:xfrm>
            <a:off x="4572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AutoShape 55"/>
          <p:cNvCxnSpPr>
            <a:stCxn id="325" idx="2"/>
            <a:endCxn id="328" idx="0"/>
          </p:cNvCxnSpPr>
          <p:nvPr/>
        </p:nvCxnSpPr>
        <p:spPr>
          <a:xfrm flipH="1">
            <a:off x="1599480" y="847440"/>
            <a:ext cx="29725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AutoShape 56"/>
          <p:cNvCxnSpPr>
            <a:stCxn id="325" idx="2"/>
            <a:endCxn id="326" idx="0"/>
          </p:cNvCxnSpPr>
          <p:nvPr/>
        </p:nvCxnSpPr>
        <p:spPr>
          <a:xfrm>
            <a:off x="4571640" y="84744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AutoShape 57"/>
          <p:cNvCxnSpPr>
            <a:stCxn id="325" idx="2"/>
            <a:endCxn id="327" idx="0"/>
          </p:cNvCxnSpPr>
          <p:nvPr/>
        </p:nvCxnSpPr>
        <p:spPr>
          <a:xfrm>
            <a:off x="4571640" y="847440"/>
            <a:ext cx="304884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3048120" y="3013200"/>
            <a:ext cx="30477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8f4fe"/>
                </a:solidFill>
                <a:latin typeface="Courier New"/>
              </a:rPr>
              <a:t>Психология малых групп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243828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труктура групп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4800600" y="5335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групповые процесс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6858000" y="990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групповые нормы, ценности, санкци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609480" y="1447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остав групп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8"/>
          <p:cNvSpPr/>
          <p:nvPr/>
        </p:nvSpPr>
        <p:spPr>
          <a:xfrm>
            <a:off x="380880" y="1066680"/>
            <a:ext cx="1846440" cy="1409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9"/>
          <p:cNvSpPr/>
          <p:nvPr/>
        </p:nvSpPr>
        <p:spPr>
          <a:xfrm>
            <a:off x="2362320" y="380880"/>
            <a:ext cx="1752480" cy="1067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10"/>
          <p:cNvSpPr/>
          <p:nvPr/>
        </p:nvSpPr>
        <p:spPr>
          <a:xfrm>
            <a:off x="4572000" y="380880"/>
            <a:ext cx="1916280" cy="1371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1"/>
          <p:cNvSpPr/>
          <p:nvPr/>
        </p:nvSpPr>
        <p:spPr>
          <a:xfrm>
            <a:off x="6858000" y="685800"/>
            <a:ext cx="1847880" cy="1727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685800" y="4648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татус индивид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2743200" y="541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зиция индивид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4952880" y="541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роль индивид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5"/>
          <p:cNvSpPr/>
          <p:nvPr/>
        </p:nvSpPr>
        <p:spPr>
          <a:xfrm>
            <a:off x="6781680" y="48769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оциально-психологический клима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16"/>
          <p:cNvSpPr/>
          <p:nvPr/>
        </p:nvSpPr>
        <p:spPr>
          <a:xfrm>
            <a:off x="504720" y="4338720"/>
            <a:ext cx="1782720" cy="1347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17"/>
          <p:cNvSpPr/>
          <p:nvPr/>
        </p:nvSpPr>
        <p:spPr>
          <a:xfrm>
            <a:off x="2600280" y="5068800"/>
            <a:ext cx="1762200" cy="1341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18"/>
          <p:cNvSpPr/>
          <p:nvPr/>
        </p:nvSpPr>
        <p:spPr>
          <a:xfrm>
            <a:off x="6781680" y="4419720"/>
            <a:ext cx="2362320" cy="1523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19"/>
          <p:cNvSpPr/>
          <p:nvPr/>
        </p:nvSpPr>
        <p:spPr>
          <a:xfrm>
            <a:off x="4844880" y="5257800"/>
            <a:ext cx="1749600" cy="113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20"/>
          <p:cNvCxnSpPr>
            <a:stCxn id="361" idx="0"/>
            <a:endCxn id="366" idx="28"/>
          </p:cNvCxnSpPr>
          <p:nvPr/>
        </p:nvCxnSpPr>
        <p:spPr>
          <a:xfrm flipV="1" rot="16200000">
            <a:off x="2797560" y="1238040"/>
            <a:ext cx="1078560" cy="2471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AutoShape 21"/>
          <p:cNvCxnSpPr>
            <a:stCxn id="361" idx="0"/>
            <a:endCxn id="367" idx="25"/>
          </p:cNvCxnSpPr>
          <p:nvPr/>
        </p:nvCxnSpPr>
        <p:spPr>
          <a:xfrm flipV="1" rot="16200000">
            <a:off x="3291840" y="1733040"/>
            <a:ext cx="1842480" cy="717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AutoShape 22"/>
          <p:cNvCxnSpPr>
            <a:stCxn id="361" idx="0"/>
            <a:endCxn id="368" idx="30"/>
          </p:cNvCxnSpPr>
          <p:nvPr/>
        </p:nvCxnSpPr>
        <p:spPr>
          <a:xfrm flipH="1" flipV="1" rot="5400000">
            <a:off x="3915000" y="1956240"/>
            <a:ext cx="1713600" cy="400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AutoShape 23"/>
          <p:cNvCxnSpPr>
            <a:stCxn id="361" idx="0"/>
            <a:endCxn id="369" idx="34"/>
          </p:cNvCxnSpPr>
          <p:nvPr/>
        </p:nvCxnSpPr>
        <p:spPr>
          <a:xfrm flipH="1" flipV="1" rot="5400000">
            <a:off x="5133600" y="1145520"/>
            <a:ext cx="1305720" cy="242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2" name="AutoShape 24"/>
          <p:cNvCxnSpPr>
            <a:stCxn id="361" idx="2"/>
            <a:endCxn id="374" idx="30"/>
          </p:cNvCxnSpPr>
          <p:nvPr/>
        </p:nvCxnSpPr>
        <p:spPr>
          <a:xfrm rot="5400000">
            <a:off x="2945880" y="3012840"/>
            <a:ext cx="794520" cy="2458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AutoShape 25"/>
          <p:cNvCxnSpPr>
            <a:stCxn id="361" idx="2"/>
            <a:endCxn id="375" idx="26"/>
          </p:cNvCxnSpPr>
          <p:nvPr/>
        </p:nvCxnSpPr>
        <p:spPr>
          <a:xfrm rot="5400000">
            <a:off x="3531960" y="4303440"/>
            <a:ext cx="1499400" cy="581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AutoShape 26"/>
          <p:cNvCxnSpPr>
            <a:stCxn id="361" idx="2"/>
            <a:endCxn id="377" idx="19"/>
          </p:cNvCxnSpPr>
          <p:nvPr/>
        </p:nvCxnSpPr>
        <p:spPr>
          <a:xfrm flipH="1" rot="16200000">
            <a:off x="4045320" y="4370040"/>
            <a:ext cx="1528200" cy="477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AutoShape 27"/>
          <p:cNvCxnSpPr>
            <a:stCxn id="361" idx="2"/>
            <a:endCxn id="376" idx="30"/>
          </p:cNvCxnSpPr>
          <p:nvPr/>
        </p:nvCxnSpPr>
        <p:spPr>
          <a:xfrm flipH="1" rot="16200000">
            <a:off x="5207760" y="3207960"/>
            <a:ext cx="1108800" cy="2382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3581280" y="3581280"/>
            <a:ext cx="1981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8f4fe"/>
                </a:solidFill>
                <a:latin typeface="Courier New"/>
              </a:rPr>
              <a:t>групп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457200" y="4267080"/>
            <a:ext cx="2286000" cy="180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по реальности существования как целостной общност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реальные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условны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4"/>
          <p:cNvSpPr/>
          <p:nvPr/>
        </p:nvSpPr>
        <p:spPr>
          <a:xfrm>
            <a:off x="457200" y="5562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457200" y="5943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457200" y="5334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3352680" y="4267080"/>
            <a:ext cx="2438640" cy="230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По характеру организации деятельност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официальны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неофициальны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случайны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  </a:t>
            </a: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неорганизованны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6400800" y="4267080"/>
            <a:ext cx="2286000" cy="144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по численност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больши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малы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мезогруппы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3352680" y="5334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0"/>
          <p:cNvSpPr/>
          <p:nvPr/>
        </p:nvSpPr>
        <p:spPr>
          <a:xfrm>
            <a:off x="3352680" y="5638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1"/>
          <p:cNvSpPr/>
          <p:nvPr/>
        </p:nvSpPr>
        <p:spPr>
          <a:xfrm>
            <a:off x="3352680" y="6019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3352680" y="6400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3"/>
          <p:cNvSpPr/>
          <p:nvPr/>
        </p:nvSpPr>
        <p:spPr>
          <a:xfrm>
            <a:off x="6400800" y="4800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4"/>
          <p:cNvSpPr/>
          <p:nvPr/>
        </p:nvSpPr>
        <p:spPr>
          <a:xfrm>
            <a:off x="640080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5"/>
          <p:cNvSpPr/>
          <p:nvPr/>
        </p:nvSpPr>
        <p:spPr>
          <a:xfrm>
            <a:off x="6400800" y="5562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6"/>
          <p:cNvSpPr/>
          <p:nvPr/>
        </p:nvSpPr>
        <p:spPr>
          <a:xfrm>
            <a:off x="3352680" y="51055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7"/>
          <p:cNvSpPr/>
          <p:nvPr/>
        </p:nvSpPr>
        <p:spPr>
          <a:xfrm>
            <a:off x="6400800" y="4648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AutoShape 21"/>
          <p:cNvCxnSpPr>
            <a:stCxn id="386" idx="1"/>
            <a:endCxn id="387" idx="0"/>
          </p:cNvCxnSpPr>
          <p:nvPr/>
        </p:nvCxnSpPr>
        <p:spPr>
          <a:xfrm flipH="1">
            <a:off x="1599480" y="3770280"/>
            <a:ext cx="1981800" cy="4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403" name="AutoShape 22"/>
          <p:cNvCxnSpPr>
            <a:stCxn id="386" idx="2"/>
            <a:endCxn id="391" idx="0"/>
          </p:cNvCxnSpPr>
          <p:nvPr/>
        </p:nvCxnSpPr>
        <p:spPr>
          <a:xfrm>
            <a:off x="4571640" y="3957480"/>
            <a:ext cx="108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404" name="AutoShape 23"/>
          <p:cNvCxnSpPr>
            <a:stCxn id="386" idx="3"/>
            <a:endCxn id="392" idx="0"/>
          </p:cNvCxnSpPr>
          <p:nvPr/>
        </p:nvCxnSpPr>
        <p:spPr>
          <a:xfrm>
            <a:off x="5562360" y="3770280"/>
            <a:ext cx="1981800" cy="4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05" name="Oval 24"/>
          <p:cNvSpPr/>
          <p:nvPr/>
        </p:nvSpPr>
        <p:spPr>
          <a:xfrm>
            <a:off x="800280" y="380880"/>
            <a:ext cx="7543800" cy="312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5"/>
          <p:cNvSpPr/>
          <p:nvPr/>
        </p:nvSpPr>
        <p:spPr>
          <a:xfrm>
            <a:off x="228600" y="3048120"/>
            <a:ext cx="213372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взаимоотношени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стремлени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настроени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структура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положени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AutoShape 28"/>
          <p:cNvCxnSpPr>
            <a:stCxn id="387" idx="1"/>
            <a:endCxn id="405" idx="2"/>
          </p:cNvCxnSpPr>
          <p:nvPr/>
        </p:nvCxnSpPr>
        <p:spPr>
          <a:xfrm flipH="1" rot="10800000">
            <a:off x="456120" y="1942560"/>
            <a:ext cx="343800" cy="3231000"/>
          </a:xfrm>
          <a:prstGeom prst="curvedConnector5">
            <a:avLst>
              <a:gd name="adj1" fmla="val -66666"/>
              <a:gd name="adj2" fmla="val 50000"/>
              <a:gd name="adj3" fmla="val -6666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lg" type="stealth" w="lg"/>
          </a:ln>
        </p:spPr>
      </p:cxnSp>
      <p:cxnSp>
        <p:nvCxnSpPr>
          <p:cNvPr id="408" name="AutoShape 29"/>
          <p:cNvCxnSpPr>
            <a:stCxn id="392" idx="3"/>
            <a:endCxn id="405" idx="6"/>
          </p:cNvCxnSpPr>
          <p:nvPr/>
        </p:nvCxnSpPr>
        <p:spPr>
          <a:xfrm flipH="1" flipV="1">
            <a:off x="8343720" y="1942920"/>
            <a:ext cx="343440" cy="3048480"/>
          </a:xfrm>
          <a:prstGeom prst="curvedConnector5">
            <a:avLst>
              <a:gd name="adj1" fmla="val -66631"/>
              <a:gd name="adj2" fmla="val 49994"/>
              <a:gd name="adj3" fmla="val -6663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lg" type="stealth" w="lg"/>
          </a:ln>
        </p:spPr>
      </p:cxnSp>
      <p:sp>
        <p:nvSpPr>
          <p:cNvPr id="409" name="Text Box 31"/>
          <p:cNvSpPr/>
          <p:nvPr/>
        </p:nvSpPr>
        <p:spPr>
          <a:xfrm>
            <a:off x="7620120" y="2971800"/>
            <a:ext cx="121896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традици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мнени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состав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нормы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санкци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2"/>
          <p:cNvSpPr/>
          <p:nvPr/>
        </p:nvSpPr>
        <p:spPr>
          <a:xfrm>
            <a:off x="4038480" y="1523880"/>
            <a:ext cx="1067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мала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3"/>
          <p:cNvSpPr/>
          <p:nvPr/>
        </p:nvSpPr>
        <p:spPr>
          <a:xfrm>
            <a:off x="2423520" y="2576520"/>
            <a:ext cx="18064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первичн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4"/>
          <p:cNvSpPr/>
          <p:nvPr/>
        </p:nvSpPr>
        <p:spPr>
          <a:xfrm>
            <a:off x="1443960" y="1967040"/>
            <a:ext cx="19796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формальн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5"/>
          <p:cNvSpPr/>
          <p:nvPr/>
        </p:nvSpPr>
        <p:spPr>
          <a:xfrm>
            <a:off x="1267560" y="1357560"/>
            <a:ext cx="1634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реальн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36"/>
          <p:cNvSpPr/>
          <p:nvPr/>
        </p:nvSpPr>
        <p:spPr>
          <a:xfrm rot="21496200">
            <a:off x="1830240" y="601200"/>
            <a:ext cx="2632320" cy="820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высокоразвит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37"/>
          <p:cNvSpPr/>
          <p:nvPr/>
        </p:nvSpPr>
        <p:spPr>
          <a:xfrm>
            <a:off x="4626720" y="2576520"/>
            <a:ext cx="18064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вторичн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38"/>
          <p:cNvSpPr/>
          <p:nvPr/>
        </p:nvSpPr>
        <p:spPr>
          <a:xfrm>
            <a:off x="5611680" y="1967040"/>
            <a:ext cx="23241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неформальн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39"/>
          <p:cNvSpPr/>
          <p:nvPr/>
        </p:nvSpPr>
        <p:spPr>
          <a:xfrm>
            <a:off x="6068160" y="1281240"/>
            <a:ext cx="1634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условн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0"/>
          <p:cNvSpPr/>
          <p:nvPr/>
        </p:nvSpPr>
        <p:spPr>
          <a:xfrm rot="20901600">
            <a:off x="4254840" y="823680"/>
            <a:ext cx="2668680" cy="47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низко развит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AutoShape 41"/>
          <p:cNvCxnSpPr>
            <a:stCxn id="410" idx="1"/>
            <a:endCxn id="414" idx="4"/>
          </p:cNvCxnSpPr>
          <p:nvPr/>
        </p:nvCxnSpPr>
        <p:spPr>
          <a:xfrm flipH="1" flipV="1">
            <a:off x="3152520" y="1233000"/>
            <a:ext cx="8863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420" name="AutoShape 42"/>
          <p:cNvCxnSpPr>
            <a:stCxn id="410" idx="1"/>
            <a:endCxn id="413" idx="6"/>
          </p:cNvCxnSpPr>
          <p:nvPr/>
        </p:nvCxnSpPr>
        <p:spPr>
          <a:xfrm flipH="1" flipV="1">
            <a:off x="2873160" y="1595160"/>
            <a:ext cx="116568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421" name="AutoShape 43"/>
          <p:cNvCxnSpPr>
            <a:stCxn id="410" idx="1"/>
            <a:endCxn id="412" idx="6"/>
          </p:cNvCxnSpPr>
          <p:nvPr/>
        </p:nvCxnSpPr>
        <p:spPr>
          <a:xfrm flipH="1">
            <a:off x="3395520" y="1712520"/>
            <a:ext cx="64332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422" name="AutoShape 44"/>
          <p:cNvCxnSpPr>
            <a:stCxn id="410" idx="1"/>
            <a:endCxn id="411" idx="0"/>
          </p:cNvCxnSpPr>
          <p:nvPr/>
        </p:nvCxnSpPr>
        <p:spPr>
          <a:xfrm flipH="1">
            <a:off x="3326760" y="1712520"/>
            <a:ext cx="711720" cy="87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423" name="AutoShape 45"/>
          <p:cNvCxnSpPr>
            <a:stCxn id="410" idx="3"/>
            <a:endCxn id="418" idx="4"/>
          </p:cNvCxnSpPr>
          <p:nvPr/>
        </p:nvCxnSpPr>
        <p:spPr>
          <a:xfrm flipV="1">
            <a:off x="5105520" y="1280520"/>
            <a:ext cx="52920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424" name="AutoShape 46"/>
          <p:cNvCxnSpPr>
            <a:stCxn id="410" idx="3"/>
            <a:endCxn id="417" idx="2"/>
          </p:cNvCxnSpPr>
          <p:nvPr/>
        </p:nvCxnSpPr>
        <p:spPr>
          <a:xfrm flipV="1">
            <a:off x="5105160" y="1518840"/>
            <a:ext cx="99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425" name="AutoShape 47"/>
          <p:cNvCxnSpPr>
            <a:stCxn id="410" idx="3"/>
            <a:endCxn id="416" idx="2"/>
          </p:cNvCxnSpPr>
          <p:nvPr/>
        </p:nvCxnSpPr>
        <p:spPr>
          <a:xfrm>
            <a:off x="5105160" y="1712520"/>
            <a:ext cx="53388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426" name="AutoShape 48"/>
          <p:cNvCxnSpPr>
            <a:stCxn id="410" idx="3"/>
            <a:endCxn id="415" idx="0"/>
          </p:cNvCxnSpPr>
          <p:nvPr/>
        </p:nvCxnSpPr>
        <p:spPr>
          <a:xfrm>
            <a:off x="5105160" y="1712520"/>
            <a:ext cx="425880" cy="87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27" name="Rectangle 49"/>
          <p:cNvSpPr/>
          <p:nvPr/>
        </p:nvSpPr>
        <p:spPr>
          <a:xfrm rot="19410600">
            <a:off x="169200" y="91404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коммуникативн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0"/>
          <p:cNvSpPr/>
          <p:nvPr/>
        </p:nvSpPr>
        <p:spPr>
          <a:xfrm>
            <a:off x="3628080" y="-36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композиционн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1"/>
          <p:cNvSpPr/>
          <p:nvPr/>
        </p:nvSpPr>
        <p:spPr>
          <a:xfrm rot="2376600">
            <a:off x="7278840" y="10663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межличностн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AutoShape 52"/>
          <p:cNvCxnSpPr>
            <a:stCxn id="386" idx="0"/>
            <a:endCxn id="410" idx="2"/>
          </p:cNvCxnSpPr>
          <p:nvPr/>
        </p:nvCxnSpPr>
        <p:spPr>
          <a:xfrm flipV="1">
            <a:off x="4571640" y="1899720"/>
            <a:ext cx="1080" cy="168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34"/>
          <p:cNvSpPr/>
          <p:nvPr/>
        </p:nvSpPr>
        <p:spPr>
          <a:xfrm>
            <a:off x="1181160" y="114480"/>
            <a:ext cx="6781680" cy="659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5"/>
          <p:cNvSpPr/>
          <p:nvPr/>
        </p:nvSpPr>
        <p:spPr>
          <a:xfrm>
            <a:off x="1790640" y="762120"/>
            <a:ext cx="5562720" cy="53337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7"/>
          <p:cNvSpPr/>
          <p:nvPr/>
        </p:nvSpPr>
        <p:spPr>
          <a:xfrm>
            <a:off x="2514600" y="1295280"/>
            <a:ext cx="1295280" cy="1143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21c04"/>
                </a:solidFill>
                <a:latin typeface="Courier New"/>
              </a:rPr>
              <a:t>личность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8"/>
          <p:cNvSpPr/>
          <p:nvPr/>
        </p:nvSpPr>
        <p:spPr>
          <a:xfrm>
            <a:off x="2514600" y="4419720"/>
            <a:ext cx="1295280" cy="1143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21c04"/>
                </a:solidFill>
                <a:latin typeface="Courier New"/>
              </a:rPr>
              <a:t>личность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40"/>
          <p:cNvSpPr/>
          <p:nvPr/>
        </p:nvSpPr>
        <p:spPr>
          <a:xfrm>
            <a:off x="5334120" y="1295280"/>
            <a:ext cx="1295280" cy="1143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21c04"/>
                </a:solidFill>
                <a:latin typeface="Courier New"/>
              </a:rPr>
              <a:t>личность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AutoShape 42"/>
          <p:cNvCxnSpPr>
            <a:stCxn id="55" idx="6"/>
            <a:endCxn id="57" idx="2"/>
          </p:cNvCxnSpPr>
          <p:nvPr/>
        </p:nvCxnSpPr>
        <p:spPr>
          <a:xfrm>
            <a:off x="3817800" y="1866600"/>
            <a:ext cx="150912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59" name="AutoShape 44"/>
          <p:cNvCxnSpPr>
            <a:stCxn id="56" idx="6"/>
            <a:endCxn id="60" idx="2"/>
          </p:cNvCxnSpPr>
          <p:nvPr/>
        </p:nvCxnSpPr>
        <p:spPr>
          <a:xfrm>
            <a:off x="3817800" y="4990680"/>
            <a:ext cx="150912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1" name="Rectangle 54"/>
          <p:cNvSpPr/>
          <p:nvPr/>
        </p:nvSpPr>
        <p:spPr>
          <a:xfrm rot="16202400">
            <a:off x="980280" y="327960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721c04"/>
                </a:solidFill>
                <a:latin typeface="Courier New"/>
              </a:rPr>
              <a:t>группа</a:t>
            </a:r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5"/>
          <p:cNvSpPr/>
          <p:nvPr/>
        </p:nvSpPr>
        <p:spPr>
          <a:xfrm rot="21547800">
            <a:off x="4000320" y="26388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721c04"/>
                </a:solidFill>
                <a:latin typeface="Courier New"/>
              </a:rPr>
              <a:t>группа</a:t>
            </a:r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6"/>
          <p:cNvSpPr/>
          <p:nvPr/>
        </p:nvSpPr>
        <p:spPr>
          <a:xfrm rot="21547800">
            <a:off x="4000320" y="620748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721c04"/>
                </a:solidFill>
                <a:latin typeface="Courier New"/>
              </a:rPr>
              <a:t>группа</a:t>
            </a:r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7"/>
          <p:cNvSpPr/>
          <p:nvPr/>
        </p:nvSpPr>
        <p:spPr>
          <a:xfrm rot="5347800">
            <a:off x="7083720" y="327960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721c04"/>
                </a:solidFill>
                <a:latin typeface="Courier New"/>
              </a:rPr>
              <a:t>группа</a:t>
            </a:r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8"/>
          <p:cNvSpPr/>
          <p:nvPr/>
        </p:nvSpPr>
        <p:spPr>
          <a:xfrm rot="18900000">
            <a:off x="3029760" y="2285280"/>
            <a:ext cx="1369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721c04"/>
                </a:solidFill>
                <a:latin typeface="Courier New"/>
              </a:rPr>
              <a:t>деятельность</a:t>
            </a:r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9"/>
          <p:cNvSpPr/>
          <p:nvPr/>
        </p:nvSpPr>
        <p:spPr>
          <a:xfrm rot="18900000">
            <a:off x="3605760" y="2589840"/>
            <a:ext cx="973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721c04"/>
                </a:solidFill>
                <a:latin typeface="Courier New"/>
              </a:rPr>
              <a:t>обучение</a:t>
            </a:r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0"/>
          <p:cNvSpPr/>
          <p:nvPr/>
        </p:nvSpPr>
        <p:spPr>
          <a:xfrm rot="18900000">
            <a:off x="4561560" y="3885120"/>
            <a:ext cx="973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721c04"/>
                </a:solidFill>
                <a:latin typeface="Courier New"/>
              </a:rPr>
              <a:t>признаки</a:t>
            </a:r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1"/>
          <p:cNvSpPr/>
          <p:nvPr/>
        </p:nvSpPr>
        <p:spPr>
          <a:xfrm rot="5400000">
            <a:off x="5651280" y="3034440"/>
            <a:ext cx="874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721c04"/>
                </a:solidFill>
                <a:latin typeface="Courier New"/>
              </a:rPr>
              <a:t>условия</a:t>
            </a:r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62"/>
          <p:cNvCxnSpPr>
            <a:stCxn id="56" idx="0"/>
            <a:endCxn id="55" idx="4"/>
          </p:cNvCxnSpPr>
          <p:nvPr/>
        </p:nvCxnSpPr>
        <p:spPr>
          <a:xfrm flipV="1">
            <a:off x="3161880" y="2445840"/>
            <a:ext cx="1080" cy="1966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70" name="AutoShape 63"/>
          <p:cNvCxnSpPr>
            <a:stCxn id="60" idx="0"/>
            <a:endCxn id="57" idx="4"/>
          </p:cNvCxnSpPr>
          <p:nvPr/>
        </p:nvCxnSpPr>
        <p:spPr>
          <a:xfrm flipV="1">
            <a:off x="5981400" y="2445840"/>
            <a:ext cx="1080" cy="1966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71" name="AutoShape 65"/>
          <p:cNvCxnSpPr>
            <a:stCxn id="55" idx="5"/>
            <a:endCxn id="72" idx="1"/>
          </p:cNvCxnSpPr>
          <p:nvPr/>
        </p:nvCxnSpPr>
        <p:spPr>
          <a:xfrm>
            <a:off x="3621240" y="2279160"/>
            <a:ext cx="575280" cy="661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0" name="Oval 39"/>
          <p:cNvSpPr/>
          <p:nvPr/>
        </p:nvSpPr>
        <p:spPr>
          <a:xfrm>
            <a:off x="5334120" y="4419720"/>
            <a:ext cx="1295280" cy="1143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21c04"/>
                </a:solidFill>
                <a:latin typeface="Courier New"/>
              </a:rPr>
              <a:t>личность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0"/>
          <p:cNvSpPr/>
          <p:nvPr/>
        </p:nvSpPr>
        <p:spPr>
          <a:xfrm rot="628200">
            <a:off x="3924000" y="2857680"/>
            <a:ext cx="1295280" cy="1143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21c04"/>
                </a:solidFill>
                <a:latin typeface="Courier New"/>
              </a:rPr>
              <a:t>личность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71"/>
          <p:cNvCxnSpPr>
            <a:stCxn id="60" idx="1"/>
            <a:endCxn id="72" idx="5"/>
          </p:cNvCxnSpPr>
          <p:nvPr/>
        </p:nvCxnSpPr>
        <p:spPr>
          <a:xfrm flipH="1" flipV="1">
            <a:off x="4946760" y="3915720"/>
            <a:ext cx="576360" cy="6627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74" name="Freeform 72"/>
          <p:cNvSpPr/>
          <p:nvPr/>
        </p:nvSpPr>
        <p:spPr>
          <a:xfrm>
            <a:off x="3200400" y="1905120"/>
            <a:ext cx="2133720" cy="25146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73"/>
          <p:cNvSpPr/>
          <p:nvPr/>
        </p:nvSpPr>
        <p:spPr>
          <a:xfrm>
            <a:off x="3809880" y="2438280"/>
            <a:ext cx="2133720" cy="25146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6"/>
          <p:cNvSpPr/>
          <p:nvPr/>
        </p:nvSpPr>
        <p:spPr>
          <a:xfrm flipV="1">
            <a:off x="3581280" y="3885840"/>
            <a:ext cx="609840" cy="685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7"/>
          <p:cNvSpPr/>
          <p:nvPr/>
        </p:nvSpPr>
        <p:spPr>
          <a:xfrm flipH="1">
            <a:off x="4952880" y="2209680"/>
            <a:ext cx="533520" cy="762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8f4fe"/>
                </a:solidFill>
                <a:latin typeface="Courier New"/>
              </a:rPr>
              <a:t>Вопросы для самоконтрол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721c04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Раскройте содержание понятия «группа» и назовите их ви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721c04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Каковы теоретические подходы к исследованию групп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721c04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характеризуйте сущность и содержание понятия малая групп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721c04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Дайте характеристику малых групп по различным признак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721c04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Каковы психологические характеристики малой группы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647640" y="3276720"/>
            <a:ext cx="7772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8fafe"/>
                </a:solidFill>
                <a:latin typeface="Courier New"/>
              </a:rPr>
              <a:t>Вопросы для обсуждения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723960" y="3733920"/>
            <a:ext cx="7696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721c04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бъясните в каких ситуациях группа может воспользоваться санкциями, на кого они будут направлены, и в каком виде выражаться. Приведите пример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721c04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Чем определяется действенность и живучесть традиций в группе, и как они  способствуют личности?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752480" y="457200"/>
            <a:ext cx="6248520" cy="24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Частота и продолжительность взаимодействия индивидов в группе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Число составляющих её членов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Взаимоотношения и взаимовлияни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Лидеры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Общность целе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Общее чувство «Мы»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Сплочённост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 flipH="1">
            <a:off x="1981080" y="36576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295280" y="1219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676520" y="34290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21c04"/>
                </a:solidFill>
                <a:latin typeface="Courier New"/>
              </a:rPr>
              <a:t>описывается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 rot="16200000">
            <a:off x="480960" y="22615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21c04"/>
                </a:solidFill>
                <a:latin typeface="Courier New"/>
              </a:rPr>
              <a:t>КРИТЕРИЯМИ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505320" y="3429000"/>
            <a:ext cx="2133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8f4fe"/>
                </a:solidFill>
                <a:latin typeface="Courier New"/>
              </a:rPr>
              <a:t>Малая групп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2819520" y="380988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21c04"/>
                </a:solidFill>
                <a:latin typeface="Courier New"/>
              </a:rPr>
              <a:t>От 2-3 человек до 50 человек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 flipH="1">
            <a:off x="2819160" y="3733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2819520" y="3733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2819520" y="41148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3"/>
          <p:cNvSpPr/>
          <p:nvPr/>
        </p:nvSpPr>
        <p:spPr>
          <a:xfrm>
            <a:off x="5562720" y="38098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4724280" y="4343400"/>
            <a:ext cx="205740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характеризуетс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структурой и организацие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системой норм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6"/>
          <p:cNvSpPr/>
          <p:nvPr/>
        </p:nvSpPr>
        <p:spPr>
          <a:xfrm flipH="1">
            <a:off x="4343400" y="4495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8"/>
          <p:cNvSpPr/>
          <p:nvPr/>
        </p:nvSpPr>
        <p:spPr>
          <a:xfrm>
            <a:off x="4343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0"/>
          <p:cNvSpPr/>
          <p:nvPr/>
        </p:nvSpPr>
        <p:spPr>
          <a:xfrm>
            <a:off x="4343400" y="5715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1"/>
          <p:cNvSpPr/>
          <p:nvPr/>
        </p:nvSpPr>
        <p:spPr>
          <a:xfrm>
            <a:off x="4343400" y="44956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3"/>
          <p:cNvSpPr/>
          <p:nvPr/>
        </p:nvSpPr>
        <p:spPr>
          <a:xfrm>
            <a:off x="7162920" y="44956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4"/>
          <p:cNvSpPr/>
          <p:nvPr/>
        </p:nvSpPr>
        <p:spPr>
          <a:xfrm flipH="1">
            <a:off x="6781320" y="44956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5"/>
          <p:cNvSpPr/>
          <p:nvPr/>
        </p:nvSpPr>
        <p:spPr>
          <a:xfrm>
            <a:off x="6780960" y="4952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6"/>
          <p:cNvSpPr/>
          <p:nvPr/>
        </p:nvSpPr>
        <p:spPr>
          <a:xfrm>
            <a:off x="6780960" y="5715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9"/>
          <p:cNvSpPr/>
          <p:nvPr/>
        </p:nvSpPr>
        <p:spPr>
          <a:xfrm>
            <a:off x="1295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0"/>
          <p:cNvSpPr/>
          <p:nvPr/>
        </p:nvSpPr>
        <p:spPr>
          <a:xfrm>
            <a:off x="1295280" y="3657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666880" y="304920"/>
            <a:ext cx="3810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8fafe"/>
                </a:solidFill>
                <a:latin typeface="Courier New"/>
              </a:rPr>
              <a:t>Виды групп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371600" y="1219320"/>
            <a:ext cx="2057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реальности существования как целостной общност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62120" y="289548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реаль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590920" y="289548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услов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2514240" y="762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1600200" y="2438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2895480" y="24382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095880" y="1219320"/>
            <a:ext cx="2210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численност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638680" y="20574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больши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7467480" y="205740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мал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6324480" y="2819520"/>
            <a:ext cx="1752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мезогрупп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5791320" y="76212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 flipH="1">
            <a:off x="6324480" y="16002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7467480" y="16002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7162920" y="1600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4572000" y="3429000"/>
            <a:ext cx="2362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характеру организации деятельности и взаимодействи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1219320" y="4267080"/>
            <a:ext cx="2438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фициаль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1219320" y="4648320"/>
            <a:ext cx="2438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еофициаль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1219320" y="5029200"/>
            <a:ext cx="2438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еорганизован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1219320" y="5410080"/>
            <a:ext cx="2438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лучай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5562720" y="4648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 flipH="1">
            <a:off x="3657600" y="5410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4495680" y="762120"/>
            <a:ext cx="106704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476440" y="2717640"/>
            <a:ext cx="40766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8fafe"/>
                </a:solidFill>
                <a:latin typeface="Courier New"/>
              </a:rPr>
              <a:t>Теоретические подходы к исследованию мал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448240" y="3860640"/>
            <a:ext cx="2819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социометрическа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686480" y="4470480"/>
            <a:ext cx="3009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психоаналитическа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467160" y="5156280"/>
            <a:ext cx="3162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общепсихологическа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209680" y="5943600"/>
            <a:ext cx="3353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теория подкреплен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247840" y="507960"/>
            <a:ext cx="4076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интеракционистская теор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752480" y="1371600"/>
            <a:ext cx="190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теория пол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5143680" y="1193760"/>
            <a:ext cx="228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теория систем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"/>
          <p:cNvSpPr/>
          <p:nvPr/>
        </p:nvSpPr>
        <p:spPr>
          <a:xfrm flipV="1">
            <a:off x="5676840" y="1574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8"/>
          <p:cNvSpPr/>
          <p:nvPr/>
        </p:nvSpPr>
        <p:spPr>
          <a:xfrm flipV="1">
            <a:off x="4229280" y="8888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 flipV="1">
            <a:off x="297180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297180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4038480" y="3429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3"/>
          <p:cNvSpPr/>
          <p:nvPr/>
        </p:nvSpPr>
        <p:spPr>
          <a:xfrm>
            <a:off x="502920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60199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reeform 3"/>
          <p:cNvSpPr/>
          <p:nvPr/>
        </p:nvSpPr>
        <p:spPr>
          <a:xfrm>
            <a:off x="730080" y="579600"/>
            <a:ext cx="3157560" cy="1299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4"/>
          <p:cNvSpPr/>
          <p:nvPr/>
        </p:nvSpPr>
        <p:spPr>
          <a:xfrm rot="10800000">
            <a:off x="5333760" y="609120"/>
            <a:ext cx="3157560" cy="1300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990720" y="9144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нтеракционистская ориентаци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943600" y="9144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когнитивистская ориентаци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086280" y="2666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8fafe"/>
                </a:solidFill>
                <a:latin typeface="Courier New"/>
              </a:rPr>
              <a:t>малая групп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3124080" y="3048120"/>
            <a:ext cx="297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4572000" y="30481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124080" y="3276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пределяется как: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572000" y="3581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3009960" y="37339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обрание людей включенных в деятельность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4570560" y="4572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3086280" y="4724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миниатюрная социальная систем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3086280" y="5486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жизненное пространство личност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7"/>
          <p:cNvSpPr/>
          <p:nvPr/>
        </p:nvSpPr>
        <p:spPr>
          <a:xfrm>
            <a:off x="4572000" y="53341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3086280" y="2666880"/>
            <a:ext cx="297180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AutoShape 25"/>
          <p:cNvCxnSpPr>
            <a:stCxn id="152" idx="0"/>
            <a:endCxn id="138" idx="49"/>
          </p:cNvCxnSpPr>
          <p:nvPr/>
        </p:nvCxnSpPr>
        <p:spPr>
          <a:xfrm flipV="1" rot="16200000">
            <a:off x="3418200" y="1513080"/>
            <a:ext cx="1334160" cy="9738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lg" type="stealth" w="lg"/>
          </a:ln>
        </p:spPr>
      </p:cxnSp>
      <p:cxnSp>
        <p:nvCxnSpPr>
          <p:cNvPr id="154" name="AutoShape 26"/>
          <p:cNvCxnSpPr>
            <a:stCxn id="152" idx="0"/>
            <a:endCxn id="139" idx="49"/>
          </p:cNvCxnSpPr>
          <p:nvPr/>
        </p:nvCxnSpPr>
        <p:spPr>
          <a:xfrm flipH="1" flipV="1" rot="5400000">
            <a:off x="4313880" y="1632240"/>
            <a:ext cx="1292760" cy="7768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876240" y="152280"/>
            <a:ext cx="7391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8fafe"/>
                </a:solidFill>
                <a:latin typeface="Courier New"/>
              </a:rPr>
              <a:t>Признаки малых групп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838080"/>
            <a:ext cx="2514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интегративност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066680" y="1295280"/>
            <a:ext cx="2514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микроклимат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066680" y="1752480"/>
            <a:ext cx="2514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референтнст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066680" y="2209680"/>
            <a:ext cx="2514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лидерств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66680" y="2666880"/>
            <a:ext cx="2514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интрагрупповая активност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066680" y="3352680"/>
            <a:ext cx="2514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интергрупповая активност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1066680" y="4038480"/>
            <a:ext cx="2514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направленност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1066680" y="4495680"/>
            <a:ext cx="2514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организованност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1066680" y="4952880"/>
            <a:ext cx="2514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эмоциональност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066680" y="5410080"/>
            <a:ext cx="2514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интеллектуальная коммуникативност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066680" y="6095880"/>
            <a:ext cx="2514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волевая коммуникативност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5486400" y="8380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5486400" y="838080"/>
            <a:ext cx="2514600" cy="44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прямой контакт между людьм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межличностное взаимодействи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взаимовлияни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общность цел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общие переживани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общие мотивы, интересы, нормы, обычаи, привычк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групповые рол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локализация в пространстве и времен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5486400" y="1447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5486400" y="2286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5486400" y="26668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5486400" y="3048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54864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5"/>
          <p:cNvSpPr/>
          <p:nvPr/>
        </p:nvSpPr>
        <p:spPr>
          <a:xfrm>
            <a:off x="5486400" y="4419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27"/>
          <p:cNvCxnSpPr>
            <a:stCxn id="155" idx="2"/>
            <a:endCxn id="156" idx="0"/>
          </p:cNvCxnSpPr>
          <p:nvPr/>
        </p:nvCxnSpPr>
        <p:spPr>
          <a:xfrm flipH="1">
            <a:off x="2323800" y="619200"/>
            <a:ext cx="224856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76" name="AutoShape 28"/>
          <p:cNvCxnSpPr>
            <a:stCxn id="155" idx="2"/>
            <a:endCxn id="168" idx="0"/>
          </p:cNvCxnSpPr>
          <p:nvPr/>
        </p:nvCxnSpPr>
        <p:spPr>
          <a:xfrm>
            <a:off x="4571640" y="619200"/>
            <a:ext cx="217260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1295280" y="2362320"/>
            <a:ext cx="22100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По порядку возникновен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410080" y="2362320"/>
            <a:ext cx="26672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По общественному статусу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09480" y="4267080"/>
            <a:ext cx="1600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первичны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2514600" y="4267080"/>
            <a:ext cx="1600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вторичны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4876920" y="4267080"/>
            <a:ext cx="1752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формальны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6781680" y="426708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неформальны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9"/>
          <p:cNvSpPr/>
          <p:nvPr/>
        </p:nvSpPr>
        <p:spPr>
          <a:xfrm flipH="1" rot="10800000">
            <a:off x="6324480" y="1294920"/>
            <a:ext cx="914400" cy="7621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e8fa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0"/>
          <p:cNvSpPr/>
          <p:nvPr/>
        </p:nvSpPr>
        <p:spPr>
          <a:xfrm rot="10800000">
            <a:off x="1905120" y="1294920"/>
            <a:ext cx="914400" cy="7621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e8fa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2"/>
          <p:cNvSpPr/>
          <p:nvPr/>
        </p:nvSpPr>
        <p:spPr>
          <a:xfrm rot="5400000">
            <a:off x="2742840" y="3429000"/>
            <a:ext cx="1066680" cy="60948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d6e8f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5"/>
          <p:cNvSpPr/>
          <p:nvPr/>
        </p:nvSpPr>
        <p:spPr>
          <a:xfrm rot="5400000">
            <a:off x="914040" y="3429000"/>
            <a:ext cx="1066680" cy="60948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d6e8f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6"/>
          <p:cNvSpPr/>
          <p:nvPr/>
        </p:nvSpPr>
        <p:spPr>
          <a:xfrm rot="5400000">
            <a:off x="5257440" y="3429000"/>
            <a:ext cx="1066680" cy="60948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d6e8f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7"/>
          <p:cNvSpPr/>
          <p:nvPr/>
        </p:nvSpPr>
        <p:spPr>
          <a:xfrm rot="5400000">
            <a:off x="7238880" y="3428640"/>
            <a:ext cx="1066680" cy="60984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d6e8f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2895480" y="1143000"/>
            <a:ext cx="335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8fafe"/>
                </a:solidFill>
                <a:latin typeface="Courier New"/>
              </a:rPr>
              <a:t>Малые групп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971800" y="457200"/>
            <a:ext cx="3352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8fafe"/>
                </a:solidFill>
                <a:latin typeface="Courier New"/>
              </a:rPr>
              <a:t>Малые групп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5800" y="2590920"/>
            <a:ext cx="3111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непосредственности взаимосвязе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85800" y="2590920"/>
            <a:ext cx="3111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непосредственности взаимосвязе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867280" y="1600200"/>
            <a:ext cx="2667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уровню развити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685800" y="404352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реаль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2514600" y="4043520"/>
            <a:ext cx="1333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услов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5943600" y="2590920"/>
            <a:ext cx="1244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изкого уровн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7315200" y="2590920"/>
            <a:ext cx="1333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высокого уровн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5181480" y="4191120"/>
            <a:ext cx="1600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корпораци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4267080" y="3657600"/>
            <a:ext cx="1600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ассоциаци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6248520" y="4724280"/>
            <a:ext cx="1600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диффуз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 flipH="1">
            <a:off x="5257800" y="3352680"/>
            <a:ext cx="977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7238880" y="3581280"/>
            <a:ext cx="142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коллектив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27"/>
          <p:cNvCxnSpPr>
            <a:stCxn id="190" idx="2"/>
            <a:endCxn id="193" idx="0"/>
          </p:cNvCxnSpPr>
          <p:nvPr/>
        </p:nvCxnSpPr>
        <p:spPr>
          <a:xfrm>
            <a:off x="4647960" y="923400"/>
            <a:ext cx="25531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4" name="AutoShape 28"/>
          <p:cNvCxnSpPr>
            <a:stCxn id="190" idx="2"/>
            <a:endCxn id="192" idx="0"/>
          </p:cNvCxnSpPr>
          <p:nvPr/>
        </p:nvCxnSpPr>
        <p:spPr>
          <a:xfrm flipH="1">
            <a:off x="2241000" y="923400"/>
            <a:ext cx="2407320" cy="166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5" name="AutoShape 29"/>
          <p:cNvCxnSpPr>
            <a:stCxn id="192" idx="2"/>
            <a:endCxn id="194" idx="0"/>
          </p:cNvCxnSpPr>
          <p:nvPr/>
        </p:nvCxnSpPr>
        <p:spPr>
          <a:xfrm flipH="1">
            <a:off x="1332720" y="3241440"/>
            <a:ext cx="909000" cy="80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6" name="AutoShape 30"/>
          <p:cNvCxnSpPr>
            <a:stCxn id="192" idx="2"/>
            <a:endCxn id="195" idx="0"/>
          </p:cNvCxnSpPr>
          <p:nvPr/>
        </p:nvCxnSpPr>
        <p:spPr>
          <a:xfrm>
            <a:off x="2241720" y="3241440"/>
            <a:ext cx="940320" cy="80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7" name="AutoShape 31"/>
          <p:cNvCxnSpPr>
            <a:stCxn id="193" idx="2"/>
            <a:endCxn id="197" idx="0"/>
          </p:cNvCxnSpPr>
          <p:nvPr/>
        </p:nvCxnSpPr>
        <p:spPr>
          <a:xfrm>
            <a:off x="7200720" y="1976040"/>
            <a:ext cx="781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8" name="AutoShape 32"/>
          <p:cNvCxnSpPr>
            <a:stCxn id="193" idx="2"/>
            <a:endCxn id="196" idx="0"/>
          </p:cNvCxnSpPr>
          <p:nvPr/>
        </p:nvCxnSpPr>
        <p:spPr>
          <a:xfrm flipH="1">
            <a:off x="6565680" y="1976040"/>
            <a:ext cx="6357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9" name="AutoShape 33"/>
          <p:cNvCxnSpPr>
            <a:stCxn id="196" idx="2"/>
            <a:endCxn id="201" idx="0"/>
          </p:cNvCxnSpPr>
          <p:nvPr/>
        </p:nvCxnSpPr>
        <p:spPr>
          <a:xfrm flipH="1">
            <a:off x="5257440" y="3241440"/>
            <a:ext cx="1308960" cy="41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34"/>
          <p:cNvCxnSpPr>
            <a:stCxn id="196" idx="2"/>
            <a:endCxn id="198" idx="0"/>
          </p:cNvCxnSpPr>
          <p:nvPr/>
        </p:nvCxnSpPr>
        <p:spPr>
          <a:xfrm flipH="1">
            <a:off x="5981040" y="3241440"/>
            <a:ext cx="58500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11" name="AutoShape 35"/>
          <p:cNvCxnSpPr>
            <a:stCxn id="196" idx="2"/>
            <a:endCxn id="200" idx="0"/>
          </p:cNvCxnSpPr>
          <p:nvPr/>
        </p:nvCxnSpPr>
        <p:spPr>
          <a:xfrm>
            <a:off x="6566040" y="3241800"/>
            <a:ext cx="483120" cy="148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12" name="Line 37"/>
          <p:cNvSpPr/>
          <p:nvPr/>
        </p:nvSpPr>
        <p:spPr>
          <a:xfrm>
            <a:off x="79246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44:36Z</dcterms:modified>
  <cp:revision>21</cp:revision>
  <dc:subject/>
  <dc:title>PowerPoint Presentation</dc:title>
</cp:coreProperties>
</file>