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CCA8-A02F-46F7-8CB2-DCADB8EC5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6601-600D-4176-9361-441F39C88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8EA-08C4-4792-A024-36E388CD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718-B513-4B90-A296-9933AC29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2ED-CA2B-4372-BF71-EE603B2F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1DE-969F-4B99-998E-9017F162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EBD-84D1-4E9C-B4F2-935181D7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FFF-A8FC-44C4-BFE9-80BCA187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A38-7918-4F49-9C0C-98FCD8A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AA5-D5D2-4A3A-B332-FBEDCD4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90A-8693-42C0-9DC9-3C463C1D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509-3A2D-4A2C-952E-79C6FD7A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8A5-05F5-435F-A16A-B041915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EB8-6DB2-48A9-A090-EA4E11F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bbf9"/>
            </a:gs>
            <a:gs pos="50000">
              <a:srgbClr val="c8f0a4"/>
            </a:gs>
            <a:gs pos="100000">
              <a:srgbClr val="cdbbf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8D5-A9D8-4D7B-AB40-E1B2E2B21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88920"/>
            <a:ext cx="41148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2.3. 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изучения темы вы будете иметь представление о свойствах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ме будут рассмотрены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(базовые) психологические свойства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 – психологические свойства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итель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Крысько В.Г.    Социальная психология / В.Г. Крысько. - 2-е изд. - М. [и др.]: Питер.- 2010. - 431 с. - (Учебник для вуз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Майерс Д.    Социальная психология: пер. с англ. / Д. Майерс;  пер. З. Замчук. - 7-е изд. - М. [и др.] : Питер.- 2009. - 794 с.: ил. - (Мастера психологи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1440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  2    Социальная психолог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286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655308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57200" y="1523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высшей нерв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781680" y="1523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темпера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57200" y="2743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457200" y="35812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457200" y="4495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457200" y="5486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85800" y="5791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286000" y="20574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657600" y="20574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5105520" y="20574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09480" y="2971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609480" y="3809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удер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609480" y="48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236232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2286000" y="1371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нервных процессов возбуждения и торм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365760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уравно- веш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5181480" y="2057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д-ви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2439360" y="29718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2439360" y="38098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439360" y="4800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24382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3733920" y="2819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о-веш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3733920" y="4648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о-веш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3733920" y="3733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равно-веш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3733920" y="5638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равно-веш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51055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3"/>
          <p:cNvSpPr/>
          <p:nvPr/>
        </p:nvSpPr>
        <p:spPr>
          <a:xfrm>
            <a:off x="5105520" y="3809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4"/>
          <p:cNvSpPr/>
          <p:nvPr/>
        </p:nvSpPr>
        <p:spPr>
          <a:xfrm>
            <a:off x="51814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-подви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5"/>
          <p:cNvSpPr/>
          <p:nvPr/>
        </p:nvSpPr>
        <p:spPr>
          <a:xfrm>
            <a:off x="5181480" y="5638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-подви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662940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гви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662940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8"/>
          <p:cNvSpPr/>
          <p:nvPr/>
        </p:nvSpPr>
        <p:spPr>
          <a:xfrm>
            <a:off x="6629400" y="4724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ег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9"/>
          <p:cNvSpPr/>
          <p:nvPr/>
        </p:nvSpPr>
        <p:spPr>
          <a:xfrm>
            <a:off x="65530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анхо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2"/>
          <p:cNvSpPr/>
          <p:nvPr/>
        </p:nvSpPr>
        <p:spPr>
          <a:xfrm>
            <a:off x="990720" y="31896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характеристика темперамент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6629400" y="1066680"/>
            <a:ext cx="137160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990720" y="1066680"/>
            <a:ext cx="182880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914400" y="5410080"/>
            <a:ext cx="167652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6324480" y="5410080"/>
            <a:ext cx="198144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3200400" y="2209680"/>
            <a:ext cx="3048120" cy="2743200"/>
          </a:xfrm>
          <a:prstGeom prst="ellipse">
            <a:avLst/>
          </a:prstGeom>
          <a:gradFill rotWithShape="0">
            <a:gsLst>
              <a:gs pos="0">
                <a:srgbClr val="e7e6ff"/>
              </a:gs>
              <a:gs pos="100000">
                <a:srgbClr val="b1adff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219320" y="1219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7057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0666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647712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3657600" y="304812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обенности психики и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5"/>
          <p:cNvSpPr/>
          <p:nvPr/>
        </p:nvSpPr>
        <p:spPr>
          <a:xfrm rot="3033600">
            <a:off x="2742840" y="4267080"/>
            <a:ext cx="381240" cy="1295280"/>
          </a:xfrm>
          <a:prstGeom prst="downArrow">
            <a:avLst>
              <a:gd name="adj1" fmla="val 50000"/>
              <a:gd name="adj2" fmla="val 84939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6"/>
          <p:cNvSpPr/>
          <p:nvPr/>
        </p:nvSpPr>
        <p:spPr>
          <a:xfrm rot="18965400">
            <a:off x="5943600" y="44956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7"/>
          <p:cNvSpPr/>
          <p:nvPr/>
        </p:nvSpPr>
        <p:spPr>
          <a:xfrm rot="8122200">
            <a:off x="2947680" y="173016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"/>
          <p:cNvSpPr/>
          <p:nvPr/>
        </p:nvSpPr>
        <p:spPr>
          <a:xfrm rot="13728600">
            <a:off x="6286320" y="1638000"/>
            <a:ext cx="380880" cy="1219320"/>
          </a:xfrm>
          <a:prstGeom prst="downArrow">
            <a:avLst>
              <a:gd name="adj1" fmla="val 50000"/>
              <a:gd name="adj2" fmla="val 80033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7"/>
          <p:cNvSpPr/>
          <p:nvPr/>
        </p:nvSpPr>
        <p:spPr>
          <a:xfrm>
            <a:off x="44956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8"/>
          <p:cNvSpPr/>
          <p:nvPr/>
        </p:nvSpPr>
        <p:spPr>
          <a:xfrm>
            <a:off x="44956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1"/>
          <p:cNvSpPr txBox="1"/>
          <p:nvPr/>
        </p:nvSpPr>
        <p:spPr>
          <a:xfrm>
            <a:off x="2819520" y="304920"/>
            <a:ext cx="38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      темперамента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8"/>
          <p:cNvSpPr/>
          <p:nvPr/>
        </p:nvSpPr>
        <p:spPr>
          <a:xfrm>
            <a:off x="6934320" y="914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и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6386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65760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ар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523880" y="4114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52388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523880" y="4952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14479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1600200" y="61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80060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ровни развития способ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7086600" y="5105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знавательная, трудовая, социальная активность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1371600" y="4114800"/>
            <a:ext cx="1905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137160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1066680" y="5410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2"/>
          <p:cNvSpPr/>
          <p:nvPr/>
        </p:nvSpPr>
        <p:spPr>
          <a:xfrm>
            <a:off x="373392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>
            <a:off x="10666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327672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 flipH="1">
            <a:off x="106632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1371600" y="617220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3581280" y="312408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5486400" y="205740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6781680" y="9144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3"/>
          <p:cNvSpPr/>
          <p:nvPr/>
        </p:nvSpPr>
        <p:spPr>
          <a:xfrm>
            <a:off x="2209680" y="1066680"/>
            <a:ext cx="4572000" cy="2971800"/>
          </a:xfrm>
          <a:prstGeom prst="pie">
            <a:avLst/>
          </a:prstGeom>
          <a:noFill/>
          <a:ln w="17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5"/>
          <p:cNvSpPr/>
          <p:nvPr/>
        </p:nvSpPr>
        <p:spPr>
          <a:xfrm>
            <a:off x="3733920" y="1447920"/>
            <a:ext cx="3962160" cy="3657600"/>
          </a:xfrm>
          <a:prstGeom prst="pie">
            <a:avLst/>
          </a:prstGeom>
          <a:noFill/>
          <a:ln w="17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7"/>
          <p:cNvSpPr/>
          <p:nvPr/>
        </p:nvSpPr>
        <p:spPr>
          <a:xfrm>
            <a:off x="3505320" y="1523880"/>
            <a:ext cx="4572000" cy="4775400"/>
          </a:xfrm>
          <a:prstGeom prst="pie">
            <a:avLst/>
          </a:prstGeom>
          <a:noFill/>
          <a:ln w="17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4"/>
          <p:cNvSpPr/>
          <p:nvPr/>
        </p:nvSpPr>
        <p:spPr>
          <a:xfrm rot="987000">
            <a:off x="2523600" y="2742840"/>
            <a:ext cx="685800" cy="173160"/>
          </a:xfrm>
          <a:prstGeom prst="rightArrow">
            <a:avLst>
              <a:gd name="adj1" fmla="val 50000"/>
              <a:gd name="adj2" fmla="val 99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5"/>
          <p:cNvSpPr/>
          <p:nvPr/>
        </p:nvSpPr>
        <p:spPr>
          <a:xfrm rot="1489800">
            <a:off x="3209400" y="19321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6"/>
          <p:cNvSpPr/>
          <p:nvPr/>
        </p:nvSpPr>
        <p:spPr>
          <a:xfrm rot="4330200">
            <a:off x="5658840" y="1319040"/>
            <a:ext cx="533520" cy="158760"/>
          </a:xfrm>
          <a:prstGeom prst="rightArrow">
            <a:avLst>
              <a:gd name="adj1" fmla="val 50000"/>
              <a:gd name="adj2" fmla="val 84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7"/>
          <p:cNvSpPr/>
          <p:nvPr/>
        </p:nvSpPr>
        <p:spPr>
          <a:xfrm rot="19339800">
            <a:off x="4747680" y="1226880"/>
            <a:ext cx="176400" cy="830160"/>
          </a:xfrm>
          <a:prstGeom prst="downArrow">
            <a:avLst>
              <a:gd name="adj1" fmla="val 50000"/>
              <a:gd name="adj2" fmla="val 117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49"/>
          <p:cNvSpPr txBox="1"/>
          <p:nvPr/>
        </p:nvSpPr>
        <p:spPr>
          <a:xfrm>
            <a:off x="609480" y="152280"/>
            <a:ext cx="64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щность   способностей   личности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AutoShape 50"/>
          <p:cNvSpPr/>
          <p:nvPr/>
        </p:nvSpPr>
        <p:spPr>
          <a:xfrm rot="14434800">
            <a:off x="5067000" y="422856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1"/>
          <p:cNvSpPr/>
          <p:nvPr/>
        </p:nvSpPr>
        <p:spPr>
          <a:xfrm rot="12775200">
            <a:off x="6527520" y="290124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3"/>
          <p:cNvSpPr/>
          <p:nvPr/>
        </p:nvSpPr>
        <p:spPr>
          <a:xfrm rot="15831000">
            <a:off x="4732200" y="5941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4"/>
          <p:cNvSpPr/>
          <p:nvPr/>
        </p:nvSpPr>
        <p:spPr>
          <a:xfrm rot="14566800">
            <a:off x="6553080" y="5257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5"/>
          <p:cNvSpPr/>
          <p:nvPr/>
        </p:nvSpPr>
        <p:spPr>
          <a:xfrm rot="12614400">
            <a:off x="7162560" y="411408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6"/>
          <p:cNvSpPr/>
          <p:nvPr/>
        </p:nvSpPr>
        <p:spPr>
          <a:xfrm rot="12308400">
            <a:off x="7611840" y="23936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58"/>
          <p:cNvSpPr/>
          <p:nvPr/>
        </p:nvSpPr>
        <p:spPr>
          <a:xfrm rot="1443000">
            <a:off x="7620120" y="13716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1"/>
          <p:cNvSpPr/>
          <p:nvPr/>
        </p:nvSpPr>
        <p:spPr>
          <a:xfrm>
            <a:off x="1676520" y="304920"/>
            <a:ext cx="5638680" cy="761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243828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ношение личности с социальной действи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819520" y="2133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04920" y="3048120"/>
            <a:ext cx="83818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114300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198108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281952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365760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49568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33412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2"/>
          <p:cNvSpPr/>
          <p:nvPr/>
        </p:nvSpPr>
        <p:spPr>
          <a:xfrm>
            <a:off x="617220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3"/>
          <p:cNvSpPr/>
          <p:nvPr/>
        </p:nvSpPr>
        <p:spPr>
          <a:xfrm>
            <a:off x="701028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784872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 flipV="1">
            <a:off x="304920" y="1371240"/>
            <a:ext cx="419076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 flipH="1" flipV="1">
            <a:off x="4495680" y="1371240"/>
            <a:ext cx="41911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/>
          <p:cNvSpPr/>
          <p:nvPr/>
        </p:nvSpPr>
        <p:spPr>
          <a:xfrm>
            <a:off x="609480" y="30481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1"/>
          <p:cNvSpPr/>
          <p:nvPr/>
        </p:nvSpPr>
        <p:spPr>
          <a:xfrm>
            <a:off x="144792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2"/>
          <p:cNvSpPr/>
          <p:nvPr/>
        </p:nvSpPr>
        <p:spPr>
          <a:xfrm>
            <a:off x="228600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3"/>
          <p:cNvSpPr/>
          <p:nvPr/>
        </p:nvSpPr>
        <p:spPr>
          <a:xfrm>
            <a:off x="3124080" y="30481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396252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5"/>
          <p:cNvSpPr/>
          <p:nvPr/>
        </p:nvSpPr>
        <p:spPr>
          <a:xfrm>
            <a:off x="480060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6"/>
          <p:cNvSpPr/>
          <p:nvPr/>
        </p:nvSpPr>
        <p:spPr>
          <a:xfrm>
            <a:off x="5638680" y="30481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7"/>
          <p:cNvSpPr/>
          <p:nvPr/>
        </p:nvSpPr>
        <p:spPr>
          <a:xfrm>
            <a:off x="8153280" y="30481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8"/>
          <p:cNvSpPr/>
          <p:nvPr/>
        </p:nvSpPr>
        <p:spPr>
          <a:xfrm>
            <a:off x="731520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9"/>
          <p:cNvSpPr/>
          <p:nvPr/>
        </p:nvSpPr>
        <p:spPr>
          <a:xfrm>
            <a:off x="647712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0"/>
          <p:cNvSpPr/>
          <p:nvPr/>
        </p:nvSpPr>
        <p:spPr>
          <a:xfrm>
            <a:off x="4419720" y="10666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304920" y="3352680"/>
            <a:ext cx="380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685800" y="3352680"/>
            <a:ext cx="380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6"/>
          <p:cNvSpPr/>
          <p:nvPr/>
        </p:nvSpPr>
        <p:spPr>
          <a:xfrm rot="16200000">
            <a:off x="-1217520" y="479916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сприятия, мироотно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7"/>
          <p:cNvSpPr/>
          <p:nvPr/>
        </p:nvSpPr>
        <p:spPr>
          <a:xfrm rot="16200000">
            <a:off x="-74520" y="461628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тивация достижений в самореализации и самоутвер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 rot="16200000">
            <a:off x="1112400" y="4721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вил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9"/>
          <p:cNvSpPr/>
          <p:nvPr/>
        </p:nvSpPr>
        <p:spPr>
          <a:xfrm rot="16200000">
            <a:off x="1643400" y="4650840"/>
            <a:ext cx="32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0"/>
          <p:cNvSpPr/>
          <p:nvPr/>
        </p:nvSpPr>
        <p:spPr>
          <a:xfrm rot="16200000">
            <a:off x="2192040" y="476100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ая интегрир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1"/>
          <p:cNvSpPr/>
          <p:nvPr/>
        </p:nvSpPr>
        <p:spPr>
          <a:xfrm rot="16200000">
            <a:off x="3391920" y="4723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2"/>
          <p:cNvSpPr/>
          <p:nvPr/>
        </p:nvSpPr>
        <p:spPr>
          <a:xfrm rot="16204200">
            <a:off x="4572720" y="46468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ая 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3"/>
          <p:cNvSpPr/>
          <p:nvPr/>
        </p:nvSpPr>
        <p:spPr>
          <a:xfrm rot="16200000">
            <a:off x="5325480" y="4646880"/>
            <a:ext cx="26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реал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4"/>
          <p:cNvSpPr/>
          <p:nvPr/>
        </p:nvSpPr>
        <p:spPr>
          <a:xfrm rot="16200000">
            <a:off x="6058800" y="472320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стой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5"/>
          <p:cNvSpPr/>
          <p:nvPr/>
        </p:nvSpPr>
        <p:spPr>
          <a:xfrm rot="16207200">
            <a:off x="6874200" y="474552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сознава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6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1"/>
          <p:cNvSpPr/>
          <p:nvPr/>
        </p:nvSpPr>
        <p:spPr>
          <a:xfrm>
            <a:off x="5448240" y="2333520"/>
            <a:ext cx="2667240" cy="1295640"/>
          </a:xfrm>
          <a:prstGeom prst="rect">
            <a:avLst/>
          </a:prstGeom>
          <a:gradFill rotWithShape="0">
            <a:gsLst>
              <a:gs pos="0">
                <a:srgbClr val="9fa4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5448240" y="4343400"/>
            <a:ext cx="2667240" cy="1295280"/>
          </a:xfrm>
          <a:prstGeom prst="rect">
            <a:avLst/>
          </a:prstGeom>
          <a:gradFill rotWithShape="0">
            <a:gsLst>
              <a:gs pos="0">
                <a:srgbClr val="9fa4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914400" y="4343400"/>
            <a:ext cx="2666880" cy="1295280"/>
          </a:xfrm>
          <a:prstGeom prst="rect">
            <a:avLst/>
          </a:prstGeom>
          <a:gradFill rotWithShape="0">
            <a:gsLst>
              <a:gs pos="0">
                <a:srgbClr val="9fa4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914400" y="2362320"/>
            <a:ext cx="2666880" cy="1295280"/>
          </a:xfrm>
          <a:prstGeom prst="rect">
            <a:avLst/>
          </a:prstGeom>
          <a:gradFill rotWithShape="0">
            <a:gsLst>
              <a:gs pos="0">
                <a:srgbClr val="9fa4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447920" y="609480"/>
            <a:ext cx="64008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2438280" y="8380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14400" y="2666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осприятие и миро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5486400" y="2438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Мотивация достижений в самореализации и самоутвер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143000" y="4495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личности к миру и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5562720" y="4495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личности к целям и перспекти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4"/>
          <p:cNvSpPr/>
          <p:nvPr/>
        </p:nvSpPr>
        <p:spPr>
          <a:xfrm>
            <a:off x="2895480" y="1752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5"/>
          <p:cNvSpPr/>
          <p:nvPr/>
        </p:nvSpPr>
        <p:spPr>
          <a:xfrm>
            <a:off x="5867280" y="1752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6"/>
          <p:cNvSpPr/>
          <p:nvPr/>
        </p:nvSpPr>
        <p:spPr>
          <a:xfrm rot="10832400">
            <a:off x="2894760" y="365724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7"/>
          <p:cNvSpPr/>
          <p:nvPr/>
        </p:nvSpPr>
        <p:spPr>
          <a:xfrm rot="10832400">
            <a:off x="5866560" y="365724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500"/>
                            </p:stCondLst>
                            <p:childTnLst>
                              <p:par>
                                <p:cTn id="6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3"/>
          <p:cNvSpPr/>
          <p:nvPr/>
        </p:nvSpPr>
        <p:spPr>
          <a:xfrm>
            <a:off x="914400" y="4267080"/>
            <a:ext cx="2133720" cy="1524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3581280" y="4267080"/>
            <a:ext cx="2133720" cy="1524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6248520" y="4267080"/>
            <a:ext cx="2133360" cy="1524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6248520" y="2895480"/>
            <a:ext cx="2590560" cy="609840"/>
          </a:xfrm>
          <a:prstGeom prst="rect">
            <a:avLst/>
          </a:prstGeom>
          <a:gradFill rotWithShape="0">
            <a:gsLst>
              <a:gs pos="0">
                <a:srgbClr val="b1ad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3352680" y="2895480"/>
            <a:ext cx="2590920" cy="609840"/>
          </a:xfrm>
          <a:prstGeom prst="rect">
            <a:avLst/>
          </a:prstGeom>
          <a:gradFill rotWithShape="0">
            <a:gsLst>
              <a:gs pos="0">
                <a:srgbClr val="b1ad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457200" y="2895480"/>
            <a:ext cx="2590920" cy="609840"/>
          </a:xfrm>
          <a:prstGeom prst="rect">
            <a:avLst/>
          </a:prstGeom>
          <a:gradFill rotWithShape="0">
            <a:gsLst>
              <a:gs pos="0">
                <a:srgbClr val="b1ad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1447920" y="609480"/>
            <a:ext cx="64008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905120" y="838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533520" y="2971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Цивилиз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3505320" y="2971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Граждан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6400800" y="2895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Групповая      интегр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66680" y="4419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достижениям и ценностям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886200" y="4495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личности с об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662940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2362320" y="175248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7"/>
          <p:cNvSpPr/>
          <p:nvPr/>
        </p:nvSpPr>
        <p:spPr>
          <a:xfrm>
            <a:off x="4495680" y="175248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6629400" y="175248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9"/>
          <p:cNvSpPr/>
          <p:nvPr/>
        </p:nvSpPr>
        <p:spPr>
          <a:xfrm rot="10800000">
            <a:off x="2362320" y="35053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0"/>
          <p:cNvSpPr/>
          <p:nvPr/>
        </p:nvSpPr>
        <p:spPr>
          <a:xfrm rot="10800000">
            <a:off x="4495320" y="35053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1"/>
          <p:cNvSpPr/>
          <p:nvPr/>
        </p:nvSpPr>
        <p:spPr>
          <a:xfrm rot="10800000">
            <a:off x="6629040" y="35053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0"/>
          <p:cNvSpPr/>
          <p:nvPr/>
        </p:nvSpPr>
        <p:spPr>
          <a:xfrm>
            <a:off x="914400" y="4800600"/>
            <a:ext cx="3200400" cy="76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5029200" y="4800600"/>
            <a:ext cx="3200400" cy="76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4876920" y="2895480"/>
            <a:ext cx="3200400" cy="762120"/>
          </a:xfrm>
          <a:prstGeom prst="rect">
            <a:avLst/>
          </a:prstGeom>
          <a:gradFill rotWithShape="0">
            <a:gsLst>
              <a:gs pos="0">
                <a:srgbClr val="b5b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914400" y="2895480"/>
            <a:ext cx="3200400" cy="762120"/>
          </a:xfrm>
          <a:prstGeom prst="rect">
            <a:avLst/>
          </a:prstGeom>
          <a:gradFill rotWithShape="0">
            <a:gsLst>
              <a:gs pos="0">
                <a:srgbClr val="b5b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447920" y="609480"/>
            <a:ext cx="64008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905120" y="838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2362320" y="175248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6477120" y="175248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106668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Коммуника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502920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Социальн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1219320" y="4952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 с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5181480" y="4876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участию в обществен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6"/>
          <p:cNvSpPr/>
          <p:nvPr/>
        </p:nvSpPr>
        <p:spPr>
          <a:xfrm rot="10788600">
            <a:off x="2361960" y="365724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"/>
          <p:cNvSpPr/>
          <p:nvPr/>
        </p:nvSpPr>
        <p:spPr>
          <a:xfrm rot="10788600">
            <a:off x="6476760" y="365724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457200" y="3809880"/>
            <a:ext cx="22860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3352680" y="3809880"/>
            <a:ext cx="22860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6172200" y="3809880"/>
            <a:ext cx="22860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943600" y="2438280"/>
            <a:ext cx="2895480" cy="609840"/>
          </a:xfrm>
          <a:prstGeom prst="rect">
            <a:avLst/>
          </a:prstGeom>
          <a:gradFill rotWithShape="0">
            <a:gsLst>
              <a:gs pos="0">
                <a:srgbClr val="9fa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3505320" y="2438280"/>
            <a:ext cx="2133360" cy="609840"/>
          </a:xfrm>
          <a:prstGeom prst="rect">
            <a:avLst/>
          </a:prstGeom>
          <a:gradFill rotWithShape="0">
            <a:gsLst>
              <a:gs pos="0">
                <a:srgbClr val="9fa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28600" y="2438280"/>
            <a:ext cx="2971800" cy="609840"/>
          </a:xfrm>
          <a:prstGeom prst="rect">
            <a:avLst/>
          </a:prstGeom>
          <a:gradFill rotWithShape="0">
            <a:gsLst>
              <a:gs pos="0">
                <a:srgbClr val="9fa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7"/>
          <p:cNvSpPr/>
          <p:nvPr/>
        </p:nvSpPr>
        <p:spPr>
          <a:xfrm>
            <a:off x="1447920" y="609480"/>
            <a:ext cx="64008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2362320" y="8380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304920" y="2514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Самореализ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505320" y="2514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Жизнестой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943600" y="2514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Самоосозна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533520" y="3886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реализованности возможностей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37339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труд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6400800" y="4114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самому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7"/>
          <p:cNvSpPr/>
          <p:nvPr/>
        </p:nvSpPr>
        <p:spPr>
          <a:xfrm>
            <a:off x="2590920" y="17524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8"/>
          <p:cNvSpPr/>
          <p:nvPr/>
        </p:nvSpPr>
        <p:spPr>
          <a:xfrm>
            <a:off x="4419720" y="17524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9"/>
          <p:cNvSpPr/>
          <p:nvPr/>
        </p:nvSpPr>
        <p:spPr>
          <a:xfrm>
            <a:off x="6095880" y="17524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0"/>
          <p:cNvSpPr/>
          <p:nvPr/>
        </p:nvSpPr>
        <p:spPr>
          <a:xfrm rot="10800000">
            <a:off x="1447920" y="3048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3"/>
          <p:cNvSpPr/>
          <p:nvPr/>
        </p:nvSpPr>
        <p:spPr>
          <a:xfrm rot="10800000">
            <a:off x="4419720" y="3048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4"/>
          <p:cNvSpPr/>
          <p:nvPr/>
        </p:nvSpPr>
        <p:spPr>
          <a:xfrm rot="10800000">
            <a:off x="7314840" y="3048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7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2819520" y="2971800"/>
            <a:ext cx="3504960" cy="380880"/>
          </a:xfrm>
          <a:prstGeom prst="rect">
            <a:avLst/>
          </a:prstGeom>
          <a:gradFill rotWithShape="0">
            <a:gsLst>
              <a:gs pos="0">
                <a:srgbClr val="c1ffb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200400" y="1447920"/>
            <a:ext cx="2819520" cy="380880"/>
          </a:xfrm>
          <a:prstGeom prst="rect">
            <a:avLst/>
          </a:prstGeom>
          <a:gradFill rotWithShape="0">
            <a:gsLst>
              <a:gs pos="0">
                <a:srgbClr val="b5ffb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2971800" y="2133720"/>
            <a:ext cx="3200400" cy="533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46"/>
          <p:cNvSpPr/>
          <p:nvPr/>
        </p:nvSpPr>
        <p:spPr>
          <a:xfrm rot="21470400">
            <a:off x="2742840" y="4114440"/>
            <a:ext cx="60948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31240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3124080" y="29718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3505320" y="1447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(базов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4495680" y="26668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9"/>
          <p:cNvSpPr/>
          <p:nvPr/>
        </p:nvSpPr>
        <p:spPr>
          <a:xfrm rot="10741800">
            <a:off x="4494960" y="182844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2"/>
          <p:cNvSpPr/>
          <p:nvPr/>
        </p:nvSpPr>
        <p:spPr>
          <a:xfrm rot="21470400">
            <a:off x="152280" y="4038120"/>
            <a:ext cx="990720" cy="24894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4"/>
          <p:cNvSpPr/>
          <p:nvPr/>
        </p:nvSpPr>
        <p:spPr>
          <a:xfrm rot="21470400">
            <a:off x="1220760" y="3884760"/>
            <a:ext cx="1374840" cy="27432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48"/>
          <p:cNvSpPr/>
          <p:nvPr/>
        </p:nvSpPr>
        <p:spPr>
          <a:xfrm rot="21470400">
            <a:off x="4266720" y="3809520"/>
            <a:ext cx="695520" cy="29466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54"/>
          <p:cNvSpPr/>
          <p:nvPr/>
        </p:nvSpPr>
        <p:spPr>
          <a:xfrm rot="21470400">
            <a:off x="8227800" y="4188960"/>
            <a:ext cx="685800" cy="24894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55"/>
          <p:cNvSpPr/>
          <p:nvPr/>
        </p:nvSpPr>
        <p:spPr>
          <a:xfrm rot="21470400">
            <a:off x="5181120" y="4190760"/>
            <a:ext cx="60984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56"/>
          <p:cNvSpPr/>
          <p:nvPr/>
        </p:nvSpPr>
        <p:spPr>
          <a:xfrm rot="21470400">
            <a:off x="6019560" y="4190760"/>
            <a:ext cx="60948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57"/>
          <p:cNvSpPr/>
          <p:nvPr/>
        </p:nvSpPr>
        <p:spPr>
          <a:xfrm rot="21470400">
            <a:off x="3504960" y="4114440"/>
            <a:ext cx="60948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58"/>
          <p:cNvSpPr/>
          <p:nvPr/>
        </p:nvSpPr>
        <p:spPr>
          <a:xfrm rot="21470400">
            <a:off x="7467120" y="4190760"/>
            <a:ext cx="60984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59"/>
          <p:cNvSpPr/>
          <p:nvPr/>
        </p:nvSpPr>
        <p:spPr>
          <a:xfrm rot="21470400">
            <a:off x="6781320" y="4190760"/>
            <a:ext cx="60984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67"/>
          <p:cNvCxnSpPr>
            <a:stCxn id="413" idx="1"/>
            <a:endCxn id="422" idx="21"/>
          </p:cNvCxnSpPr>
          <p:nvPr/>
        </p:nvCxnSpPr>
        <p:spPr>
          <a:xfrm flipV="1" rot="10800000">
            <a:off x="826200" y="3161880"/>
            <a:ext cx="1993320" cy="962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68"/>
          <p:cNvCxnSpPr>
            <a:stCxn id="413" idx="1"/>
            <a:endCxn id="423" idx="21"/>
          </p:cNvCxnSpPr>
          <p:nvPr/>
        </p:nvCxnSpPr>
        <p:spPr>
          <a:xfrm flipV="1" rot="10800000">
            <a:off x="2169360" y="3161880"/>
            <a:ext cx="650160" cy="815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69"/>
          <p:cNvCxnSpPr>
            <a:stCxn id="413" idx="1"/>
            <a:endCxn id="416" idx="21"/>
          </p:cNvCxnSpPr>
          <p:nvPr/>
        </p:nvCxnSpPr>
        <p:spPr>
          <a:xfrm flipH="1" flipV="1" rot="10800000">
            <a:off x="2818440" y="3161160"/>
            <a:ext cx="322920" cy="1042200"/>
          </a:xfrm>
          <a:prstGeom prst="curvedConnector5">
            <a:avLst>
              <a:gd name="adj1" fmla="val -70870"/>
              <a:gd name="adj2" fmla="val 27194"/>
              <a:gd name="adj3" fmla="val -70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71"/>
          <p:cNvCxnSpPr>
            <a:stCxn id="413" idx="1"/>
            <a:endCxn id="428" idx="21"/>
          </p:cNvCxnSpPr>
          <p:nvPr/>
        </p:nvCxnSpPr>
        <p:spPr>
          <a:xfrm flipH="1" flipV="1" rot="10800000">
            <a:off x="2818440" y="3161160"/>
            <a:ext cx="889560" cy="986760"/>
          </a:xfrm>
          <a:prstGeom prst="curvedConnector5">
            <a:avLst>
              <a:gd name="adj1" fmla="val -15141"/>
              <a:gd name="adj2" fmla="val 28722"/>
              <a:gd name="adj3" fmla="val -151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AutoShape 72"/>
          <p:cNvCxnSpPr>
            <a:stCxn id="413" idx="1"/>
            <a:endCxn id="424" idx="21"/>
          </p:cNvCxnSpPr>
          <p:nvPr/>
        </p:nvCxnSpPr>
        <p:spPr>
          <a:xfrm flipH="1" flipV="1" rot="10800000">
            <a:off x="2818440" y="3162240"/>
            <a:ext cx="1678680" cy="687960"/>
          </a:xfrm>
          <a:prstGeom prst="curvedConnector5">
            <a:avLst>
              <a:gd name="adj1" fmla="val -5190"/>
              <a:gd name="adj2" fmla="val 30000"/>
              <a:gd name="adj3" fmla="val -51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AutoShape 73"/>
          <p:cNvCxnSpPr>
            <a:stCxn id="413" idx="3"/>
            <a:endCxn id="425" idx="21"/>
          </p:cNvCxnSpPr>
          <p:nvPr/>
        </p:nvCxnSpPr>
        <p:spPr>
          <a:xfrm>
            <a:off x="6324480" y="3162240"/>
            <a:ext cx="2139120" cy="1061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AutoShape 74"/>
          <p:cNvCxnSpPr>
            <a:stCxn id="413" idx="3"/>
            <a:endCxn id="429" idx="21"/>
          </p:cNvCxnSpPr>
          <p:nvPr/>
        </p:nvCxnSpPr>
        <p:spPr>
          <a:xfrm>
            <a:off x="6324480" y="3162240"/>
            <a:ext cx="134712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AutoShape 75"/>
          <p:cNvCxnSpPr>
            <a:stCxn id="413" idx="3"/>
            <a:endCxn id="430" idx="21"/>
          </p:cNvCxnSpPr>
          <p:nvPr/>
        </p:nvCxnSpPr>
        <p:spPr>
          <a:xfrm>
            <a:off x="6324120" y="3162240"/>
            <a:ext cx="66132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AutoShape 78"/>
          <p:cNvCxnSpPr>
            <a:stCxn id="413" idx="3"/>
            <a:endCxn id="426" idx="21"/>
          </p:cNvCxnSpPr>
          <p:nvPr/>
        </p:nvCxnSpPr>
        <p:spPr>
          <a:xfrm flipH="1">
            <a:off x="5384520" y="3162240"/>
            <a:ext cx="940320" cy="1062720"/>
          </a:xfrm>
          <a:prstGeom prst="curvedConnector5">
            <a:avLst>
              <a:gd name="adj1" fmla="val -24320"/>
              <a:gd name="adj2" fmla="val 28397"/>
              <a:gd name="adj3" fmla="val -243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AutoShape 79"/>
          <p:cNvCxnSpPr>
            <a:stCxn id="413" idx="3"/>
            <a:endCxn id="427" idx="21"/>
          </p:cNvCxnSpPr>
          <p:nvPr/>
        </p:nvCxnSpPr>
        <p:spPr>
          <a:xfrm flipH="1">
            <a:off x="6222600" y="3162240"/>
            <a:ext cx="102240" cy="1062720"/>
          </a:xfrm>
          <a:prstGeom prst="curvedConnector5">
            <a:avLst>
              <a:gd name="adj1" fmla="val -335689"/>
              <a:gd name="adj2" fmla="val 28397"/>
              <a:gd name="adj3" fmla="val -3356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Freeform 80"/>
          <p:cNvSpPr/>
          <p:nvPr/>
        </p:nvSpPr>
        <p:spPr>
          <a:xfrm rot="21470400">
            <a:off x="380880" y="152280"/>
            <a:ext cx="609840" cy="18288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1"/>
          <p:cNvSpPr/>
          <p:nvPr/>
        </p:nvSpPr>
        <p:spPr>
          <a:xfrm rot="21470400">
            <a:off x="2362320" y="151920"/>
            <a:ext cx="609480" cy="144792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82"/>
          <p:cNvSpPr/>
          <p:nvPr/>
        </p:nvSpPr>
        <p:spPr>
          <a:xfrm rot="21470400">
            <a:off x="6475320" y="225000"/>
            <a:ext cx="533520" cy="12956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83"/>
          <p:cNvSpPr/>
          <p:nvPr/>
        </p:nvSpPr>
        <p:spPr>
          <a:xfrm rot="21470400">
            <a:off x="8077320" y="152280"/>
            <a:ext cx="609480" cy="167652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AutoShape 84"/>
          <p:cNvCxnSpPr>
            <a:stCxn id="414" idx="1"/>
            <a:endCxn id="441" idx="21"/>
          </p:cNvCxnSpPr>
          <p:nvPr/>
        </p:nvCxnSpPr>
        <p:spPr>
          <a:xfrm flipV="1" rot="10800000">
            <a:off x="816840" y="1636920"/>
            <a:ext cx="2383560" cy="284400"/>
          </a:xfrm>
          <a:prstGeom prst="curvedConnector5">
            <a:avLst>
              <a:gd name="adj1" fmla="val 45619"/>
              <a:gd name="adj2" fmla="val 102281"/>
              <a:gd name="adj3" fmla="val 456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AutoShape 85"/>
          <p:cNvCxnSpPr>
            <a:stCxn id="414" idx="1"/>
            <a:endCxn id="442" idx="21"/>
          </p:cNvCxnSpPr>
          <p:nvPr/>
        </p:nvCxnSpPr>
        <p:spPr>
          <a:xfrm rot="10800000">
            <a:off x="2790000" y="1551960"/>
            <a:ext cx="410400" cy="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86"/>
          <p:cNvCxnSpPr>
            <a:stCxn id="414" idx="3"/>
            <a:endCxn id="443" idx="21"/>
          </p:cNvCxnSpPr>
          <p:nvPr/>
        </p:nvCxnSpPr>
        <p:spPr>
          <a:xfrm flipV="1">
            <a:off x="6019920" y="1518480"/>
            <a:ext cx="630720" cy="119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AutoShape 88"/>
          <p:cNvCxnSpPr>
            <a:stCxn id="414" idx="3"/>
            <a:endCxn id="444" idx="21"/>
          </p:cNvCxnSpPr>
          <p:nvPr/>
        </p:nvCxnSpPr>
        <p:spPr>
          <a:xfrm flipV="1">
            <a:off x="6019560" y="1534320"/>
            <a:ext cx="2096280" cy="104040"/>
          </a:xfrm>
          <a:prstGeom prst="curvedConnector5">
            <a:avLst>
              <a:gd name="adj1" fmla="val 48316"/>
              <a:gd name="adj2" fmla="val -207638"/>
              <a:gd name="adj3" fmla="val 483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Text Box 90"/>
          <p:cNvSpPr/>
          <p:nvPr/>
        </p:nvSpPr>
        <p:spPr>
          <a:xfrm rot="16200000">
            <a:off x="-217800" y="9129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91"/>
          <p:cNvSpPr/>
          <p:nvPr/>
        </p:nvSpPr>
        <p:spPr>
          <a:xfrm rot="16206600">
            <a:off x="1791720" y="798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2"/>
          <p:cNvSpPr/>
          <p:nvPr/>
        </p:nvSpPr>
        <p:spPr>
          <a:xfrm rot="16113000">
            <a:off x="6031800" y="7606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3"/>
          <p:cNvSpPr/>
          <p:nvPr/>
        </p:nvSpPr>
        <p:spPr>
          <a:xfrm rot="16215000">
            <a:off x="7621200" y="836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4"/>
          <p:cNvSpPr/>
          <p:nvPr/>
        </p:nvSpPr>
        <p:spPr>
          <a:xfrm rot="16200000">
            <a:off x="-374760" y="5057640"/>
            <a:ext cx="20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сприятие, мироотно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5"/>
          <p:cNvSpPr/>
          <p:nvPr/>
        </p:nvSpPr>
        <p:spPr>
          <a:xfrm rot="16234800">
            <a:off x="867960" y="4887720"/>
            <a:ext cx="226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тивация достижений в самореализации и самоутвер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6"/>
          <p:cNvSpPr/>
          <p:nvPr/>
        </p:nvSpPr>
        <p:spPr>
          <a:xfrm rot="16200000">
            <a:off x="1896480" y="5202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вил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7"/>
          <p:cNvSpPr/>
          <p:nvPr/>
        </p:nvSpPr>
        <p:spPr>
          <a:xfrm rot="16244400">
            <a:off x="2461320" y="5131080"/>
            <a:ext cx="26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98"/>
          <p:cNvSpPr/>
          <p:nvPr/>
        </p:nvSpPr>
        <p:spPr>
          <a:xfrm rot="16212000">
            <a:off x="3185640" y="5159160"/>
            <a:ext cx="29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ая интегрир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9"/>
          <p:cNvSpPr/>
          <p:nvPr/>
        </p:nvSpPr>
        <p:spPr>
          <a:xfrm rot="16224600">
            <a:off x="4430880" y="525564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0"/>
          <p:cNvSpPr/>
          <p:nvPr/>
        </p:nvSpPr>
        <p:spPr>
          <a:xfrm rot="16200000">
            <a:off x="5142960" y="5293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ая 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1"/>
          <p:cNvSpPr/>
          <p:nvPr/>
        </p:nvSpPr>
        <p:spPr>
          <a:xfrm rot="16222800">
            <a:off x="5957280" y="52686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реал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2"/>
          <p:cNvSpPr/>
          <p:nvPr/>
        </p:nvSpPr>
        <p:spPr>
          <a:xfrm rot="16200000">
            <a:off x="6758280" y="5346000"/>
            <a:ext cx="20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стой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3"/>
          <p:cNvSpPr/>
          <p:nvPr/>
        </p:nvSpPr>
        <p:spPr>
          <a:xfrm rot="16224600">
            <a:off x="7470720" y="52668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сознава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2590920" y="380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1135080"/>
            <a:ext cx="861048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йте характеристику основных (базовых) свойств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долго продолжается процесс формирования основных свойств личн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снуйте природу социально-психологических свойств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йте характеристику мировосприятию и мироотношению личности как её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оизведите иерархию потребностей А.Маслоу и дайте оценку роли развития разных потребностей в ней для оценки социально психологической развитост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компоненты составляют цивилизованность личности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ую роль в социальных отношениях  и успехах играет коммуникативность личности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составляет социальную активность личности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2438280" y="41911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28600" y="4876920"/>
            <a:ext cx="83818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означает самореализованность как социально психологическое качество, где оно проявляется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е значение для социально-психологических проявлений личности, её статуса и успехов имеет свойство самореализованности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0"/>
                            </p:stCondLst>
                            <p:childTnLst>
                              <p:par>
                                <p:cTn id="8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500"/>
                            </p:stCondLst>
                            <p:childTnLst>
                              <p:par>
                                <p:cTn id="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3422520" y="9079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853080" y="55879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971640" y="1916280"/>
            <a:ext cx="360360" cy="311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924360" y="2565360"/>
            <a:ext cx="288720" cy="173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356000" y="1557360"/>
            <a:ext cx="35892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859280" y="2133720"/>
            <a:ext cx="309600" cy="256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885080" y="2997360"/>
            <a:ext cx="360360" cy="146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1116000" y="6093000"/>
            <a:ext cx="698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8101080" y="4221000"/>
            <a:ext cx="0" cy="187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V="1">
            <a:off x="1116000" y="907560"/>
            <a:ext cx="0" cy="100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1116000" y="907920"/>
            <a:ext cx="698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8101080" y="907920"/>
            <a:ext cx="0" cy="2089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468360" y="549360"/>
            <a:ext cx="0" cy="590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468360" y="6453360"/>
            <a:ext cx="8207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468360" y="549360"/>
            <a:ext cx="8207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 flipV="1">
            <a:off x="8675640" y="549360"/>
            <a:ext cx="0" cy="590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3"/>
          <p:cNvSpPr/>
          <p:nvPr/>
        </p:nvSpPr>
        <p:spPr>
          <a:xfrm>
            <a:off x="1763640" y="3284640"/>
            <a:ext cx="1584360" cy="504720"/>
          </a:xfrm>
          <a:prstGeom prst="rightArrow">
            <a:avLst>
              <a:gd name="adj1" fmla="val 50000"/>
              <a:gd name="adj2" fmla="val 7847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>
            <a:off x="5724360" y="3284640"/>
            <a:ext cx="1584360" cy="504720"/>
          </a:xfrm>
          <a:prstGeom prst="rightArrow">
            <a:avLst>
              <a:gd name="adj1" fmla="val 50000"/>
              <a:gd name="adj2" fmla="val 7847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3564000" y="404640"/>
            <a:ext cx="2303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ТРЕ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255040" y="1289160"/>
            <a:ext cx="178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586120" y="1341360"/>
            <a:ext cx="1678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ховны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839040" y="1865160"/>
            <a:ext cx="152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778480" y="2708280"/>
            <a:ext cx="3976920" cy="368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19280" y="3733920"/>
            <a:ext cx="7704000" cy="283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1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ый содержательный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знание данной потребности, сопровождаемое характерным эмоциональным со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 – волевое состояние побуждения к удовлетворению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ение или полное исчезновение этих состояний после удовлетворения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ное возникновение потребности, когда нужда, лежащая в основе её, дает о себе з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4572000" y="10666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3200400" y="1676520"/>
            <a:ext cx="32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3348000" y="306864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5724360" y="306864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22"/>
          <p:cNvCxnSpPr>
            <a:stCxn id="76" idx="0"/>
            <a:endCxn id="71" idx="0"/>
          </p:cNvCxnSpPr>
          <p:nvPr/>
        </p:nvCxnSpPr>
        <p:spPr>
          <a:xfrm flipH="1">
            <a:off x="3146040" y="1066680"/>
            <a:ext cx="142632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AutoShape 23"/>
          <p:cNvCxnSpPr>
            <a:stCxn id="76" idx="0"/>
            <a:endCxn id="72" idx="0"/>
          </p:cNvCxnSpPr>
          <p:nvPr/>
        </p:nvCxnSpPr>
        <p:spPr>
          <a:xfrm>
            <a:off x="4571640" y="1066320"/>
            <a:ext cx="185508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" name="Line 24"/>
          <p:cNvSpPr/>
          <p:nvPr/>
        </p:nvSpPr>
        <p:spPr>
          <a:xfrm>
            <a:off x="6248520" y="1676520"/>
            <a:ext cx="288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Я ПОТРЕБНОСТЕЙ П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. МАСЛО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3352680" y="22096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ребности самоактуализации: реализация потенциа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2895480" y="32767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ребности самоуважения: значение, компетен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2666880" y="41911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ребности принадлежности и любви: присоединение и прин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8"/>
          <p:cNvSpPr/>
          <p:nvPr/>
        </p:nvSpPr>
        <p:spPr>
          <a:xfrm>
            <a:off x="2286000" y="510552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ребности безопасности: долговременное выживание и стаб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1905120" y="6019920"/>
            <a:ext cx="44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ологические потребности: голод, жажд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2"/>
          <p:cNvSpPr/>
          <p:nvPr/>
        </p:nvSpPr>
        <p:spPr>
          <a:xfrm>
            <a:off x="228600" y="6553080"/>
            <a:ext cx="7772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3"/>
          <p:cNvSpPr/>
          <p:nvPr/>
        </p:nvSpPr>
        <p:spPr>
          <a:xfrm flipV="1">
            <a:off x="228600" y="1143000"/>
            <a:ext cx="3886200" cy="5410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4"/>
          <p:cNvSpPr/>
          <p:nvPr/>
        </p:nvSpPr>
        <p:spPr>
          <a:xfrm flipH="1" flipV="1">
            <a:off x="4114440" y="1143000"/>
            <a:ext cx="3886200" cy="5410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5"/>
          <p:cNvSpPr/>
          <p:nvPr/>
        </p:nvSpPr>
        <p:spPr>
          <a:xfrm flipV="1">
            <a:off x="8001000" y="5866920"/>
            <a:ext cx="76212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6"/>
          <p:cNvSpPr/>
          <p:nvPr/>
        </p:nvSpPr>
        <p:spPr>
          <a:xfrm flipH="1" flipV="1">
            <a:off x="4114800" y="1142640"/>
            <a:ext cx="4648320" cy="472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2743200" y="3048120"/>
            <a:ext cx="2743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2133720" y="3962520"/>
            <a:ext cx="4038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1447920" y="4876920"/>
            <a:ext cx="5333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838080" y="5791320"/>
            <a:ext cx="6629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3"/>
          <p:cNvSpPr/>
          <p:nvPr/>
        </p:nvSpPr>
        <p:spPr>
          <a:xfrm flipV="1">
            <a:off x="5486400" y="2895480"/>
            <a:ext cx="30492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4"/>
          <p:cNvSpPr/>
          <p:nvPr/>
        </p:nvSpPr>
        <p:spPr>
          <a:xfrm flipV="1">
            <a:off x="7467480" y="5257800"/>
            <a:ext cx="68580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5"/>
          <p:cNvSpPr/>
          <p:nvPr/>
        </p:nvSpPr>
        <p:spPr>
          <a:xfrm flipV="1">
            <a:off x="6781680" y="4495320"/>
            <a:ext cx="609840" cy="381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6"/>
          <p:cNvSpPr/>
          <p:nvPr/>
        </p:nvSpPr>
        <p:spPr>
          <a:xfrm flipV="1">
            <a:off x="6172200" y="3733560"/>
            <a:ext cx="45720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3"/>
          <p:cNvSpPr/>
          <p:nvPr/>
        </p:nvSpPr>
        <p:spPr>
          <a:xfrm>
            <a:off x="4648320" y="4572000"/>
            <a:ext cx="24382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2"/>
          <p:cNvSpPr/>
          <p:nvPr/>
        </p:nvSpPr>
        <p:spPr>
          <a:xfrm>
            <a:off x="1828800" y="4572000"/>
            <a:ext cx="24382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4"/>
          <p:cNvSpPr/>
          <p:nvPr/>
        </p:nvSpPr>
        <p:spPr>
          <a:xfrm>
            <a:off x="5981760" y="30481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1"/>
          <p:cNvSpPr/>
          <p:nvPr/>
        </p:nvSpPr>
        <p:spPr>
          <a:xfrm>
            <a:off x="3276720" y="30481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209680" y="1981080"/>
            <a:ext cx="472464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162240" y="2133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тивы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971800" y="5867280"/>
            <a:ext cx="3200400" cy="7621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286000" y="152280"/>
            <a:ext cx="464832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438280" y="609480"/>
            <a:ext cx="1371600" cy="76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657600" y="59436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ональные системы псих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095560" y="45720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инирующее мотивационное возбу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5181480" y="457200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йронные механизмы мотив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429000" y="32907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буждение тонуса симпатической нервной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685800" y="30481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066680" y="33526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усковая интег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2"/>
          <p:cNvSpPr/>
          <p:nvPr/>
        </p:nvSpPr>
        <p:spPr>
          <a:xfrm>
            <a:off x="6248520" y="32004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эмоциональных пережи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2438280" y="228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и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4648320" y="228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одерж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2514600" y="6858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е, слаб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4419720" y="609480"/>
            <a:ext cx="2438280" cy="914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4495680" y="68580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шие биолог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5486400" y="685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е 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1"/>
          <p:cNvSpPr/>
          <p:nvPr/>
        </p:nvSpPr>
        <p:spPr>
          <a:xfrm>
            <a:off x="3429000" y="5562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2"/>
          <p:cNvSpPr/>
          <p:nvPr/>
        </p:nvSpPr>
        <p:spPr>
          <a:xfrm>
            <a:off x="5486400" y="5562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3"/>
          <p:cNvSpPr/>
          <p:nvPr/>
        </p:nvSpPr>
        <p:spPr>
          <a:xfrm>
            <a:off x="2514600" y="266688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4"/>
          <p:cNvSpPr/>
          <p:nvPr/>
        </p:nvSpPr>
        <p:spPr>
          <a:xfrm>
            <a:off x="4419720" y="266688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5"/>
          <p:cNvSpPr/>
          <p:nvPr/>
        </p:nvSpPr>
        <p:spPr>
          <a:xfrm>
            <a:off x="2895480" y="16002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6"/>
          <p:cNvSpPr/>
          <p:nvPr/>
        </p:nvSpPr>
        <p:spPr>
          <a:xfrm>
            <a:off x="6324480" y="16002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6400800" y="266688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2819520" y="27432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4952880" y="27432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"/>
          <p:cNvSpPr/>
          <p:nvPr/>
        </p:nvSpPr>
        <p:spPr>
          <a:xfrm>
            <a:off x="457200" y="5791320"/>
            <a:ext cx="8229600" cy="609480"/>
          </a:xfrm>
          <a:prstGeom prst="rect">
            <a:avLst/>
          </a:prstGeom>
          <a:gradFill rotWithShape="0">
            <a:gsLst>
              <a:gs pos="0">
                <a:srgbClr val="a89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gradFill rotWithShape="0">
            <a:gsLst>
              <a:gs pos="0">
                <a:srgbClr val="a89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857680" y="380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971800" y="5943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1219320" y="9144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7924680" y="9144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4267080" y="9144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4952880" y="9144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295280" y="1143000"/>
            <a:ext cx="28195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ей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стойчи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осред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осредов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бо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ерхно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952880" y="1143000"/>
            <a:ext cx="2971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зация не только познавательных интересов, но и творческих побудительных усилий человека в различных областях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, чем обычно, конкретизация целей и операци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ение и углубление знаний человека в данной специальн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образное эмоциональное удовлетворение, побуждающее к длительному занятию соответствующей деятель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5800" y="1143000"/>
            <a:ext cx="45720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8077320" y="914400"/>
            <a:ext cx="45720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2"/>
          <p:cNvSpPr/>
          <p:nvPr/>
        </p:nvSpPr>
        <p:spPr>
          <a:xfrm>
            <a:off x="5867280" y="3886200"/>
            <a:ext cx="2286000" cy="762120"/>
          </a:xfrm>
          <a:prstGeom prst="rect">
            <a:avLst/>
          </a:prstGeom>
          <a:gradFill rotWithShape="0">
            <a:gsLst>
              <a:gs pos="0">
                <a:srgbClr val="a9e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3124080" y="4648320"/>
            <a:ext cx="2286000" cy="761760"/>
          </a:xfrm>
          <a:prstGeom prst="rect">
            <a:avLst/>
          </a:prstGeom>
          <a:gradFill rotWithShape="0">
            <a:gsLst>
              <a:gs pos="0">
                <a:srgbClr val="a9e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3520" y="3962520"/>
            <a:ext cx="2286000" cy="761760"/>
          </a:xfrm>
          <a:prstGeom prst="rect">
            <a:avLst/>
          </a:prstGeom>
          <a:gradFill rotWithShape="0">
            <a:gsLst>
              <a:gs pos="0">
                <a:srgbClr val="a9e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743200" y="914400"/>
            <a:ext cx="3124080" cy="1371600"/>
          </a:xfrm>
          <a:prstGeom prst="rect">
            <a:avLst/>
          </a:prstGeom>
          <a:gradFill rotWithShape="0">
            <a:gsLst>
              <a:gs pos="0">
                <a:srgbClr val="b9adff"/>
              </a:gs>
              <a:gs pos="100000">
                <a:srgbClr val="dbf7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048120" y="1219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5812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55308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 rot="2356200">
            <a:off x="2285640" y="2133720"/>
            <a:ext cx="228600" cy="2057400"/>
          </a:xfrm>
          <a:prstGeom prst="downArrow">
            <a:avLst>
              <a:gd name="adj1" fmla="val 50000"/>
              <a:gd name="adj2" fmla="val 22500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 rot="19266600">
            <a:off x="6019920" y="2133360"/>
            <a:ext cx="228600" cy="1973160"/>
          </a:xfrm>
          <a:prstGeom prst="downArrow">
            <a:avLst>
              <a:gd name="adj1" fmla="val 50000"/>
              <a:gd name="adj2" fmla="val 215787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4114800" y="2286000"/>
            <a:ext cx="228600" cy="2362320"/>
          </a:xfrm>
          <a:prstGeom prst="downArrow">
            <a:avLst>
              <a:gd name="adj1" fmla="val 50000"/>
              <a:gd name="adj2" fmla="val 258346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3"/>
          <p:cNvSpPr/>
          <p:nvPr/>
        </p:nvSpPr>
        <p:spPr>
          <a:xfrm>
            <a:off x="4648320" y="5181480"/>
            <a:ext cx="1752480" cy="137160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4"/>
          <p:cNvSpPr/>
          <p:nvPr/>
        </p:nvSpPr>
        <p:spPr>
          <a:xfrm>
            <a:off x="4648320" y="3581280"/>
            <a:ext cx="1752480" cy="106704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5"/>
          <p:cNvSpPr/>
          <p:nvPr/>
        </p:nvSpPr>
        <p:spPr>
          <a:xfrm>
            <a:off x="4648320" y="1676520"/>
            <a:ext cx="1752480" cy="137160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1371600" y="5638680"/>
            <a:ext cx="1981080" cy="99072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1"/>
          <p:cNvSpPr/>
          <p:nvPr/>
        </p:nvSpPr>
        <p:spPr>
          <a:xfrm>
            <a:off x="1371600" y="4343400"/>
            <a:ext cx="1981080" cy="99072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1371600" y="2986200"/>
            <a:ext cx="1981080" cy="99036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905120" y="152280"/>
            <a:ext cx="4114800" cy="914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1371600" y="1676520"/>
            <a:ext cx="1981080" cy="99036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2286000" y="380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ракт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16765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отношению к окружающему ми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47920" y="2133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ённый Беспринцип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95280" y="29718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отношению к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371600" y="34290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ый Бездея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137160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1447920" y="43434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отношению к люд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371600" y="48006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тельный Замкну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13716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371600" y="56386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отношению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1371600" y="60958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руистические Эгоис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1371600" y="6095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16765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оле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4648320" y="19810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настойчивость, самообладание, самостоятельность, инициа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4648320" y="1981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47242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мо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4648320" y="39625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ывистость, впечатлительность, инер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4648320" y="3962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4648320" y="5257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4648320" y="5638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бокомыслие, сообразительность, находчивость, любозна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4648320" y="5562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5400000">
            <a:off x="5014800" y="1309680"/>
            <a:ext cx="609840" cy="123840"/>
          </a:xfrm>
          <a:prstGeom prst="rightArrow">
            <a:avLst>
              <a:gd name="adj1" fmla="val 69815"/>
              <a:gd name="adj2" fmla="val 18799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5400000">
            <a:off x="2119320" y="1309680"/>
            <a:ext cx="609840" cy="123840"/>
          </a:xfrm>
          <a:prstGeom prst="rightArrow">
            <a:avLst>
              <a:gd name="adj1" fmla="val 69815"/>
              <a:gd name="adj2" fmla="val 18799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5400000">
            <a:off x="2171520" y="2781000"/>
            <a:ext cx="304920" cy="76320"/>
          </a:xfrm>
          <a:prstGeom prst="rightArrow">
            <a:avLst>
              <a:gd name="adj1" fmla="val 69815"/>
              <a:gd name="adj2" fmla="val 15252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1"/>
          <p:cNvSpPr/>
          <p:nvPr/>
        </p:nvSpPr>
        <p:spPr>
          <a:xfrm rot="5400000">
            <a:off x="2133720" y="4114800"/>
            <a:ext cx="380880" cy="76320"/>
          </a:xfrm>
          <a:prstGeom prst="rightArrow">
            <a:avLst>
              <a:gd name="adj1" fmla="val 69815"/>
              <a:gd name="adj2" fmla="val 190519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2"/>
          <p:cNvSpPr/>
          <p:nvPr/>
        </p:nvSpPr>
        <p:spPr>
          <a:xfrm rot="5400000">
            <a:off x="5029200" y="3276360"/>
            <a:ext cx="533160" cy="76320"/>
          </a:xfrm>
          <a:prstGeom prst="rightArrow">
            <a:avLst>
              <a:gd name="adj1" fmla="val 69815"/>
              <a:gd name="adj2" fmla="val 266691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4"/>
          <p:cNvSpPr/>
          <p:nvPr/>
        </p:nvSpPr>
        <p:spPr>
          <a:xfrm rot="5400000">
            <a:off x="2171880" y="5448240"/>
            <a:ext cx="304560" cy="76320"/>
          </a:xfrm>
          <a:prstGeom prst="rightArrow">
            <a:avLst>
              <a:gd name="adj1" fmla="val 69815"/>
              <a:gd name="adj2" fmla="val 152343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5"/>
          <p:cNvSpPr/>
          <p:nvPr/>
        </p:nvSpPr>
        <p:spPr>
          <a:xfrm rot="5400000">
            <a:off x="5029200" y="4876560"/>
            <a:ext cx="533160" cy="76320"/>
          </a:xfrm>
          <a:prstGeom prst="rightArrow">
            <a:avLst>
              <a:gd name="adj1" fmla="val 69815"/>
              <a:gd name="adj2" fmla="val 266691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9"/>
          <p:cNvSpPr/>
          <p:nvPr/>
        </p:nvSpPr>
        <p:spPr>
          <a:xfrm>
            <a:off x="1371600" y="2133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500"/>
                            </p:stCondLst>
                            <p:childTnLst>
                              <p:par>
                                <p:cTn id="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1"/>
          <p:cNvSpPr/>
          <p:nvPr/>
        </p:nvSpPr>
        <p:spPr>
          <a:xfrm>
            <a:off x="2362320" y="2209680"/>
            <a:ext cx="4114800" cy="533520"/>
          </a:xfrm>
          <a:prstGeom prst="rect">
            <a:avLst/>
          </a:prstGeom>
          <a:gradFill rotWithShape="0">
            <a:gsLst>
              <a:gs pos="0">
                <a:srgbClr val="a1b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3124080" y="1219320"/>
            <a:ext cx="2590920" cy="533160"/>
          </a:xfrm>
          <a:prstGeom prst="rect">
            <a:avLst/>
          </a:prstGeom>
          <a:gradFill rotWithShape="0">
            <a:gsLst>
              <a:gs pos="0">
                <a:srgbClr val="adbd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3429000" y="152280"/>
            <a:ext cx="1981080" cy="609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8"/>
          <p:cNvSpPr/>
          <p:nvPr/>
        </p:nvSpPr>
        <p:spPr>
          <a:xfrm>
            <a:off x="457200" y="3733920"/>
            <a:ext cx="1752480" cy="1726920"/>
          </a:xfrm>
          <a:prstGeom prst="pie">
            <a:avLst/>
          </a:prstGeom>
          <a:gradFill rotWithShape="0">
            <a:gsLst>
              <a:gs pos="0">
                <a:srgbClr val="fea0a9"/>
              </a:gs>
              <a:gs pos="100000">
                <a:srgbClr val="764a4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352680" y="228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352680" y="126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mpera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2743200" y="3733920"/>
            <a:ext cx="1752480" cy="1726920"/>
          </a:xfrm>
          <a:prstGeom prst="pie">
            <a:avLst/>
          </a:prstGeom>
          <a:gradFill rotWithShape="0">
            <a:gsLst>
              <a:gs pos="0">
                <a:srgbClr val="fdfd25"/>
              </a:gs>
              <a:gs pos="100000">
                <a:srgbClr val="757511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2"/>
          <p:cNvSpPr/>
          <p:nvPr/>
        </p:nvSpPr>
        <p:spPr>
          <a:xfrm>
            <a:off x="4876920" y="3657600"/>
            <a:ext cx="1752480" cy="172728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3"/>
          <p:cNvSpPr/>
          <p:nvPr/>
        </p:nvSpPr>
        <p:spPr>
          <a:xfrm>
            <a:off x="7010280" y="3657600"/>
            <a:ext cx="1752840" cy="1727280"/>
          </a:xfrm>
          <a:prstGeom prst="pie">
            <a:avLst/>
          </a:prstGeom>
          <a:gradFill rotWithShape="0">
            <a:gsLst>
              <a:gs pos="0">
                <a:srgbClr val="c4ff1f"/>
              </a:gs>
              <a:gs pos="100000">
                <a:srgbClr val="5b760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209680" y="2286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длежащее соотношение часте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8380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762120" y="4724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в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12408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124080" y="4724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257800" y="3962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ёрная жел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257800" y="4724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айна хол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746748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и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731520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ег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 rot="2490000">
            <a:off x="1752480" y="281916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4"/>
          <p:cNvSpPr/>
          <p:nvPr/>
        </p:nvSpPr>
        <p:spPr>
          <a:xfrm>
            <a:off x="3429000" y="2819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5"/>
          <p:cNvSpPr/>
          <p:nvPr/>
        </p:nvSpPr>
        <p:spPr>
          <a:xfrm>
            <a:off x="5334120" y="2819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6"/>
          <p:cNvSpPr/>
          <p:nvPr/>
        </p:nvSpPr>
        <p:spPr>
          <a:xfrm rot="18921600">
            <a:off x="6781320" y="2819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4191120" y="1752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4191120" y="7621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5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0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5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8:34:40Z</dcterms:created>
  <dc:creator>kaf_econ</dc:creator>
  <dc:description/>
  <dc:language>en-US</dc:language>
  <cp:lastModifiedBy>Кафедра</cp:lastModifiedBy>
  <dcterms:modified xsi:type="dcterms:W3CDTF">2014-04-07T06:38:26Z</dcterms:modified>
  <cp:revision>52</cp:revision>
  <dc:subject/>
  <dc:title>Раздел 2</dc:title>
</cp:coreProperties>
</file>