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29A-7682-4478-B1E7-9BD20746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9C3-555C-4AD6-8507-EAADF9E6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F24-5EA6-4E60-A831-4BF0A60D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0E5-9DAC-4ED3-B278-60692BB9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764-4376-4301-B291-E0D3E92A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853-C12B-4D5C-AAD2-830AC79B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F68-2073-47AE-8BB6-6894B824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5A8-BA74-4665-BA59-42A82609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DED-D8A0-4AD7-B398-F333F23E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9EA-4616-4891-882B-EA15788D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4B5-F212-4FFC-82FF-E8DFA0CB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C0F-2983-4364-81E9-224A90C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fe2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14BF-805B-4D15-9129-1937586E31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04920" y="152280"/>
            <a:ext cx="86104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3. Социальная психология 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малых групп.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13560" y="167652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3.8. Психология взаимо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233208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изучения темы вы будете понимать, что представляют собой межличностные отношения в малых груп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2280" y="3276720"/>
            <a:ext cx="692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ме будут рассмотрены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ятие отношений в психологической нау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ь, структура и виды взаим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терии оценки и развитие межличност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ы межличност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ая характеристика взаимопонимания между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28600" y="4800600"/>
            <a:ext cx="8701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сновная литерату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олнительная литерату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209680" y="2819520"/>
            <a:ext cx="4572000" cy="862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жличностные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навстречу людя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380400" y="3049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ТРУ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36360" y="5943600"/>
            <a:ext cx="234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ЯТЕЛЬ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372360" y="6019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 rot="16190400">
            <a:off x="3414600" y="1613880"/>
            <a:ext cx="195876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 rot="7132800">
            <a:off x="1955520" y="4825800"/>
            <a:ext cx="213372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 rot="3528000">
            <a:off x="5003280" y="4852800"/>
            <a:ext cx="220968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286000" y="3117960"/>
            <a:ext cx="4572000" cy="862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жличностные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т люд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286640" y="7621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У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86160" y="563868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РАЗЛИ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400440" y="76212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134760" y="563868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ОРМ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 rot="7768800">
            <a:off x="1662120" y="4738680"/>
            <a:ext cx="180648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 rot="13881000">
            <a:off x="1662120" y="1919160"/>
            <a:ext cx="195912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 rot="18568800">
            <a:off x="5217840" y="1976760"/>
            <a:ext cx="190512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1"/>
          <p:cNvSpPr/>
          <p:nvPr/>
        </p:nvSpPr>
        <p:spPr>
          <a:xfrm rot="3187800">
            <a:off x="5308200" y="4749480"/>
            <a:ext cx="182880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057400" y="3276720"/>
            <a:ext cx="4572000" cy="862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личностные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ротив люд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48840" y="83808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как вражде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64000" y="838080"/>
            <a:ext cx="30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ия как прич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да друг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821880" y="57913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17760" y="586728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риязнь к друг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 rot="7768800">
            <a:off x="1662120" y="4890960"/>
            <a:ext cx="180648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 rot="18316200">
            <a:off x="5166720" y="2147760"/>
            <a:ext cx="195912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 rot="3321600">
            <a:off x="5498640" y="4940280"/>
            <a:ext cx="175248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 rot="14444400">
            <a:off x="1738080" y="2147760"/>
            <a:ext cx="195912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286000" y="228600"/>
            <a:ext cx="4343400" cy="398880"/>
          </a:xfrm>
          <a:prstGeom prst="rect">
            <a:avLst/>
          </a:prstGeom>
          <a:gradFill rotWithShape="0">
            <a:gsLst>
              <a:gs pos="0">
                <a:srgbClr val="6c6cda"/>
              </a:gs>
              <a:gs pos="50000">
                <a:srgbClr val="ccccff"/>
              </a:gs>
              <a:gs pos="100000">
                <a:srgbClr val="6c6cda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ЗАИМОПО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992320" y="124452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1981080"/>
            <a:ext cx="3048120" cy="520200"/>
          </a:xfrm>
          <a:prstGeom prst="rect">
            <a:avLst/>
          </a:prstGeom>
          <a:gradFill rotWithShape="0">
            <a:gsLst>
              <a:gs pos="0">
                <a:srgbClr val="6c6cda"/>
              </a:gs>
              <a:gs pos="50000">
                <a:srgbClr val="ccccff"/>
              </a:gs>
              <a:gs pos="100000">
                <a:srgbClr val="6c6cda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гласование индивидуального осмысления предмета 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365080" y="1828800"/>
            <a:ext cx="3030480" cy="733320"/>
          </a:xfrm>
          <a:prstGeom prst="rect">
            <a:avLst/>
          </a:prstGeom>
          <a:gradFill rotWithShape="0">
            <a:gsLst>
              <a:gs pos="0">
                <a:srgbClr val="6c6cda"/>
              </a:gs>
              <a:gs pos="50000">
                <a:srgbClr val="ccccff"/>
              </a:gs>
              <a:gs pos="100000">
                <a:srgbClr val="6c6cda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приемлемая оценка и пр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ятие целей, мотивов и устано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ртнеров по взаимодейств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314440" y="284472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посылки эффе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48320" y="3809880"/>
            <a:ext cx="2379960" cy="307080"/>
          </a:xfrm>
          <a:prstGeom prst="rect">
            <a:avLst/>
          </a:prstGeom>
          <a:gradFill rotWithShape="0">
            <a:gsLst>
              <a:gs pos="0">
                <a:srgbClr val="6c6cda"/>
              </a:gs>
              <a:gs pos="50000">
                <a:srgbClr val="ccccff"/>
              </a:gs>
              <a:gs pos="100000">
                <a:srgbClr val="6c6cda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мест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248520" y="3809880"/>
            <a:ext cx="2268360" cy="307080"/>
          </a:xfrm>
          <a:prstGeom prst="rect">
            <a:avLst/>
          </a:prstGeom>
          <a:gradFill rotWithShape="0">
            <a:gsLst>
              <a:gs pos="0">
                <a:srgbClr val="6c6cda"/>
              </a:gs>
              <a:gs pos="50000">
                <a:srgbClr val="ccccff"/>
              </a:gs>
              <a:gs pos="100000">
                <a:srgbClr val="6c6cda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2788920" y="4316400"/>
            <a:ext cx="29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словия взаимопо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91920" y="49435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8a8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761920" y="49435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8a8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733720" y="49435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8a8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7473600" y="495288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8a8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976480" y="533412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чины недопо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32364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137772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252072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375264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512424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10200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702936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815472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 flipH="1">
            <a:off x="533520" y="609480"/>
            <a:ext cx="1752480" cy="1371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5"/>
          <p:cNvSpPr/>
          <p:nvPr/>
        </p:nvSpPr>
        <p:spPr>
          <a:xfrm>
            <a:off x="457200" y="25146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6"/>
          <p:cNvSpPr/>
          <p:nvPr/>
        </p:nvSpPr>
        <p:spPr>
          <a:xfrm>
            <a:off x="457200" y="41148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7"/>
          <p:cNvSpPr/>
          <p:nvPr/>
        </p:nvSpPr>
        <p:spPr>
          <a:xfrm>
            <a:off x="45720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8"/>
          <p:cNvSpPr/>
          <p:nvPr/>
        </p:nvSpPr>
        <p:spPr>
          <a:xfrm>
            <a:off x="457200" y="624852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830592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8305920" y="41148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1"/>
          <p:cNvSpPr/>
          <p:nvPr/>
        </p:nvSpPr>
        <p:spPr>
          <a:xfrm>
            <a:off x="8305920" y="25909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2"/>
          <p:cNvSpPr/>
          <p:nvPr/>
        </p:nvSpPr>
        <p:spPr>
          <a:xfrm>
            <a:off x="6629400" y="609480"/>
            <a:ext cx="1600200" cy="1219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40120" y="54000"/>
            <a:ext cx="620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279d"/>
                </a:solidFill>
                <a:latin typeface="Arial"/>
              </a:rPr>
              <a:t>Прогноз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279d"/>
                </a:solidFill>
                <a:latin typeface="Arial"/>
              </a:rPr>
              <a:t>взаимопонимания между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060280" y="1295280"/>
            <a:ext cx="4533120" cy="520200"/>
          </a:xfrm>
          <a:prstGeom prst="rect">
            <a:avLst/>
          </a:prstGeom>
          <a:gradFill rotWithShape="0">
            <a:gsLst>
              <a:gs pos="0">
                <a:srgbClr val="5b9dff"/>
              </a:gs>
              <a:gs pos="50000">
                <a:srgbClr val="ccccff"/>
              </a:gs>
              <a:gs pos="100000">
                <a:srgbClr val="5b9d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обычно понимает т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соответствует его прогнозам , гипотезам, цел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H="1">
            <a:off x="609480" y="1523880"/>
            <a:ext cx="1447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609480" y="1523880"/>
            <a:ext cx="0" cy="144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09480" y="18288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ы по отношению к предмету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52280" y="2971800"/>
            <a:ext cx="320040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5a3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ципация возможных 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609480" y="327672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50120" y="3505320"/>
            <a:ext cx="322884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5a3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 своего угла зрения на о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609480" y="38098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152280" y="4038480"/>
            <a:ext cx="320040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5a3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потезы о точках зрения партнеров на о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609480" y="45720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28600" y="4876920"/>
            <a:ext cx="3124080" cy="307080"/>
          </a:xfrm>
          <a:prstGeom prst="rect">
            <a:avLst/>
          </a:prstGeom>
          <a:gradFill rotWithShape="0">
            <a:gsLst>
              <a:gs pos="0">
                <a:srgbClr val="65a3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гласование общих точек з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6553080" y="1523880"/>
            <a:ext cx="1905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8458200" y="1523880"/>
            <a:ext cx="0" cy="144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5715000" y="1828800"/>
            <a:ext cx="27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ы по отношению к психологически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ностно-смысловым позициям партнер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952880" y="2971800"/>
            <a:ext cx="3810240" cy="733320"/>
          </a:xfrm>
          <a:prstGeom prst="rect">
            <a:avLst/>
          </a:prstGeom>
          <a:gradFill rotWithShape="0">
            <a:gsLst>
              <a:gs pos="0">
                <a:srgbClr val="5b9dff"/>
              </a:gs>
              <a:gs pos="50000">
                <a:srgbClr val="ccccff"/>
              </a:gs>
              <a:gs pos="100000">
                <a:srgbClr val="5b9d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положение каждого участника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и предмета деятельности, их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8"/>
          <p:cNvSpPr/>
          <p:nvPr/>
        </p:nvSpPr>
        <p:spPr>
          <a:xfrm>
            <a:off x="8458200" y="373392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952880" y="3962520"/>
            <a:ext cx="3851280" cy="520200"/>
          </a:xfrm>
          <a:prstGeom prst="rect">
            <a:avLst/>
          </a:prstGeom>
          <a:gradFill rotWithShape="0">
            <a:gsLst>
              <a:gs pos="0">
                <a:srgbClr val="5b9dff"/>
              </a:gs>
              <a:gs pos="50000">
                <a:srgbClr val="ccccff"/>
              </a:gs>
              <a:gs pos="100000">
                <a:srgbClr val="5b9d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 отношения партнеров к предмету общей деятельности,его значим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8458200" y="4495680"/>
            <a:ext cx="0" cy="457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4952880" y="4952880"/>
            <a:ext cx="3865680" cy="520200"/>
          </a:xfrm>
          <a:prstGeom prst="rect">
            <a:avLst/>
          </a:prstGeom>
          <a:gradFill rotWithShape="0">
            <a:gsLst>
              <a:gs pos="0">
                <a:srgbClr val="5b9dff"/>
              </a:gs>
              <a:gs pos="50000">
                <a:srgbClr val="ccccff"/>
              </a:gs>
              <a:gs pos="100000">
                <a:srgbClr val="5b9d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флексия : осмысление субъектом то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партнер воспринимает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8458200" y="5486400"/>
            <a:ext cx="0" cy="457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4952880" y="5943600"/>
            <a:ext cx="3835440" cy="520200"/>
          </a:xfrm>
          <a:prstGeom prst="rect">
            <a:avLst/>
          </a:prstGeom>
          <a:gradFill rotWithShape="0">
            <a:gsLst>
              <a:gs pos="0">
                <a:srgbClr val="5b9dff"/>
              </a:gs>
              <a:gs pos="50000">
                <a:srgbClr val="ccccff"/>
              </a:gs>
              <a:gs pos="100000">
                <a:srgbClr val="5b9d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ка психологических качеств парт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29760" y="150840"/>
            <a:ext cx="84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279d"/>
                </a:solidFill>
                <a:latin typeface="Arial"/>
              </a:rPr>
              <a:t>Отношения общественные 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16800" y="1295280"/>
            <a:ext cx="67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7279d"/>
                </a:solidFill>
                <a:latin typeface="Arial"/>
              </a:rPr>
              <a:t>Взаимоотношения (межличностные отношения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4572000" y="60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80880" y="3200400"/>
            <a:ext cx="2589480" cy="73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нитивный компон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моциональный компон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денческий компон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143000" y="2743200"/>
            <a:ext cx="1143000" cy="457200"/>
          </a:xfrm>
          <a:prstGeom prst="rect">
            <a:avLst/>
          </a:prstGeom>
          <a:gradFill rotWithShape="0">
            <a:gsLst>
              <a:gs pos="0">
                <a:srgbClr val="a1c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429000" y="3200400"/>
            <a:ext cx="2286000" cy="15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тал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038480" y="2743200"/>
            <a:ext cx="1143000" cy="457200"/>
          </a:xfrm>
          <a:prstGeom prst="rect">
            <a:avLst/>
          </a:prstGeom>
          <a:gradFill rotWithShape="0">
            <a:gsLst>
              <a:gs pos="0">
                <a:srgbClr val="adc8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6326640" y="3200400"/>
            <a:ext cx="1834200" cy="73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австречу людя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от люде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ротив люде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705720" y="2819520"/>
            <a:ext cx="1066680" cy="380880"/>
          </a:xfrm>
          <a:prstGeom prst="rect">
            <a:avLst/>
          </a:prstGeom>
          <a:gradFill rotWithShape="0">
            <a:gsLst>
              <a:gs pos="0">
                <a:srgbClr val="adc8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1638360" y="5334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279d"/>
                </a:solidFill>
                <a:latin typeface="Arial"/>
              </a:rPr>
              <a:t>Взаимопо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 flipH="1">
            <a:off x="1828800" y="175248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4"/>
          <p:cNvSpPr/>
          <p:nvPr/>
        </p:nvSpPr>
        <p:spPr>
          <a:xfrm>
            <a:off x="45720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5715000" y="17524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1600200" y="58672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 flipV="1">
            <a:off x="1600200" y="39621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7391520" y="39621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9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0"/>
          <p:cNvSpPr/>
          <p:nvPr/>
        </p:nvSpPr>
        <p:spPr>
          <a:xfrm>
            <a:off x="45720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1"/>
          <p:cNvSpPr/>
          <p:nvPr/>
        </p:nvSpPr>
        <p:spPr>
          <a:xfrm>
            <a:off x="45720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7279d"/>
                </a:solidFill>
                <a:latin typeface="Times New Roman"/>
              </a:rPr>
              <a:t>Вопросы для самоконтроля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о содержание понятий «общественные отношения» и, психологические отноше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представляют собой межличностные отношения и какова их психологическая структур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виды взаимоотношений выделяются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характеризуйте основные этапы возникновения и функционирования межличностных отноше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ы особенности межличностных отношений по типу «навстречу людям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ы особенности межличностных отношений по типу «от людей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ы особенности межличностных отношений по типу «против людей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чем сущность взаимопонимания и можно ли его прогнозировать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685800" y="3962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7279d"/>
                </a:solidFill>
                <a:latin typeface="Times New Roman"/>
              </a:rPr>
              <a:t>Вопросы для обсуждения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533520" y="4800600"/>
            <a:ext cx="8076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м образом чувства человека регулируют взаимоотношения ? Регулируют ли взаимоотношения эмоции? Поясните свой ответ. Что еще определяет регуляцию взаимоотношен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умайте, какие факторы могут негативно влиять на развитие межличностных отношений в малых групп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380880" y="990720"/>
            <a:ext cx="2057400" cy="20574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ff"/>
              </a:gs>
              <a:gs pos="50000">
                <a:srgbClr val="cccc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ня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широ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ыс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80880" y="4343400"/>
            <a:ext cx="2057400" cy="20574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ff"/>
              </a:gs>
              <a:gs pos="50000">
                <a:srgbClr val="cccc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ня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уз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ыс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429000" y="228600"/>
            <a:ext cx="54100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ует всеобщая взаимосвязь экономических, общест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нных и психологически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429000" y="990720"/>
            <a:ext cx="5410080" cy="685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– атрибут любой связи человека: непосредствен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й и опосредованной, физической и  идеаль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29000" y="1828800"/>
            <a:ext cx="541008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рез отношения определяются система потребност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тивов, влечений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429000" y="2666880"/>
            <a:ext cx="5410080" cy="762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я – это социализированная вязь внутренн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нешнего содержания психики человека с окружаю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йствительностью и позн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429000" y="3581280"/>
            <a:ext cx="541008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– базовая категория психологической на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429000" y="4419720"/>
            <a:ext cx="541008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находит конкретное взаимоотношение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бых контактах, взаимодействия человека с 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429000" y="5181480"/>
            <a:ext cx="541008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как бы эмоционально окрашивает любые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а с внешним миром и другими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429000" y="5943600"/>
            <a:ext cx="5410080" cy="685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– готовность к определенному взаимодействи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ально действующая связь в рамках «субъект – объект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убъект – субъек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24382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2895480" y="5335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28954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289548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289548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2895480" y="533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2438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2895480" y="38862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2895480" y="6324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>
            <a:off x="28954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289548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28954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80880" y="2895480"/>
            <a:ext cx="2590920" cy="1676520"/>
          </a:xfrm>
          <a:prstGeom prst="rect">
            <a:avLst/>
          </a:prstGeom>
          <a:gradFill rotWithShape="0">
            <a:gsLst>
              <a:gs pos="0">
                <a:srgbClr val="4f96ff"/>
              </a:gs>
              <a:gs pos="50000">
                <a:srgbClr val="ffffff"/>
              </a:gs>
              <a:gs pos="100000">
                <a:srgbClr val="4f9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ион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ежнациональны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ссион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172200" y="2895480"/>
            <a:ext cx="2590920" cy="1676520"/>
          </a:xfrm>
          <a:prstGeom prst="rect">
            <a:avLst/>
          </a:prstGeom>
          <a:gradFill rotWithShape="0">
            <a:gsLst>
              <a:gs pos="0">
                <a:srgbClr val="4f96ff"/>
              </a:gs>
              <a:gs pos="50000">
                <a:srgbClr val="ffffff"/>
              </a:gs>
              <a:gs pos="100000">
                <a:srgbClr val="4f9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ертик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горизон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971800" y="5257800"/>
            <a:ext cx="2971800" cy="1371600"/>
          </a:xfrm>
          <a:prstGeom prst="rect">
            <a:avLst/>
          </a:prstGeom>
          <a:gradFill rotWithShape="0">
            <a:gsLst>
              <a:gs pos="0">
                <a:srgbClr val="4f96ff"/>
              </a:gs>
              <a:gs pos="50000">
                <a:srgbClr val="ffffff"/>
              </a:gs>
              <a:gs pos="100000">
                <a:srgbClr val="4f9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ици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фи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581280" y="228600"/>
            <a:ext cx="1828800" cy="1905120"/>
          </a:xfrm>
          <a:prstGeom prst="rect">
            <a:avLst/>
          </a:prstGeom>
          <a:gradFill rotWithShape="0">
            <a:gsLst>
              <a:gs pos="0">
                <a:srgbClr val="4f96ff"/>
              </a:gs>
              <a:gs pos="50000">
                <a:srgbClr val="ffffff"/>
              </a:gs>
              <a:gs pos="100000">
                <a:srgbClr val="4f9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олог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о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с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16765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6765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594360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943600" y="5943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746748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 flipV="1">
            <a:off x="74674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5410080" y="1143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1676520" y="1219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1676520" y="1219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002400" y="2284560"/>
            <a:ext cx="310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 С И Х О Л О Г И Ч Е С К И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381480" y="464652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 Т Н О Ш Е Н И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924680" y="0"/>
            <a:ext cx="389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7900560" y="4659480"/>
            <a:ext cx="35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380880" y="228600"/>
            <a:ext cx="389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385560" y="4648320"/>
            <a:ext cx="35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2"/>
          <p:cNvSpPr/>
          <p:nvPr/>
        </p:nvSpPr>
        <p:spPr>
          <a:xfrm>
            <a:off x="2057400" y="380880"/>
            <a:ext cx="4876920" cy="12956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2133720" y="2057400"/>
            <a:ext cx="4876560" cy="12952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ЛИЧНО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838080" y="838080"/>
            <a:ext cx="990720" cy="2133720"/>
          </a:xfrm>
          <a:custGeom>
            <a:avLst/>
            <a:gdLst>
              <a:gd name="textAreaLeft" fmla="*/ 132480 w 990720"/>
              <a:gd name="textAreaRight" fmla="*/ 858240 w 99072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 flipH="1">
            <a:off x="7162200" y="914400"/>
            <a:ext cx="1066680" cy="21337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360520" y="5870520"/>
            <a:ext cx="441972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791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А НЕЙТ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360520" y="5032440"/>
            <a:ext cx="4419720" cy="838080"/>
          </a:xfrm>
          <a:prstGeom prst="rect">
            <a:avLst/>
          </a:prstGeom>
          <a:gradFill rotWithShape="0">
            <a:gsLst>
              <a:gs pos="0">
                <a:srgbClr val="4791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А ДИЗЪЮН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362320" y="2971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6781680" y="2971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593080" y="441972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А КОНЪЮН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 rot="16216800">
            <a:off x="4115160" y="3579840"/>
            <a:ext cx="838440" cy="382680"/>
          </a:xfrm>
          <a:custGeom>
            <a:avLst/>
            <a:gdLst>
              <a:gd name="textAreaLeft" fmla="*/ 104760 w 838440"/>
              <a:gd name="textAreaRight" fmla="*/ 733680 w 838440"/>
              <a:gd name="textAreaTop" fmla="*/ 95760 h 382680"/>
              <a:gd name="textAreaBottom" fmla="*/ 287280 h 382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1447920" y="0"/>
            <a:ext cx="6324480" cy="68580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429000" y="457200"/>
            <a:ext cx="2514600" cy="1066680"/>
          </a:xfrm>
          <a:prstGeom prst="rect">
            <a:avLst/>
          </a:prstGeom>
          <a:gradFill rotWithShape="0">
            <a:gsLst>
              <a:gs pos="0">
                <a:srgbClr val="3b8aff"/>
              </a:gs>
              <a:gs pos="50000">
                <a:srgbClr val="ccccff"/>
              </a:gs>
              <a:gs pos="100000">
                <a:srgbClr val="3b8a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НИ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ПСИХ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СС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648320" y="4191120"/>
            <a:ext cx="2514600" cy="1143000"/>
          </a:xfrm>
          <a:prstGeom prst="rect">
            <a:avLst/>
          </a:prstGeom>
          <a:gradFill rotWithShape="0">
            <a:gsLst>
              <a:gs pos="0">
                <a:srgbClr val="3b8aff"/>
              </a:gs>
              <a:gs pos="50000">
                <a:srgbClr val="ccccff"/>
              </a:gs>
              <a:gs pos="100000">
                <a:srgbClr val="3b8a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ДЕН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ЕЧЬ, ЖЕС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МИКА,ДЕЙСТВ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057400" y="4191120"/>
            <a:ext cx="2514600" cy="1143000"/>
          </a:xfrm>
          <a:prstGeom prst="rect">
            <a:avLst/>
          </a:prstGeom>
          <a:gradFill rotWithShape="0">
            <a:gsLst>
              <a:gs pos="0">
                <a:srgbClr val="3b8aff"/>
              </a:gs>
              <a:gs pos="50000">
                <a:srgbClr val="ccccff"/>
              </a:gs>
              <a:gs pos="100000">
                <a:srgbClr val="3b8a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МОЦИОН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ЖИ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ЖИТЕЛЬНЫЕ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РИЦАТЕЛЬН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133720" y="2666880"/>
            <a:ext cx="472428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5a3ff"/>
              </a:gs>
              <a:gs pos="100000">
                <a:srgbClr val="cccc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ИМООТНОШЕНИЯ    ВКЛЮ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4572000" y="1523520"/>
            <a:ext cx="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3124080" y="3124080"/>
            <a:ext cx="106704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952880" y="3124080"/>
            <a:ext cx="9907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 rot="16200000">
            <a:off x="4076640" y="2018880"/>
            <a:ext cx="1066680" cy="2286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 rot="3453000">
            <a:off x="5047560" y="3485880"/>
            <a:ext cx="1028880" cy="30492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 rot="7055400">
            <a:off x="3161880" y="3466800"/>
            <a:ext cx="990720" cy="30456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447920" y="152280"/>
            <a:ext cx="6248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279d"/>
                </a:solidFill>
                <a:latin typeface="Arial"/>
              </a:rPr>
              <a:t>ВИДЫ ВЗАИМО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0880" y="1600200"/>
            <a:ext cx="2667240" cy="5029200"/>
          </a:xfrm>
          <a:prstGeom prst="rect">
            <a:avLst/>
          </a:prstGeom>
          <a:gradFill rotWithShape="0">
            <a:gsLst>
              <a:gs pos="0">
                <a:srgbClr val="277eff"/>
              </a:gs>
              <a:gs pos="50000">
                <a:srgbClr val="ccccff"/>
              </a:gs>
              <a:gs pos="100000">
                <a:srgbClr val="277eff"/>
              </a:gs>
            </a:gsLst>
            <a:lin ang="54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ПА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ПА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ТЯ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ТАЛК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886200" y="1600200"/>
            <a:ext cx="198108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553080" y="1600200"/>
            <a:ext cx="205740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ТРУ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886200" y="2895480"/>
            <a:ext cx="198108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ЯТЕЛЬ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553080" y="289548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886200" y="4191120"/>
            <a:ext cx="198108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ИЩ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553080" y="426708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ПРУЖ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553080" y="563868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886200" y="5638680"/>
            <a:ext cx="198108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Ж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58672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586728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5867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5867280" y="6095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1521000" y="912960"/>
            <a:ext cx="380880" cy="608040"/>
          </a:xfrm>
          <a:prstGeom prst="downArrow">
            <a:avLst>
              <a:gd name="adj1" fmla="val 50000"/>
              <a:gd name="adj2" fmla="val 39910"/>
            </a:avLst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4648320" y="914400"/>
            <a:ext cx="380880" cy="608040"/>
          </a:xfrm>
          <a:prstGeom prst="downArrow">
            <a:avLst>
              <a:gd name="adj1" fmla="val 50000"/>
              <a:gd name="adj2" fmla="val 39910"/>
            </a:avLst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0"/>
          <p:cNvSpPr/>
          <p:nvPr/>
        </p:nvSpPr>
        <p:spPr>
          <a:xfrm>
            <a:off x="7162920" y="914400"/>
            <a:ext cx="380880" cy="608040"/>
          </a:xfrm>
          <a:prstGeom prst="downArrow">
            <a:avLst>
              <a:gd name="adj1" fmla="val 50000"/>
              <a:gd name="adj2" fmla="val 39910"/>
            </a:avLst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3124080" y="1981080"/>
            <a:ext cx="762120" cy="2286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2"/>
          <p:cNvSpPr/>
          <p:nvPr/>
        </p:nvSpPr>
        <p:spPr>
          <a:xfrm>
            <a:off x="3124080" y="3200400"/>
            <a:ext cx="762120" cy="2286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3"/>
          <p:cNvSpPr/>
          <p:nvPr/>
        </p:nvSpPr>
        <p:spPr>
          <a:xfrm>
            <a:off x="3124080" y="4572000"/>
            <a:ext cx="762120" cy="2286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124080" y="5943600"/>
            <a:ext cx="762120" cy="2286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124080" y="228600"/>
            <a:ext cx="3581640" cy="990720"/>
          </a:xfrm>
          <a:prstGeom prst="rect">
            <a:avLst/>
          </a:prstGeom>
          <a:gradFill rotWithShape="0">
            <a:gsLst>
              <a:gs pos="0">
                <a:srgbClr val="4b94ff"/>
              </a:gs>
              <a:gs pos="50000">
                <a:srgbClr val="ccccff"/>
              </a:gs>
              <a:gs pos="100000">
                <a:srgbClr val="4b94ff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ЛИЧНОС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15800" y="190188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362320" y="1752480"/>
            <a:ext cx="5790960" cy="762120"/>
          </a:xfrm>
          <a:prstGeom prst="rect">
            <a:avLst/>
          </a:prstGeom>
          <a:gradFill rotWithShape="0">
            <a:gsLst>
              <a:gs pos="0">
                <a:srgbClr val="4b94ff"/>
              </a:gs>
              <a:gs pos="50000">
                <a:srgbClr val="ccccff"/>
              </a:gs>
              <a:gs pos="100000">
                <a:srgbClr val="4b94ff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ВЛЕТВОРЕННОСТ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ОВЛЕТВОР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76"/>
          <p:cNvSpPr/>
          <p:nvPr/>
        </p:nvSpPr>
        <p:spPr>
          <a:xfrm>
            <a:off x="457200" y="3733920"/>
            <a:ext cx="2666880" cy="990360"/>
          </a:xfrm>
          <a:prstGeom prst="rect">
            <a:avLst/>
          </a:prstGeom>
          <a:gradFill rotWithShape="0">
            <a:gsLst>
              <a:gs pos="0">
                <a:srgbClr val="4b94ff"/>
              </a:gs>
              <a:gs pos="50000">
                <a:srgbClr val="ccccff"/>
              </a:gs>
              <a:gs pos="100000">
                <a:srgbClr val="4b94ff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ПАТ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П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77"/>
          <p:cNvSpPr/>
          <p:nvPr/>
        </p:nvSpPr>
        <p:spPr>
          <a:xfrm>
            <a:off x="4724280" y="3733920"/>
            <a:ext cx="3353040" cy="990360"/>
          </a:xfrm>
          <a:prstGeom prst="rect">
            <a:avLst/>
          </a:prstGeom>
          <a:gradFill rotWithShape="0">
            <a:gsLst>
              <a:gs pos="0">
                <a:srgbClr val="4b94ff"/>
              </a:gs>
              <a:gs pos="50000">
                <a:srgbClr val="ccccff"/>
              </a:gs>
              <a:gs pos="100000">
                <a:srgbClr val="4b94ff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ТЕЛЬНОСТЬ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ВЛЕК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79"/>
          <p:cNvSpPr/>
          <p:nvPr/>
        </p:nvSpPr>
        <p:spPr>
          <a:xfrm>
            <a:off x="533520" y="6248520"/>
            <a:ext cx="6019560" cy="380880"/>
          </a:xfrm>
          <a:prstGeom prst="rect">
            <a:avLst/>
          </a:prstGeom>
          <a:gradFill rotWithShape="0">
            <a:gsLst>
              <a:gs pos="0">
                <a:srgbClr val="4b94ff"/>
              </a:gs>
              <a:gs pos="50000">
                <a:srgbClr val="ccccff"/>
              </a:gs>
              <a:gs pos="100000">
                <a:srgbClr val="4b94ff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 – ПСИХОЛОГИЧЕСКИЙ КЛИ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80"/>
          <p:cNvSpPr/>
          <p:nvPr/>
        </p:nvSpPr>
        <p:spPr>
          <a:xfrm>
            <a:off x="22860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81"/>
          <p:cNvSpPr/>
          <p:nvPr/>
        </p:nvSpPr>
        <p:spPr>
          <a:xfrm>
            <a:off x="228600" y="21337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82"/>
          <p:cNvSpPr/>
          <p:nvPr/>
        </p:nvSpPr>
        <p:spPr>
          <a:xfrm>
            <a:off x="22860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583"/>
          <p:cNvSpPr/>
          <p:nvPr/>
        </p:nvSpPr>
        <p:spPr>
          <a:xfrm flipH="1">
            <a:off x="2133360" y="2514600"/>
            <a:ext cx="1904760" cy="12193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584"/>
          <p:cNvSpPr/>
          <p:nvPr/>
        </p:nvSpPr>
        <p:spPr>
          <a:xfrm>
            <a:off x="5486400" y="2514600"/>
            <a:ext cx="1295280" cy="12193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85"/>
          <p:cNvSpPr/>
          <p:nvPr/>
        </p:nvSpPr>
        <p:spPr>
          <a:xfrm>
            <a:off x="2286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86"/>
          <p:cNvSpPr/>
          <p:nvPr/>
        </p:nvSpPr>
        <p:spPr>
          <a:xfrm flipV="1">
            <a:off x="228600" y="685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87"/>
          <p:cNvSpPr/>
          <p:nvPr/>
        </p:nvSpPr>
        <p:spPr>
          <a:xfrm>
            <a:off x="228600" y="685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68"/>
          <p:cNvSpPr/>
          <p:nvPr/>
        </p:nvSpPr>
        <p:spPr>
          <a:xfrm>
            <a:off x="1219320" y="609480"/>
            <a:ext cx="63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279d"/>
                </a:solidFill>
                <a:latin typeface="Arial"/>
              </a:rPr>
              <a:t>Развитие взаим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9"/>
          <p:cNvSpPr/>
          <p:nvPr/>
        </p:nvSpPr>
        <p:spPr>
          <a:xfrm>
            <a:off x="533520" y="1905120"/>
            <a:ext cx="1295280" cy="6094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0"/>
          <p:cNvSpPr/>
          <p:nvPr/>
        </p:nvSpPr>
        <p:spPr>
          <a:xfrm>
            <a:off x="533520" y="3352680"/>
            <a:ext cx="1295280" cy="609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1"/>
          <p:cNvSpPr/>
          <p:nvPr/>
        </p:nvSpPr>
        <p:spPr>
          <a:xfrm>
            <a:off x="533520" y="4876920"/>
            <a:ext cx="1295280" cy="6094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5"/>
          <p:cNvSpPr/>
          <p:nvPr/>
        </p:nvSpPr>
        <p:spPr>
          <a:xfrm>
            <a:off x="4114800" y="1905120"/>
            <a:ext cx="3962520" cy="520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новение взаимного контакта, восприятия и  оценки людьми друг д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8"/>
          <p:cNvSpPr/>
          <p:nvPr/>
        </p:nvSpPr>
        <p:spPr>
          <a:xfrm>
            <a:off x="4114800" y="3352680"/>
            <a:ext cx="3962520" cy="946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новение межличностных отноше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ние внутреннего отношения людей друг к другу на рациональном и эмоциональном уровн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0"/>
          <p:cNvSpPr/>
          <p:nvPr/>
        </p:nvSpPr>
        <p:spPr>
          <a:xfrm>
            <a:off x="4125960" y="5029200"/>
            <a:ext cx="3951360" cy="520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щение людей друг к другу  как фор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явления внутреннего отно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2"/>
          <p:cNvSpPr/>
          <p:nvPr/>
        </p:nvSpPr>
        <p:spPr>
          <a:xfrm>
            <a:off x="2133720" y="2057400"/>
            <a:ext cx="1523880" cy="409680"/>
          </a:xfrm>
          <a:custGeom>
            <a:avLst/>
            <a:gdLst>
              <a:gd name="textAreaLeft" fmla="*/ 105120 w 1523880"/>
              <a:gd name="textAreaRight" fmla="*/ 1418760 w 1523880"/>
              <a:gd name="textAreaTop" fmla="*/ 131760 h 409680"/>
              <a:gd name="textAreaBottom" fmla="*/ 277920 h 409680"/>
            </a:gdLst>
            <a:ahLst/>
            <a:rect l="textAreaLeft" t="textAreaTop" r="textAreaRight" b="textAreaBottom"/>
            <a:pathLst>
              <a:path w="21600" h="21600">
                <a:moveTo>
                  <a:pt x="0" y="6949"/>
                </a:moveTo>
                <a:lnTo>
                  <a:pt x="17415" y="6949"/>
                </a:ln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17415" y="14651"/>
                </a:lnTo>
                <a:lnTo>
                  <a:pt x="0" y="14651"/>
                </a:lnTo>
                <a:lnTo>
                  <a:pt x="1492" y="10800"/>
                </a:lnTo>
                <a:lnTo>
                  <a:pt x="0" y="694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3"/>
          <p:cNvSpPr/>
          <p:nvPr/>
        </p:nvSpPr>
        <p:spPr>
          <a:xfrm>
            <a:off x="2133720" y="3429000"/>
            <a:ext cx="1523880" cy="409680"/>
          </a:xfrm>
          <a:custGeom>
            <a:avLst/>
            <a:gdLst>
              <a:gd name="textAreaLeft" fmla="*/ 105120 w 1523880"/>
              <a:gd name="textAreaRight" fmla="*/ 1418760 w 1523880"/>
              <a:gd name="textAreaTop" fmla="*/ 131760 h 409680"/>
              <a:gd name="textAreaBottom" fmla="*/ 277920 h 409680"/>
            </a:gdLst>
            <a:ahLst/>
            <a:rect l="textAreaLeft" t="textAreaTop" r="textAreaRight" b="textAreaBottom"/>
            <a:pathLst>
              <a:path w="21600" h="21600">
                <a:moveTo>
                  <a:pt x="0" y="6949"/>
                </a:moveTo>
                <a:lnTo>
                  <a:pt x="17415" y="6949"/>
                </a:ln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17415" y="14651"/>
                </a:lnTo>
                <a:lnTo>
                  <a:pt x="0" y="14651"/>
                </a:lnTo>
                <a:lnTo>
                  <a:pt x="1492" y="10800"/>
                </a:lnTo>
                <a:lnTo>
                  <a:pt x="0" y="694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84"/>
          <p:cNvSpPr/>
          <p:nvPr/>
        </p:nvSpPr>
        <p:spPr>
          <a:xfrm>
            <a:off x="2133720" y="5029200"/>
            <a:ext cx="1523880" cy="409680"/>
          </a:xfrm>
          <a:custGeom>
            <a:avLst/>
            <a:gdLst>
              <a:gd name="textAreaLeft" fmla="*/ 105120 w 1523880"/>
              <a:gd name="textAreaRight" fmla="*/ 1418760 w 1523880"/>
              <a:gd name="textAreaTop" fmla="*/ 131760 h 409680"/>
              <a:gd name="textAreaBottom" fmla="*/ 277920 h 409680"/>
            </a:gdLst>
            <a:ahLst/>
            <a:rect l="textAreaLeft" t="textAreaTop" r="textAreaRight" b="textAreaBottom"/>
            <a:pathLst>
              <a:path w="21600" h="21600">
                <a:moveTo>
                  <a:pt x="0" y="6949"/>
                </a:moveTo>
                <a:lnTo>
                  <a:pt x="17415" y="6949"/>
                </a:ln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17415" y="14651"/>
                </a:lnTo>
                <a:lnTo>
                  <a:pt x="0" y="14651"/>
                </a:lnTo>
                <a:lnTo>
                  <a:pt x="1492" y="10800"/>
                </a:lnTo>
                <a:lnTo>
                  <a:pt x="0" y="694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971800" y="2819520"/>
            <a:ext cx="3657600" cy="1008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личностные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встречу людя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034160" y="228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054440" y="586728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041960" y="586728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 rot="7357800">
            <a:off x="1878840" y="4825800"/>
            <a:ext cx="213372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3343800">
            <a:off x="5536800" y="4825800"/>
            <a:ext cx="213372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 rot="16170600">
            <a:off x="3746160" y="1585800"/>
            <a:ext cx="205740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6:20Z</dcterms:modified>
  <cp:revision>14</cp:revision>
  <dc:subject/>
  <dc:title>PowerPoint Presentation</dc:title>
</cp:coreProperties>
</file>