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1CD1-232D-43D9-84F1-618ED999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FAD-3EA7-4FB6-9B99-94B8EFDB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6B9-1DA3-4437-8416-9A5D440D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73C-3BAE-4FFA-9B87-CF98EFC1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D3D-A3BE-4EFC-BF89-12453B8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1FD-09F3-4DA5-BD59-B4AE75DA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202-1C45-4325-A545-B5FBFFC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1DF-A045-4CE0-B02A-8F8BBCCB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0F1-5E21-4F7E-A96C-37183FDD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8510-2133-4C28-9DFD-EBCD302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4A1-EB3A-4E75-9884-2EE16DF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8B5-BF98-4913-8308-C9B92A9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fe2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6E6C-01E3-4391-897B-6A0EBD1A11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04920" y="152280"/>
            <a:ext cx="86104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Социальная психология 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алых групп.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13560" y="167652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 3.8. Психология взаимоотно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280" y="233208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изучения темы вы будете понимать, что представляют собой межличностные отношения в малых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2280" y="3276720"/>
            <a:ext cx="692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ме будут рассмотрены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нятие отношений в психологической нау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ь, структура и виды взаимо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терии оценки и развитие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ы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ая характеристика взаимопонимания между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28600" y="4800600"/>
            <a:ext cx="8701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209680" y="281952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380400" y="3049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ТРУ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36360" y="5943600"/>
            <a:ext cx="234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ЯТЕЛЬСК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372360" y="60199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 rot="16190400">
            <a:off x="3414600" y="1613880"/>
            <a:ext cx="195876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 rot="7132800">
            <a:off x="1955520" y="4825800"/>
            <a:ext cx="213372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 rot="3528000">
            <a:off x="5003280" y="4852800"/>
            <a:ext cx="220968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286000" y="311796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от люд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286640" y="76212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У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6160" y="563868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400440" y="76212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ГО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134760" y="56386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ОРМ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 rot="7768800">
            <a:off x="1662120" y="4738680"/>
            <a:ext cx="180648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 rot="13881000">
            <a:off x="1662120" y="1919160"/>
            <a:ext cx="195912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0"/>
          <p:cNvSpPr/>
          <p:nvPr/>
        </p:nvSpPr>
        <p:spPr>
          <a:xfrm rot="18568800">
            <a:off x="5217840" y="1976760"/>
            <a:ext cx="1905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 rot="3187800">
            <a:off x="5308200" y="4749480"/>
            <a:ext cx="182880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057400" y="3276720"/>
            <a:ext cx="4572000" cy="86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против люд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48840" y="838080"/>
            <a:ext cx="38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как вражде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64000" y="838080"/>
            <a:ext cx="303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рессия как прич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да дру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21880" y="57913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017760" y="586728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риязнь к друг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 rot="7768800">
            <a:off x="1662120" y="4890960"/>
            <a:ext cx="1806480" cy="25416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 rot="18316200">
            <a:off x="5166720" y="2147760"/>
            <a:ext cx="1959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 rot="3321600">
            <a:off x="5498640" y="4940280"/>
            <a:ext cx="175248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 rot="14444400">
            <a:off x="1738080" y="2147760"/>
            <a:ext cx="19591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286000" y="228600"/>
            <a:ext cx="4343400" cy="3988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ЗАИМО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2992320" y="124452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авны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1981080"/>
            <a:ext cx="3048120" cy="52020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ласование индивидуального осмысления предмета 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65080" y="1828800"/>
            <a:ext cx="3030480" cy="73332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приемлемая оценка и п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ятие целей, мотивов и устано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ртнеров по взаимодейств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314440" y="2844720"/>
            <a:ext cx="38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посылки 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48320" y="3809880"/>
            <a:ext cx="2379960" cy="3070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местная 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248520" y="3809880"/>
            <a:ext cx="2268360" cy="307080"/>
          </a:xfrm>
          <a:prstGeom prst="rect">
            <a:avLst/>
          </a:prstGeom>
          <a:gradFill rotWithShape="0">
            <a:gsLst>
              <a:gs pos="0">
                <a:srgbClr val="6c6cda"/>
              </a:gs>
              <a:gs pos="50000">
                <a:srgbClr val="ccccff"/>
              </a:gs>
              <a:gs pos="100000">
                <a:srgbClr val="6c6cda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788920" y="431640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словия взаимопо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6919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7619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733720" y="49435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473600" y="495288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a8a8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976480" y="5334120"/>
            <a:ext cx="27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чины недопо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3236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1377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2520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37526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512424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10200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702936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8154720" y="5791320"/>
            <a:ext cx="27972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282a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 flipH="1">
            <a:off x="533520" y="609480"/>
            <a:ext cx="1752480" cy="1371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>
            <a:off x="457200" y="2514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6"/>
          <p:cNvSpPr/>
          <p:nvPr/>
        </p:nvSpPr>
        <p:spPr>
          <a:xfrm>
            <a:off x="457200" y="4114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45720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8"/>
          <p:cNvSpPr/>
          <p:nvPr/>
        </p:nvSpPr>
        <p:spPr>
          <a:xfrm>
            <a:off x="457200" y="62485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830592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8305920" y="4114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1"/>
          <p:cNvSpPr/>
          <p:nvPr/>
        </p:nvSpPr>
        <p:spPr>
          <a:xfrm>
            <a:off x="8305920" y="25909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2"/>
          <p:cNvSpPr/>
          <p:nvPr/>
        </p:nvSpPr>
        <p:spPr>
          <a:xfrm>
            <a:off x="6629400" y="60948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140120" y="54000"/>
            <a:ext cx="620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Прогноз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взаимопонимания между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060280" y="1295280"/>
            <a:ext cx="453312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обычно понимает т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соответствует его прогнозам , гипотезам, цел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H="1">
            <a:off x="609480" y="1523880"/>
            <a:ext cx="1447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609480" y="1523880"/>
            <a:ext cx="0" cy="144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09480" y="18288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ы по отношению к предмету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52280" y="2971800"/>
            <a:ext cx="320040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ципация возможных ситу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609480" y="32767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50120" y="3505320"/>
            <a:ext cx="3228840" cy="30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ор своего угла зрения на о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609480" y="38098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152280" y="4038480"/>
            <a:ext cx="320040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отезы о точках зрения партнеров на объ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609480" y="457200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228600" y="4876920"/>
            <a:ext cx="3124080" cy="307080"/>
          </a:xfrm>
          <a:prstGeom prst="rect">
            <a:avLst/>
          </a:prstGeom>
          <a:gradFill rotWithShape="0">
            <a:gsLst>
              <a:gs pos="0">
                <a:srgbClr val="65a3ff"/>
              </a:gs>
              <a:gs pos="100000">
                <a:srgbClr val="cccc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ласование общих точек зр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6553080" y="1523880"/>
            <a:ext cx="1905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8458200" y="1523880"/>
            <a:ext cx="0" cy="1447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715000" y="1828800"/>
            <a:ext cx="274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ы по отношению к психологическим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ностно-смысловым позициям партнер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952880" y="2971800"/>
            <a:ext cx="3810240" cy="73332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оложение каждого участника 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и предмета деятельности, их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8"/>
          <p:cNvSpPr/>
          <p:nvPr/>
        </p:nvSpPr>
        <p:spPr>
          <a:xfrm>
            <a:off x="8458200" y="37339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952880" y="3962520"/>
            <a:ext cx="385128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 отношения партнеров к предмету общей деятельности,его значим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8458200" y="449568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4952880" y="4952880"/>
            <a:ext cx="386568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флексия : осмысление субъектом т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партнер воспринимае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8458200" y="5486400"/>
            <a:ext cx="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5"/>
          <p:cNvSpPr/>
          <p:nvPr/>
        </p:nvSpPr>
        <p:spPr>
          <a:xfrm>
            <a:off x="4952880" y="5943600"/>
            <a:ext cx="3835440" cy="520200"/>
          </a:xfrm>
          <a:prstGeom prst="rect">
            <a:avLst/>
          </a:prstGeom>
          <a:gradFill rotWithShape="0">
            <a:gsLst>
              <a:gs pos="0">
                <a:srgbClr val="5b9dff"/>
              </a:gs>
              <a:gs pos="50000">
                <a:srgbClr val="ccccff"/>
              </a:gs>
              <a:gs pos="100000">
                <a:srgbClr val="5b9df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ценка психологических качеств партне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29760" y="150840"/>
            <a:ext cx="84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Отношения общественные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216800" y="129528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7279d"/>
                </a:solidFill>
                <a:latin typeface="Arial"/>
              </a:rPr>
              <a:t>Взаимоотношения (межличностные отношения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4572000" y="60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80880" y="3200400"/>
            <a:ext cx="2589480" cy="7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нитивны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моциональны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денческий 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143000" y="2743200"/>
            <a:ext cx="1143000" cy="457200"/>
          </a:xfrm>
          <a:prstGeom prst="rect">
            <a:avLst/>
          </a:prstGeom>
          <a:gradFill rotWithShape="0">
            <a:gsLst>
              <a:gs pos="0">
                <a:srgbClr val="a1c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429000" y="3200400"/>
            <a:ext cx="2286000" cy="15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пат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тал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038480" y="2743200"/>
            <a:ext cx="1143000" cy="457200"/>
          </a:xfrm>
          <a:prstGeom prst="rect">
            <a:avLst/>
          </a:prstGeom>
          <a:gradFill rotWithShape="0">
            <a:gsLst>
              <a:gs pos="0">
                <a:srgbClr val="adc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326640" y="3200400"/>
            <a:ext cx="1834200" cy="73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от люд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ротив люде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705720" y="2819520"/>
            <a:ext cx="1066680" cy="380880"/>
          </a:xfrm>
          <a:prstGeom prst="rect">
            <a:avLst/>
          </a:prstGeom>
          <a:gradFill rotWithShape="0">
            <a:gsLst>
              <a:gs pos="0">
                <a:srgbClr val="adc8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1638360" y="5334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9d"/>
                </a:solidFill>
                <a:latin typeface="Arial"/>
              </a:rPr>
              <a:t>Взаимо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 flipH="1">
            <a:off x="1828800" y="1752480"/>
            <a:ext cx="14479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45720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5715000" y="17524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1600200" y="5867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V="1">
            <a:off x="1600200" y="39621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7391520" y="396216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9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0"/>
          <p:cNvSpPr/>
          <p:nvPr/>
        </p:nvSpPr>
        <p:spPr>
          <a:xfrm>
            <a:off x="457200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1"/>
          <p:cNvSpPr/>
          <p:nvPr/>
        </p:nvSpPr>
        <p:spPr>
          <a:xfrm>
            <a:off x="45720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7279d"/>
                </a:solidFill>
                <a:latin typeface="Times New Roman"/>
              </a:rPr>
              <a:t>Вопросы для самоконтроля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о содержание понятий «общественные отношения» и, психологические отнош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редставляют собой межличностные отношения и какова их психологическая структур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виды взаимоотношений выделяются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характеризуйте основные этапы возникновения и функционирования межличностных отнош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навстречу людям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от людей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ы особенности межличностных отношений по типу «против людей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чем сущность взаимопонимания и можно ли его прогнозировать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685800" y="3962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7279d"/>
                </a:solidFill>
                <a:latin typeface="Times New Roman"/>
              </a:rPr>
              <a:t>Вопросы для обсуждения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533520" y="4800600"/>
            <a:ext cx="807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м образом чувства человека регулируют взаимоотношения ? Регулируют ли взаимоотношения эмоции? Поясните свой ответ. Что еще определяет регуляцию взаимоотноше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умайте, какие факторы могут негативно влиять на развитие межличностных отношений в малых групп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380880" y="990720"/>
            <a:ext cx="205740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cccc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широ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ыс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80880" y="4343400"/>
            <a:ext cx="205740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6699ff"/>
              </a:gs>
              <a:gs pos="50000">
                <a:srgbClr val="cccc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зк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ыс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29000" y="228600"/>
            <a:ext cx="54100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ествует всеобщая взаимосвязь экономических, общест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нных и психологических отно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429000" y="990720"/>
            <a:ext cx="5410080" cy="685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атрибут любой связи человека: непосредствен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й и опосредованной, физической и  идеаль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29000" y="1828800"/>
            <a:ext cx="54100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рез отношения определяются система потребност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ов, влечений люд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429000" y="2666880"/>
            <a:ext cx="5410080" cy="762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я – это социализированная вязь внутренн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внешнего содержания психики человека с окружа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йствительностью и позн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429000" y="3581280"/>
            <a:ext cx="541008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базовая категория психологической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29000" y="4419720"/>
            <a:ext cx="5410080" cy="6094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находит конкретное взаимоотношение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ых контактах, взаимодействия человека с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3429000" y="5181480"/>
            <a:ext cx="5410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как бы эмоционально окрашивает любые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а с внешним миром и другими люд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429000" y="5943600"/>
            <a:ext cx="5410080" cy="685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шение – готовность к определенному взаимодействи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ально действующая связь в рамках «субъект – объект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субъект – субъект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24382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2895480" y="5335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28954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895480" y="2133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895480" y="1371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28954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2438280" y="5410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2895480" y="38862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2895480" y="6324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28954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28954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28954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80880" y="2895480"/>
            <a:ext cx="2590920" cy="16765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ежнациональны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сси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6172200" y="2895480"/>
            <a:ext cx="2590920" cy="16765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ертик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горизон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971800" y="5257800"/>
            <a:ext cx="2971800" cy="137160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фи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581280" y="228600"/>
            <a:ext cx="1828800" cy="1905120"/>
          </a:xfrm>
          <a:prstGeom prst="rect">
            <a:avLst/>
          </a:prstGeom>
          <a:gradFill rotWithShape="0">
            <a:gsLst>
              <a:gs pos="0">
                <a:srgbClr val="4f96ff"/>
              </a:gs>
              <a:gs pos="50000">
                <a:srgbClr val="ffffff"/>
              </a:gs>
              <a:gs pos="100000">
                <a:srgbClr val="4f9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олог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с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16765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67652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5943600" y="6095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5943600" y="5943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74674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 flipV="1">
            <a:off x="7467480" y="1143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5410080" y="1143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1676520" y="1219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1676520" y="1219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002400" y="2284560"/>
            <a:ext cx="31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С И Х О Л О Г И Ч Е С К И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381480" y="4646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 Т Н О Ш Е Н И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924680" y="0"/>
            <a:ext cx="38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7900560" y="4659480"/>
            <a:ext cx="35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80880" y="228600"/>
            <a:ext cx="3891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385560" y="4648320"/>
            <a:ext cx="35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2"/>
          <p:cNvSpPr/>
          <p:nvPr/>
        </p:nvSpPr>
        <p:spPr>
          <a:xfrm>
            <a:off x="2057400" y="380880"/>
            <a:ext cx="4876920" cy="12956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2133720" y="2057400"/>
            <a:ext cx="4876560" cy="12952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ЛИЧНОС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38080" y="838080"/>
            <a:ext cx="990720" cy="2133720"/>
          </a:xfrm>
          <a:custGeom>
            <a:avLst/>
            <a:gdLst>
              <a:gd name="textAreaLeft" fmla="*/ 132480 w 990720"/>
              <a:gd name="textAreaRight" fmla="*/ 858240 w 99072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 flipH="1">
            <a:off x="7162200" y="914400"/>
            <a:ext cx="1066680" cy="21337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360520" y="5870520"/>
            <a:ext cx="441972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791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НЕЙТ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360520" y="5032440"/>
            <a:ext cx="4419720" cy="838080"/>
          </a:xfrm>
          <a:prstGeom prst="rect">
            <a:avLst/>
          </a:prstGeom>
          <a:gradFill rotWithShape="0">
            <a:gsLst>
              <a:gs pos="0">
                <a:srgbClr val="4791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ДИЗЪЮН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362320" y="2971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6781680" y="29718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593080" y="441972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СТВА КОНЪЮНК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 rot="16216800">
            <a:off x="4115160" y="3579840"/>
            <a:ext cx="838440" cy="382680"/>
          </a:xfrm>
          <a:custGeom>
            <a:avLst/>
            <a:gdLst>
              <a:gd name="textAreaLeft" fmla="*/ 104760 w 838440"/>
              <a:gd name="textAreaRight" fmla="*/ 733680 w 838440"/>
              <a:gd name="textAreaTop" fmla="*/ 95760 h 382680"/>
              <a:gd name="textAreaBottom" fmla="*/ 287280 h 382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1447920" y="0"/>
            <a:ext cx="6324480" cy="68580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29000" y="457200"/>
            <a:ext cx="2514600" cy="106668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ГНИТИВ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СИХ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С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48320" y="4191120"/>
            <a:ext cx="2514600" cy="114300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ВЕДЕНЧЕ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ЕЧЬ, ЖЕСТ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ИМИКА,ДЕЙСТВ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057400" y="4191120"/>
            <a:ext cx="2514600" cy="1143000"/>
          </a:xfrm>
          <a:prstGeom prst="rect">
            <a:avLst/>
          </a:prstGeom>
          <a:gradFill rotWithShape="0">
            <a:gsLst>
              <a:gs pos="0">
                <a:srgbClr val="3b8aff"/>
              </a:gs>
              <a:gs pos="50000">
                <a:srgbClr val="ccccff"/>
              </a:gs>
              <a:gs pos="100000">
                <a:srgbClr val="3b8a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МОЦИОНА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ЖИ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ЖИТЕЛЬНЫЕ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РИЦАТЕЛЬН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2133720" y="2666880"/>
            <a:ext cx="472428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65a3ff"/>
              </a:gs>
              <a:gs pos="100000">
                <a:srgbClr val="ccccff"/>
              </a:gs>
            </a:gsLst>
            <a:lin ang="27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ИМООТНОШЕНИЯ    ВКЛЮ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4572000" y="1523520"/>
            <a:ext cx="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3124080" y="3124080"/>
            <a:ext cx="106704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952880" y="3124080"/>
            <a:ext cx="990720" cy="106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3"/>
          <p:cNvSpPr/>
          <p:nvPr/>
        </p:nvSpPr>
        <p:spPr>
          <a:xfrm rot="16200000">
            <a:off x="4076640" y="2018880"/>
            <a:ext cx="106668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4"/>
          <p:cNvSpPr/>
          <p:nvPr/>
        </p:nvSpPr>
        <p:spPr>
          <a:xfrm rot="3453000">
            <a:off x="5047560" y="3485880"/>
            <a:ext cx="1028880" cy="30492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5"/>
          <p:cNvSpPr/>
          <p:nvPr/>
        </p:nvSpPr>
        <p:spPr>
          <a:xfrm rot="7055400">
            <a:off x="3161880" y="3466800"/>
            <a:ext cx="990720" cy="30456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47920" y="152280"/>
            <a:ext cx="6248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7279d"/>
                </a:solidFill>
                <a:latin typeface="Arial"/>
              </a:rPr>
              <a:t>ВИДЫ ВЗАИМО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0880" y="1600200"/>
            <a:ext cx="2667240" cy="5029200"/>
          </a:xfrm>
          <a:prstGeom prst="rect">
            <a:avLst/>
          </a:prstGeom>
          <a:gradFill rotWithShape="0">
            <a:gsLst>
              <a:gs pos="0">
                <a:srgbClr val="277eff"/>
              </a:gs>
              <a:gs pos="50000">
                <a:srgbClr val="ccccff"/>
              </a:gs>
              <a:gs pos="100000">
                <a:srgbClr val="277eff"/>
              </a:gs>
            </a:gsLst>
            <a:lin ang="54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М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П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ТЯ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ТАЛК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886200" y="160020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553080" y="1600200"/>
            <a:ext cx="205740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СТРУ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886200" y="289548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ЯТЕЛЬ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6553080" y="28954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86200" y="419112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ИЩ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6553080" y="42670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Ж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6553080" y="5638680"/>
            <a:ext cx="198144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886200" y="5638680"/>
            <a:ext cx="1981080" cy="914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64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УЖ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867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867280" y="6095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8"/>
          <p:cNvSpPr/>
          <p:nvPr/>
        </p:nvSpPr>
        <p:spPr>
          <a:xfrm>
            <a:off x="1521000" y="91296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4648320" y="91440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7162920" y="914400"/>
            <a:ext cx="380880" cy="608040"/>
          </a:xfrm>
          <a:prstGeom prst="downArrow">
            <a:avLst>
              <a:gd name="adj1" fmla="val 50000"/>
              <a:gd name="adj2" fmla="val 39910"/>
            </a:avLst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3124080" y="198108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3124080" y="32004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3"/>
          <p:cNvSpPr/>
          <p:nvPr/>
        </p:nvSpPr>
        <p:spPr>
          <a:xfrm>
            <a:off x="3124080" y="45720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124080" y="5943600"/>
            <a:ext cx="762120" cy="228600"/>
          </a:xfrm>
          <a:prstGeom prst="pie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124080" y="228600"/>
            <a:ext cx="3581640" cy="99072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ЕРИИ ОЦЕ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ЛИЧНОС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415800" y="190188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362320" y="1752480"/>
            <a:ext cx="5790960" cy="76212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ЕННОСТ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ВЛЕТВОР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576"/>
          <p:cNvSpPr/>
          <p:nvPr/>
        </p:nvSpPr>
        <p:spPr>
          <a:xfrm>
            <a:off x="457200" y="3733920"/>
            <a:ext cx="2666880" cy="99036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ПАТ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ПА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577"/>
          <p:cNvSpPr/>
          <p:nvPr/>
        </p:nvSpPr>
        <p:spPr>
          <a:xfrm>
            <a:off x="4724280" y="3733920"/>
            <a:ext cx="3353040" cy="99036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КАТЕЛЬНОСТЬ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ИВЛЕК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79"/>
          <p:cNvSpPr/>
          <p:nvPr/>
        </p:nvSpPr>
        <p:spPr>
          <a:xfrm>
            <a:off x="533520" y="6248520"/>
            <a:ext cx="6019560" cy="380880"/>
          </a:xfrm>
          <a:prstGeom prst="rect">
            <a:avLst/>
          </a:prstGeom>
          <a:gradFill rotWithShape="0">
            <a:gsLst>
              <a:gs pos="0">
                <a:srgbClr val="4b94ff"/>
              </a:gs>
              <a:gs pos="50000">
                <a:srgbClr val="ccccff"/>
              </a:gs>
              <a:gs pos="100000">
                <a:srgbClr val="4b94ff"/>
              </a:gs>
            </a:gsLst>
            <a:lin ang="189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О – ПСИХОЛОГИЧЕСКИЙ КЛИ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80"/>
          <p:cNvSpPr/>
          <p:nvPr/>
        </p:nvSpPr>
        <p:spPr>
          <a:xfrm>
            <a:off x="22860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81"/>
          <p:cNvSpPr/>
          <p:nvPr/>
        </p:nvSpPr>
        <p:spPr>
          <a:xfrm>
            <a:off x="228600" y="21337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82"/>
          <p:cNvSpPr/>
          <p:nvPr/>
        </p:nvSpPr>
        <p:spPr>
          <a:xfrm>
            <a:off x="22860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83"/>
          <p:cNvSpPr/>
          <p:nvPr/>
        </p:nvSpPr>
        <p:spPr>
          <a:xfrm flipH="1">
            <a:off x="2133360" y="2514600"/>
            <a:ext cx="1904760" cy="121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584"/>
          <p:cNvSpPr/>
          <p:nvPr/>
        </p:nvSpPr>
        <p:spPr>
          <a:xfrm>
            <a:off x="5486400" y="2514600"/>
            <a:ext cx="1295280" cy="12193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85"/>
          <p:cNvSpPr/>
          <p:nvPr/>
        </p:nvSpPr>
        <p:spPr>
          <a:xfrm>
            <a:off x="2286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86"/>
          <p:cNvSpPr/>
          <p:nvPr/>
        </p:nvSpPr>
        <p:spPr>
          <a:xfrm flipV="1">
            <a:off x="228600" y="685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587"/>
          <p:cNvSpPr/>
          <p:nvPr/>
        </p:nvSpPr>
        <p:spPr>
          <a:xfrm>
            <a:off x="228600" y="685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68"/>
          <p:cNvSpPr/>
          <p:nvPr/>
        </p:nvSpPr>
        <p:spPr>
          <a:xfrm>
            <a:off x="1219320" y="609480"/>
            <a:ext cx="63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7279d"/>
                </a:solidFill>
                <a:latin typeface="Arial"/>
              </a:rPr>
              <a:t>Развитие взаим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9"/>
          <p:cNvSpPr/>
          <p:nvPr/>
        </p:nvSpPr>
        <p:spPr>
          <a:xfrm>
            <a:off x="533520" y="1905120"/>
            <a:ext cx="12952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70"/>
          <p:cNvSpPr/>
          <p:nvPr/>
        </p:nvSpPr>
        <p:spPr>
          <a:xfrm>
            <a:off x="533520" y="3352680"/>
            <a:ext cx="1295280" cy="609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1"/>
          <p:cNvSpPr/>
          <p:nvPr/>
        </p:nvSpPr>
        <p:spPr>
          <a:xfrm>
            <a:off x="533520" y="4876920"/>
            <a:ext cx="12952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эта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5"/>
          <p:cNvSpPr/>
          <p:nvPr/>
        </p:nvSpPr>
        <p:spPr>
          <a:xfrm>
            <a:off x="4114800" y="1905120"/>
            <a:ext cx="3962520" cy="520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новение взаимного контакта, восприятия и  оценки людьми друг дру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8"/>
          <p:cNvSpPr/>
          <p:nvPr/>
        </p:nvSpPr>
        <p:spPr>
          <a:xfrm>
            <a:off x="4114800" y="3352680"/>
            <a:ext cx="3962520" cy="946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новение межличностных отношен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ние внутреннего отношения людей друг к другу на рациональном и эмоциональном уровн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0"/>
          <p:cNvSpPr/>
          <p:nvPr/>
        </p:nvSpPr>
        <p:spPr>
          <a:xfrm>
            <a:off x="4125960" y="5029200"/>
            <a:ext cx="3951360" cy="520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1890000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щение людей друг к другу  как фор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явления внутреннего от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2"/>
          <p:cNvSpPr/>
          <p:nvPr/>
        </p:nvSpPr>
        <p:spPr>
          <a:xfrm>
            <a:off x="2133720" y="20574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3"/>
          <p:cNvSpPr/>
          <p:nvPr/>
        </p:nvSpPr>
        <p:spPr>
          <a:xfrm>
            <a:off x="2133720" y="34290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84"/>
          <p:cNvSpPr/>
          <p:nvPr/>
        </p:nvSpPr>
        <p:spPr>
          <a:xfrm>
            <a:off x="2133720" y="5029200"/>
            <a:ext cx="1523880" cy="409680"/>
          </a:xfrm>
          <a:custGeom>
            <a:avLst/>
            <a:gdLst>
              <a:gd name="textAreaLeft" fmla="*/ 105120 w 1523880"/>
              <a:gd name="textAreaRight" fmla="*/ 1418760 w 1523880"/>
              <a:gd name="textAreaTop" fmla="*/ 131760 h 409680"/>
              <a:gd name="textAreaBottom" fmla="*/ 277920 h 409680"/>
            </a:gdLst>
            <a:ahLst/>
            <a:rect l="textAreaLeft" t="textAreaTop" r="textAreaRight" b="textAreaBottom"/>
            <a:pathLst>
              <a:path w="21600" h="21600">
                <a:moveTo>
                  <a:pt x="0" y="6949"/>
                </a:moveTo>
                <a:lnTo>
                  <a:pt x="17415" y="6949"/>
                </a:lnTo>
                <a:lnTo>
                  <a:pt x="17415" y="0"/>
                </a:lnTo>
                <a:lnTo>
                  <a:pt x="21600" y="10800"/>
                </a:lnTo>
                <a:lnTo>
                  <a:pt x="17415" y="21600"/>
                </a:lnTo>
                <a:lnTo>
                  <a:pt x="17415" y="14651"/>
                </a:lnTo>
                <a:lnTo>
                  <a:pt x="0" y="14651"/>
                </a:lnTo>
                <a:lnTo>
                  <a:pt x="1492" y="10800"/>
                </a:lnTo>
                <a:lnTo>
                  <a:pt x="0" y="6949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ccccff"/>
              </a:gs>
              <a:gs pos="100000">
                <a:srgbClr val="3333cc"/>
              </a:gs>
            </a:gsLst>
            <a:lin ang="0"/>
          </a:gradFill>
          <a:ln cap="rnd" w="3240">
            <a:solidFill>
              <a:srgbClr val="27279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971800" y="2819520"/>
            <a:ext cx="3657600" cy="1008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ccccff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личностные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навстречу люд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4034160" y="228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УЖ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54440" y="586728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7041960" y="58672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 rot="7357800">
            <a:off x="1878840" y="4825800"/>
            <a:ext cx="21337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/>
          <p:cNvSpPr/>
          <p:nvPr/>
        </p:nvSpPr>
        <p:spPr>
          <a:xfrm rot="3343800">
            <a:off x="5536800" y="4825800"/>
            <a:ext cx="213372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/>
          <p:cNvSpPr/>
          <p:nvPr/>
        </p:nvSpPr>
        <p:spPr>
          <a:xfrm rot="16170600">
            <a:off x="3746160" y="1585800"/>
            <a:ext cx="2057400" cy="253800"/>
          </a:xfrm>
          <a:prstGeom prst="pie">
            <a:avLst/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6:20Z</dcterms:modified>
  <cp:revision>14</cp:revision>
  <dc:subject/>
  <dc:title>PowerPoint Presentation</dc:title>
</cp:coreProperties>
</file>