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1B9-8BCE-4FFC-B0FB-83709655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090-2778-4765-9EA4-FA9C1262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2DE-D4A9-47C4-BF6C-9EDF9828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0A3-083F-4477-8313-18AE273C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8E0-B990-4E60-BD05-7A60CDCF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33B-3600-4CCF-9AEE-DE3CD956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990-5A1C-4231-BE01-3D2DEF7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E38-5F8F-4BEF-BCD8-C283303F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A1A-1866-42E9-AFFF-DCDDCEA9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9B4-1638-4181-9728-19172864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3FD-F9EA-4DF8-8573-4FDEF8E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6C8-71CB-41DA-8A26-E1955ABC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AEBD-DA09-4AD4-93B2-2A1AF7EACC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66"/>
                </a:solidFill>
                <a:latin typeface="Times New Roman"/>
              </a:rPr>
              <a:t>Тема 2.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сихология социализации лич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45680" y="1295280"/>
            <a:ext cx="822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 результате изучения темы вы будете разбираться в вопроса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сихологии социализации личности, ее роли в становление человек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09480" y="2057400"/>
            <a:ext cx="8001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 теме будут рассмотрены вопросы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онятие «Социализация»,особенности современной социализации и стади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развития личности в процессе 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Факторы, механизмы и институты социализации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Жизненная позиция личности, как интегральный критерий 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снин В.А. Социальная психология: учебник для спо / В.А. Соснин, Е.А. Красникова. - М.: ФОРУМ: ИНФРА-М.- 2009. - 336 с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.  Крысько В.Г.    Социальная психология / В.Г. Крысько. - 2-е изд. - М. [и др.]: Питер.- 2010. - 431 с. - (Учебник для вузов)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.   Морозов,А.В.    Социальная психология : учебник для вузов / Морозов,А.В. - 2-е изд. - М. : Академический проект: Логос.- 2010. - 336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. Майерс Д.    Социальная психология: пер. с англ. / Д. Майерс;  пер. З. Замчук. - 7-е изд. - М. [и др.] : Питер.- 2009. - 794 с.: ил. - (Мастера психологии)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33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609480" y="152280"/>
            <a:ext cx="79250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2     Социальная   психология   личности.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9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425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1066680" y="457200"/>
            <a:ext cx="273708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2133720"/>
            <a:ext cx="2519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институциональ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692360" y="1341360"/>
            <a:ext cx="25207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традицио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692360" y="2925720"/>
            <a:ext cx="2448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стилизова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692360" y="3646440"/>
            <a:ext cx="2303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ежличност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692360" y="4367160"/>
            <a:ext cx="2376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рефлексив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1979640" y="5950080"/>
            <a:ext cx="54738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Конформност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914400"/>
            <a:ext cx="434880" cy="594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Универсальные механизмы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1835280" y="4941720"/>
            <a:ext cx="61927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ьной оценк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H="1">
            <a:off x="539640" y="6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"/>
          <p:cNvSpPr/>
          <p:nvPr/>
        </p:nvSpPr>
        <p:spPr>
          <a:xfrm flipH="1">
            <a:off x="533160" y="692280"/>
            <a:ext cx="61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5"/>
          <p:cNvSpPr/>
          <p:nvPr/>
        </p:nvSpPr>
        <p:spPr>
          <a:xfrm flipV="1">
            <a:off x="684360" y="2349000"/>
            <a:ext cx="1008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55640" y="364500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7"/>
          <p:cNvSpPr/>
          <p:nvPr/>
        </p:nvSpPr>
        <p:spPr>
          <a:xfrm flipV="1">
            <a:off x="755640" y="321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8"/>
          <p:cNvSpPr/>
          <p:nvPr/>
        </p:nvSpPr>
        <p:spPr>
          <a:xfrm flipV="1">
            <a:off x="755640" y="1773000"/>
            <a:ext cx="863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9"/>
          <p:cNvSpPr/>
          <p:nvPr/>
        </p:nvSpPr>
        <p:spPr>
          <a:xfrm>
            <a:off x="755640" y="3645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75564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755640" y="522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1981080" y="609480"/>
            <a:ext cx="518328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Институты социализаци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987640" y="2060640"/>
            <a:ext cx="324000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емь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203640" y="3500280"/>
            <a:ext cx="2736720" cy="7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школ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916360" y="5013360"/>
            <a:ext cx="360036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Профессиональна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групп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4427640" y="1413000"/>
            <a:ext cx="360360" cy="576000"/>
          </a:xfrm>
          <a:prstGeom prst="downArrow">
            <a:avLst>
              <a:gd name="adj1" fmla="val 50000"/>
              <a:gd name="adj2" fmla="val 39960"/>
            </a:avLst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4427640" y="285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4356000" y="4292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979640" y="134136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3"/>
          <p:cNvSpPr/>
          <p:nvPr/>
        </p:nvSpPr>
        <p:spPr>
          <a:xfrm flipH="1">
            <a:off x="6227640" y="134136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2050920" y="1413000"/>
            <a:ext cx="115272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5"/>
          <p:cNvSpPr/>
          <p:nvPr/>
        </p:nvSpPr>
        <p:spPr>
          <a:xfrm flipH="1">
            <a:off x="5866920" y="1341360"/>
            <a:ext cx="1297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6"/>
          <p:cNvSpPr/>
          <p:nvPr/>
        </p:nvSpPr>
        <p:spPr>
          <a:xfrm flipH="1">
            <a:off x="6516360" y="1341360"/>
            <a:ext cx="64764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1979640" y="1341360"/>
            <a:ext cx="93672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cc"/>
                </a:solidFill>
                <a:latin typeface="Times New Roman"/>
              </a:rPr>
              <a:t>Интегральный критерий социа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332000" y="1125360"/>
            <a:ext cx="662472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зненная позиция личност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2217600" y="2254320"/>
            <a:ext cx="46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Активная жизненная позиц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 пози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371600" y="586728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Активная жизненная позиция с нега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85800" y="32767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Жизненная позиция среднего и гармонического уровня активн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374920" y="3981600"/>
            <a:ext cx="462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ассивная жизненная позиц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 пози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32720" y="50626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ассивная жизненная позиция с негативным духовным потенциало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1"/>
          <p:cNvSpPr/>
          <p:nvPr/>
        </p:nvSpPr>
        <p:spPr>
          <a:xfrm>
            <a:off x="539640" y="1413000"/>
            <a:ext cx="0" cy="47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8675640" y="1341360"/>
            <a:ext cx="11160" cy="475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3"/>
          <p:cNvSpPr/>
          <p:nvPr/>
        </p:nvSpPr>
        <p:spPr>
          <a:xfrm>
            <a:off x="539640" y="6093000"/>
            <a:ext cx="16700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4"/>
          <p:cNvSpPr/>
          <p:nvPr/>
        </p:nvSpPr>
        <p:spPr>
          <a:xfrm>
            <a:off x="539640" y="5229360"/>
            <a:ext cx="698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539640" y="4221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53352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539640" y="249228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8"/>
          <p:cNvSpPr/>
          <p:nvPr/>
        </p:nvSpPr>
        <p:spPr>
          <a:xfrm flipH="1">
            <a:off x="7696080" y="6095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9"/>
          <p:cNvSpPr/>
          <p:nvPr/>
        </p:nvSpPr>
        <p:spPr>
          <a:xfrm flipH="1">
            <a:off x="8457840" y="53341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0"/>
          <p:cNvSpPr/>
          <p:nvPr/>
        </p:nvSpPr>
        <p:spPr>
          <a:xfrm flipH="1">
            <a:off x="6659640" y="4149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1"/>
          <p:cNvSpPr/>
          <p:nvPr/>
        </p:nvSpPr>
        <p:spPr>
          <a:xfrm flipH="1">
            <a:off x="80006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2"/>
          <p:cNvSpPr/>
          <p:nvPr/>
        </p:nvSpPr>
        <p:spPr>
          <a:xfrm flipH="1">
            <a:off x="6732360" y="249228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7956360" y="134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539640" y="1413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5"/>
          <p:cNvSpPr/>
          <p:nvPr/>
        </p:nvSpPr>
        <p:spPr>
          <a:xfrm rot="16200000">
            <a:off x="-742320" y="34506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уров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2362320" y="2819520"/>
            <a:ext cx="2354040" cy="465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443640" y="3500280"/>
            <a:ext cx="1873440" cy="1008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Субъек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общественно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жизн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443640" y="1916280"/>
            <a:ext cx="1728720" cy="1152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Объект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общественног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воздейств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6691680" y="299736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003640" y="270828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Times New Roman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>
            <a:off x="5867280" y="206064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586728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5867280" y="429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1526040" y="112392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своение социально-культурного опы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966760" y="470052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частие в жизни обществ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738036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608472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"/>
          <p:cNvSpPr/>
          <p:nvPr/>
        </p:nvSpPr>
        <p:spPr>
          <a:xfrm flipH="1">
            <a:off x="914040" y="4952880"/>
            <a:ext cx="215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9"/>
          <p:cNvSpPr/>
          <p:nvPr/>
        </p:nvSpPr>
        <p:spPr>
          <a:xfrm flipV="1">
            <a:off x="900000" y="3716280"/>
            <a:ext cx="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20"/>
          <p:cNvSpPr/>
          <p:nvPr/>
        </p:nvSpPr>
        <p:spPr>
          <a:xfrm>
            <a:off x="304920" y="2590920"/>
            <a:ext cx="1460520" cy="982440"/>
          </a:xfrm>
          <a:prstGeom prst="flowChartPunched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обще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5"/>
          <p:cNvSpPr/>
          <p:nvPr/>
        </p:nvSpPr>
        <p:spPr>
          <a:xfrm flipH="1" flipV="1">
            <a:off x="1752480" y="3047760"/>
            <a:ext cx="658800" cy="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6"/>
          <p:cNvSpPr/>
          <p:nvPr/>
        </p:nvSpPr>
        <p:spPr>
          <a:xfrm flipH="1" flipV="1">
            <a:off x="4723920" y="3047760"/>
            <a:ext cx="1143000" cy="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7"/>
          <p:cNvSpPr/>
          <p:nvPr/>
        </p:nvSpPr>
        <p:spPr>
          <a:xfrm>
            <a:off x="0" y="228600"/>
            <a:ext cx="3657600" cy="824040"/>
          </a:xfrm>
          <a:prstGeom prst="cloudCallout">
            <a:avLst>
              <a:gd name="adj1" fmla="val 29643"/>
              <a:gd name="adj2" fmla="val 24672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ега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28"/>
          <p:cNvSpPr/>
          <p:nvPr/>
        </p:nvSpPr>
        <p:spPr>
          <a:xfrm>
            <a:off x="5029200" y="228600"/>
            <a:ext cx="3503520" cy="824040"/>
          </a:xfrm>
          <a:prstGeom prst="cloudCallout">
            <a:avLst>
              <a:gd name="adj1" fmla="val -72699"/>
              <a:gd name="adj2" fmla="val 245185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акро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228600" y="5257800"/>
            <a:ext cx="3352680" cy="907920"/>
          </a:xfrm>
          <a:prstGeom prst="cloudCallout">
            <a:avLst>
              <a:gd name="adj1" fmla="val 36124"/>
              <a:gd name="adj2" fmla="val -253495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езо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31"/>
          <p:cNvSpPr/>
          <p:nvPr/>
        </p:nvSpPr>
        <p:spPr>
          <a:xfrm>
            <a:off x="5105520" y="5257800"/>
            <a:ext cx="3657600" cy="1050840"/>
          </a:xfrm>
          <a:prstGeom prst="cloudCallout">
            <a:avLst>
              <a:gd name="adj1" fmla="val -77648"/>
              <a:gd name="adj2" fmla="val -221601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микрофактор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990720" y="1371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33"/>
          <p:cNvSpPr/>
          <p:nvPr/>
        </p:nvSpPr>
        <p:spPr>
          <a:xfrm>
            <a:off x="990720" y="1371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34"/>
          <p:cNvSpPr/>
          <p:nvPr/>
        </p:nvSpPr>
        <p:spPr>
          <a:xfrm flipH="1">
            <a:off x="716292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35"/>
          <p:cNvSpPr/>
          <p:nvPr/>
        </p:nvSpPr>
        <p:spPr>
          <a:xfrm>
            <a:off x="762012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аково содержание понятия «социализация»? Дайте несколько определений социализации, исходя из понимания ее сущ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характеризуйте источники социализации индиви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аково содержание понятия интериоризаци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акие факторы социализации выделяю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Что значит механизмы социализации, какие они бывают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Что представляют собой институты социализаци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Раскройте понятие жизненная позиция, как интегрального критерия соци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характеризуйте активную жизненную позицию по ее вид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Что в большей степени предопределяет усвоение и воспроизводство социального опыта человека: стихийное или целенаправленное влияние социал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99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одумайте, какие новые особенности социализации человека могут появиться в 21 веке, исходя из тенденций развития: общественной жизни, науки, производства, политик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2535120" y="281160"/>
            <a:ext cx="49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059560" y="54936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Times New Roman"/>
              </a:rPr>
              <a:t>Усвоение социально-культурного опыт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25080" y="5468760"/>
            <a:ext cx="532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33ff"/>
                </a:solidFill>
                <a:latin typeface="Times New Roman"/>
              </a:rPr>
              <a:t>Усвоение социально-культурного опыта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8"/>
          <p:cNvSpPr/>
          <p:nvPr/>
        </p:nvSpPr>
        <p:spPr>
          <a:xfrm>
            <a:off x="609480" y="2819520"/>
            <a:ext cx="1584360" cy="72072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бще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9"/>
          <p:cNvSpPr/>
          <p:nvPr/>
        </p:nvSpPr>
        <p:spPr>
          <a:xfrm>
            <a:off x="7164360" y="2781360"/>
            <a:ext cx="1584360" cy="792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челов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124080" y="2819520"/>
            <a:ext cx="3200400" cy="609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4319640" y="1219320"/>
            <a:ext cx="503280" cy="1368360"/>
          </a:xfrm>
          <a:prstGeom prst="upArrow">
            <a:avLst>
              <a:gd name="adj1" fmla="val 50000"/>
              <a:gd name="adj2" fmla="val 67972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2"/>
          <p:cNvSpPr/>
          <p:nvPr/>
        </p:nvSpPr>
        <p:spPr>
          <a:xfrm rot="10800000">
            <a:off x="4319640" y="4038480"/>
            <a:ext cx="503280" cy="1368720"/>
          </a:xfrm>
          <a:prstGeom prst="upArrow">
            <a:avLst>
              <a:gd name="adj1" fmla="val 50000"/>
              <a:gd name="adj2" fmla="val 67990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2209680" y="2971800"/>
            <a:ext cx="914400" cy="457200"/>
          </a:xfrm>
          <a:prstGeom prst="lef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4"/>
          <p:cNvSpPr/>
          <p:nvPr/>
        </p:nvSpPr>
        <p:spPr>
          <a:xfrm rot="10800000">
            <a:off x="6324480" y="2997000"/>
            <a:ext cx="790560" cy="431640"/>
          </a:xfrm>
          <a:prstGeom prst="leftArrow">
            <a:avLst>
              <a:gd name="adj1" fmla="val 50000"/>
              <a:gd name="adj2" fmla="val 45788"/>
            </a:avLst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6"/>
          <p:cNvSpPr/>
          <p:nvPr/>
        </p:nvSpPr>
        <p:spPr>
          <a:xfrm flipV="1">
            <a:off x="8101080" y="378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8101080" y="836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8"/>
          <p:cNvSpPr/>
          <p:nvPr/>
        </p:nvSpPr>
        <p:spPr>
          <a:xfrm flipH="1">
            <a:off x="7667640" y="836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7620120" y="571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1371600" y="838080"/>
            <a:ext cx="3168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1"/>
          <p:cNvSpPr/>
          <p:nvPr/>
        </p:nvSpPr>
        <p:spPr>
          <a:xfrm>
            <a:off x="1403280" y="350028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1403280" y="838080"/>
            <a:ext cx="6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1403280" y="5734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 rot="5400000">
            <a:off x="7186320" y="162576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стихийн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 rot="5400000">
            <a:off x="6951600" y="45529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целенаправленн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75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5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7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6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2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725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625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125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625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9125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625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125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625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125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625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2125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625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125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625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225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6732720" y="1268280"/>
            <a:ext cx="216036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ъек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щественног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оздействи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732720" y="4797360"/>
            <a:ext cx="2160360" cy="11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убъект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щественно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жизн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026480" y="3449520"/>
            <a:ext cx="194868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ЧЕЛОВЕ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 flipV="1">
            <a:off x="781200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7812000" y="38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6084360" y="1905120"/>
            <a:ext cx="11160" cy="36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608472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6084720" y="551664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1476360" y="3213000"/>
            <a:ext cx="3166920" cy="5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d1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762120" y="762120"/>
            <a:ext cx="1733400" cy="1447560"/>
          </a:xfrm>
          <a:prstGeom prst="flowChartPunchedTap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заимно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лияни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люде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3924360" y="836640"/>
            <a:ext cx="1368360" cy="129528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редме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культу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900000" y="4581360"/>
            <a:ext cx="1440000" cy="1222560"/>
          </a:xfrm>
          <a:prstGeom prst="flowChartPunchedTap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ервич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пы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3733920" y="4508640"/>
            <a:ext cx="1904760" cy="1295280"/>
          </a:xfrm>
          <a:prstGeom prst="flowChartPunchedTap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роцесс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аморе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0"/>
          <p:cNvSpPr/>
          <p:nvPr/>
        </p:nvSpPr>
        <p:spPr>
          <a:xfrm flipV="1">
            <a:off x="1187280" y="393336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 flipH="1">
            <a:off x="3564000" y="213372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 flipH="1" flipV="1">
            <a:off x="3780000" y="3860640"/>
            <a:ext cx="86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1905120" y="1981080"/>
            <a:ext cx="720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4643280" y="3429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25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25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275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775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75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75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575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75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575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7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475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975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475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7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6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1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075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3575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225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04920" y="380880"/>
            <a:ext cx="8370720" cy="632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62120" y="838080"/>
            <a:ext cx="2160360" cy="432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воспит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52680" y="838080"/>
            <a:ext cx="2160720" cy="432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обуч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943600" y="838080"/>
            <a:ext cx="2160720" cy="648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развит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личност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6765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44197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708660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46640" y="4460760"/>
            <a:ext cx="7882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Усвоение социальных норм, умений, стереотипов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Формирование социальных установок, убеждени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Вхождение индивида в социальную среду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Приобщение индивида к системе социальных связе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Усвоение индивидом социальных влияний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оциальное обучение принятия в обществе формам поведения и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щения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771640" y="2924280"/>
            <a:ext cx="3529080" cy="647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4356000" y="1341360"/>
            <a:ext cx="432000" cy="1440000"/>
          </a:xfrm>
          <a:prstGeom prst="upDownArrow">
            <a:avLst>
              <a:gd name="adj1" fmla="val 50000"/>
              <a:gd name="adj2" fmla="val 66358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4"/>
          <p:cNvSpPr/>
          <p:nvPr/>
        </p:nvSpPr>
        <p:spPr>
          <a:xfrm rot="20326200">
            <a:off x="2096640" y="1346040"/>
            <a:ext cx="432000" cy="1438560"/>
          </a:xfrm>
          <a:prstGeom prst="upDownArrow">
            <a:avLst>
              <a:gd name="adj1" fmla="val 50000"/>
              <a:gd name="adj2" fmla="val 66292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5"/>
          <p:cNvSpPr/>
          <p:nvPr/>
        </p:nvSpPr>
        <p:spPr>
          <a:xfrm rot="1672800">
            <a:off x="6732360" y="1557360"/>
            <a:ext cx="431640" cy="1511280"/>
          </a:xfrm>
          <a:prstGeom prst="upDownArrow">
            <a:avLst>
              <a:gd name="adj1" fmla="val 50000"/>
              <a:gd name="adj2" fmla="val 69701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284720" y="3645000"/>
            <a:ext cx="431640" cy="863640"/>
          </a:xfrm>
          <a:prstGeom prst="down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187280" y="836640"/>
            <a:ext cx="6624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Times New Roman"/>
              </a:rPr>
              <a:t>ОСОБЕННОСТИ СОЦИАЛИЗАЦИ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09480" y="3733920"/>
            <a:ext cx="2384640" cy="23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Длительнос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ман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564000" y="3716280"/>
            <a:ext cx="2232000" cy="23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Образовани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и професс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тв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248520" y="3733920"/>
            <a:ext cx="2438280" cy="2361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Характерологи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черт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мбивалентност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4427640" y="1628640"/>
            <a:ext cx="504720" cy="1871640"/>
          </a:xfrm>
          <a:prstGeom prst="downArrow">
            <a:avLst>
              <a:gd name="adj1" fmla="val 50000"/>
              <a:gd name="adj2" fmla="val 92707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403280" y="1557360"/>
            <a:ext cx="504720" cy="1871640"/>
          </a:xfrm>
          <a:prstGeom prst="downArrow">
            <a:avLst>
              <a:gd name="adj1" fmla="val 50000"/>
              <a:gd name="adj2" fmla="val 92707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7093080" y="1700280"/>
            <a:ext cx="504720" cy="1871640"/>
          </a:xfrm>
          <a:prstGeom prst="downArrow">
            <a:avLst>
              <a:gd name="adj1" fmla="val 50000"/>
              <a:gd name="adj2" fmla="val 92707"/>
            </a:avLst>
          </a:prstGeom>
          <a:gradFill rotWithShape="0">
            <a:gsLst>
              <a:gs pos="0">
                <a:srgbClr val="0066cc"/>
              </a:gs>
              <a:gs pos="50000">
                <a:srgbClr val="ffffff"/>
              </a:gs>
              <a:gs pos="100000">
                <a:srgbClr val="0066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835280" y="4292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479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7596360" y="4941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556000" y="692280"/>
            <a:ext cx="611964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тадии развития личности в процессе 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514600" y="2209680"/>
            <a:ext cx="61912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Адаптации- вхождение в мир люде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627280" y="3429000"/>
            <a:ext cx="6121440" cy="79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Индивидуализации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обособление индивида как индивидуальн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627280" y="5013360"/>
            <a:ext cx="6121440" cy="115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Интеграции - достижение балан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между человеком и обществом, т. е.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9933ff"/>
                </a:solidFill>
                <a:latin typeface="Times New Roman"/>
              </a:rPr>
              <a:t>самореализация личности в обществе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5724360" y="14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796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579600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1"/>
          <p:cNvSpPr/>
          <p:nvPr/>
        </p:nvSpPr>
        <p:spPr>
          <a:xfrm rot="10800000">
            <a:off x="380880" y="228600"/>
            <a:ext cx="648000" cy="640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Динамика пассивной и активной позиции индивид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187280" y="1052640"/>
            <a:ext cx="129708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3"/>
          <p:cNvSpPr/>
          <p:nvPr/>
        </p:nvSpPr>
        <p:spPr>
          <a:xfrm>
            <a:off x="1116000" y="3716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4"/>
          <p:cNvSpPr/>
          <p:nvPr/>
        </p:nvSpPr>
        <p:spPr>
          <a:xfrm flipV="1">
            <a:off x="1116000" y="5373360"/>
            <a:ext cx="1440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4"/>
          <p:cNvSpPr/>
          <p:nvPr/>
        </p:nvSpPr>
        <p:spPr>
          <a:xfrm>
            <a:off x="2627280" y="404640"/>
            <a:ext cx="3816360" cy="86364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Фактор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Социализ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личнос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0" y="243828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Тип посел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877080" y="1700280"/>
            <a:ext cx="1800360" cy="504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Региональ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услов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6858000" y="1143000"/>
            <a:ext cx="180036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этно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029200" y="609588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ланет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908000" y="6093000"/>
            <a:ext cx="180036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космос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635280" y="515772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ега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410080" y="4572000"/>
            <a:ext cx="180036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культур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835280" y="4292640"/>
            <a:ext cx="1800000" cy="7189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трана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государство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бществ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564000" y="3141720"/>
            <a:ext cx="1800000" cy="431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акро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590920" y="1523880"/>
            <a:ext cx="431640" cy="1944720"/>
          </a:xfrm>
          <a:prstGeom prst="rect">
            <a:avLst/>
          </a:prstGeom>
          <a:gradFill rotWithShape="0">
            <a:gsLst>
              <a:gs pos="0">
                <a:srgbClr val="c489ff"/>
              </a:gs>
              <a:gs pos="50000">
                <a:srgbClr val="ffffff"/>
              </a:gs>
              <a:gs pos="100000">
                <a:srgbClr val="c48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кро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228600" y="2666880"/>
            <a:ext cx="1728720" cy="576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Институты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воспита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28600" y="3581280"/>
            <a:ext cx="180036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Религиоз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рганизац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304920" y="1295280"/>
            <a:ext cx="180000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емь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250920" y="1989000"/>
            <a:ext cx="1800000" cy="4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икросоциу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877080" y="3213000"/>
            <a:ext cx="1800360" cy="72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редств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ассовой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коммуникац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5940360" y="1628640"/>
            <a:ext cx="432000" cy="2016360"/>
          </a:xfrm>
          <a:prstGeom prst="rect">
            <a:avLst/>
          </a:prstGeom>
          <a:gradFill rotWithShape="0">
            <a:gsLst>
              <a:gs pos="0">
                <a:srgbClr val="c489ff"/>
              </a:gs>
              <a:gs pos="50000">
                <a:srgbClr val="ffffff"/>
              </a:gs>
              <a:gs pos="100000">
                <a:srgbClr val="c48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зофакторы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 flipH="1">
            <a:off x="2916360" y="5589720"/>
            <a:ext cx="151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4427640" y="5589720"/>
            <a:ext cx="1657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 flipH="1">
            <a:off x="2987640" y="3573360"/>
            <a:ext cx="1440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4427640" y="3573360"/>
            <a:ext cx="172872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4427640" y="3573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4427640" y="1268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197964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9"/>
          <p:cNvSpPr/>
          <p:nvPr/>
        </p:nvSpPr>
        <p:spPr>
          <a:xfrm flipV="1">
            <a:off x="2050920" y="3499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0"/>
          <p:cNvSpPr/>
          <p:nvPr/>
        </p:nvSpPr>
        <p:spPr>
          <a:xfrm>
            <a:off x="2050920" y="213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1"/>
          <p:cNvSpPr/>
          <p:nvPr/>
        </p:nvSpPr>
        <p:spPr>
          <a:xfrm>
            <a:off x="2050920" y="141300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3"/>
          <p:cNvSpPr/>
          <p:nvPr/>
        </p:nvSpPr>
        <p:spPr>
          <a:xfrm flipH="1">
            <a:off x="6443640" y="112536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4"/>
          <p:cNvSpPr/>
          <p:nvPr/>
        </p:nvSpPr>
        <p:spPr>
          <a:xfrm flipH="1" flipV="1">
            <a:off x="6443640" y="3645000"/>
            <a:ext cx="433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5"/>
          <p:cNvSpPr/>
          <p:nvPr/>
        </p:nvSpPr>
        <p:spPr>
          <a:xfrm flipH="1">
            <a:off x="6372360" y="198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36"/>
          <p:cNvSpPr/>
          <p:nvPr/>
        </p:nvSpPr>
        <p:spPr>
          <a:xfrm flipH="1">
            <a:off x="637236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1042920" y="476280"/>
            <a:ext cx="2737080" cy="504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1332000" y="2708280"/>
            <a:ext cx="251928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институциональ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371600" y="1905120"/>
            <a:ext cx="252108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традицион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332000" y="3500280"/>
            <a:ext cx="244800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стилизован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332000" y="4221000"/>
            <a:ext cx="230328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ежличност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295280" y="4952880"/>
            <a:ext cx="237672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рефлексивный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1219320"/>
            <a:ext cx="3240000" cy="11239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етоды вскармлива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ладенцев 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уход за ним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191120" y="3962520"/>
            <a:ext cx="3465360" cy="1944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овательное приобщен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человека к многочисленным видам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тношений в различных сфера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его жизни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-общен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-познани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-деятельност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427640" y="2492280"/>
            <a:ext cx="3313080" cy="1295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Методы психологическог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воздействия в семье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группах сверстников,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рофессиональны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организациях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411280" y="6165720"/>
            <a:ext cx="5473800" cy="360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Особенности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80880" y="762120"/>
            <a:ext cx="381240" cy="58338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Универсальные механизмы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8317080" y="1916280"/>
            <a:ext cx="431640" cy="3816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Среда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3780000" y="692280"/>
            <a:ext cx="46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8459640" y="692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7885080" y="630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8532720" y="5734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1"/>
          <p:cNvSpPr/>
          <p:nvPr/>
        </p:nvSpPr>
        <p:spPr>
          <a:xfrm flipH="1">
            <a:off x="539640" y="692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53964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3"/>
          <p:cNvSpPr/>
          <p:nvPr/>
        </p:nvSpPr>
        <p:spPr>
          <a:xfrm>
            <a:off x="755640" y="638172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4"/>
          <p:cNvSpPr/>
          <p:nvPr/>
        </p:nvSpPr>
        <p:spPr>
          <a:xfrm flipH="1">
            <a:off x="774036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5"/>
          <p:cNvSpPr/>
          <p:nvPr/>
        </p:nvSpPr>
        <p:spPr>
          <a:xfrm flipH="1" flipV="1">
            <a:off x="7667640" y="1700280"/>
            <a:ext cx="6494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6"/>
          <p:cNvSpPr/>
          <p:nvPr/>
        </p:nvSpPr>
        <p:spPr>
          <a:xfrm flipH="1">
            <a:off x="7740360" y="3213000"/>
            <a:ext cx="57636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 flipV="1">
            <a:off x="755640" y="2852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755640" y="3645000"/>
            <a:ext cx="503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755640" y="3573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0"/>
          <p:cNvSpPr/>
          <p:nvPr/>
        </p:nvSpPr>
        <p:spPr>
          <a:xfrm flipV="1">
            <a:off x="755640" y="2133360"/>
            <a:ext cx="503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755640" y="3645000"/>
            <a:ext cx="50328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1066680" y="457200"/>
            <a:ext cx="273708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социал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692360" y="2133720"/>
            <a:ext cx="2519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институциональ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692360" y="1341360"/>
            <a:ext cx="252072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традицио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1692360" y="2925720"/>
            <a:ext cx="2448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стилизован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692360" y="3646440"/>
            <a:ext cx="2303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межличност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692360" y="4367160"/>
            <a:ext cx="237636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рефлексивны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1979640" y="5950080"/>
            <a:ext cx="5473800" cy="64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Полоролевой идентифик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304920" y="609480"/>
            <a:ext cx="457200" cy="624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Times New Roman"/>
              </a:rPr>
              <a:t>Универсальные механизмы социализаци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1752480" y="4952880"/>
            <a:ext cx="619308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Times New Roman"/>
              </a:rPr>
              <a:t>Единство подражания, имитации, идентификаци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 flipH="1">
            <a:off x="762120" y="685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1"/>
          <p:cNvSpPr/>
          <p:nvPr/>
        </p:nvSpPr>
        <p:spPr>
          <a:xfrm flipH="1" flipV="1">
            <a:off x="533160" y="685800"/>
            <a:ext cx="61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 flipV="1">
            <a:off x="684360" y="2349000"/>
            <a:ext cx="1008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755640" y="3645000"/>
            <a:ext cx="863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755640" y="321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755640" y="1773000"/>
            <a:ext cx="8636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755640" y="364500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755640" y="6308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755640" y="522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37:15Z</dcterms:modified>
  <cp:revision>29</cp:revision>
  <dc:subject/>
  <dc:title>PowerPoint Presentation</dc:title>
</cp:coreProperties>
</file>