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21C-A681-4293-8E38-0B46F9E7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188-3F2E-4217-A52D-0D922971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49D-E5DE-4F43-800C-85308043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373-1A9F-4562-AE7A-3670436C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C93-2414-40E5-AE33-F1A1A1ED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9A2-12F0-4A43-A257-A151238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65E-B281-43BE-A23E-F9D9D3F8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4B8-4014-47E5-BB33-8EAF551B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3BF-79E2-43B4-8CB9-7DA57166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C04-F258-4164-99E7-9015506D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79A-E62F-4096-B1BF-64AEBEA0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EB1-5D5E-4176-A583-0E9CB11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cdfb"/>
            </a:gs>
            <a:gs pos="100000">
              <a:srgbClr val="ffff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5571-7867-4E3C-9901-7889E2A619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ма 2.4. Социально-психологическая типология лич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7628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личные типологии личности в психологической нау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7628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арианты социально-психологической типолог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476280" algn="just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ип социально-психологически развитой лич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09480" y="1676520"/>
            <a:ext cx="77724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е: о типологиях личностей, их классификациях, и о типе социально-психологически развитой личности принятом в социальной псих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85800" y="4419720"/>
            <a:ext cx="7924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снин В.А. Социальная психология: учебник для спо / В.А. Соснин, Е.А. Красникова. - М.: ФОРУМ: ИНФРА-М.- 2009. - 336 с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 Крысько В.Г.    Социальная психология / В.Г. Крысько. - 2-е изд. - М. [и др.]: Питер.- 2010. - 431 с. - (Учебник для вуз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 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Майерс Д.    Социальная психология: пер. с англ. / Д. Майерс;  пер. З. Замчук. - 7-е изд. - М. [и др.] : Питер.- 2009. - 794 с.: ил. - (Мастера психологи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304920" y="152280"/>
            <a:ext cx="8582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2. Социальная психология личности.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3200400" y="228600"/>
            <a:ext cx="2743200" cy="52056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. Шпранг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4495680" y="8380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57200" y="1371600"/>
            <a:ext cx="8229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циально-психологическая типология личностей на основе ценностных ориент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23880" y="312408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лигиоз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905120" y="380988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105520" y="457200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стет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2438280" y="457200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коном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562720" y="380988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ци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019920" y="3124080"/>
            <a:ext cx="18288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лити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"/>
          <p:cNvSpPr/>
          <p:nvPr/>
        </p:nvSpPr>
        <p:spPr>
          <a:xfrm flipH="1">
            <a:off x="2743200" y="2209680"/>
            <a:ext cx="914400" cy="914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"/>
          <p:cNvSpPr/>
          <p:nvPr/>
        </p:nvSpPr>
        <p:spPr>
          <a:xfrm flipH="1">
            <a:off x="3505320" y="2209680"/>
            <a:ext cx="38088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"/>
          <p:cNvSpPr/>
          <p:nvPr/>
        </p:nvSpPr>
        <p:spPr>
          <a:xfrm flipH="1">
            <a:off x="3962160" y="2209680"/>
            <a:ext cx="533160" cy="2362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5791320" y="2209680"/>
            <a:ext cx="609480" cy="914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5486400" y="2209680"/>
            <a:ext cx="380880" cy="1600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4800600" y="2209680"/>
            <a:ext cx="609480" cy="23623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3581280" y="914400"/>
            <a:ext cx="236232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429000" y="4876920"/>
            <a:ext cx="26668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лен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2743200"/>
            <a:ext cx="220968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лен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2280" y="2819520"/>
            <a:ext cx="2438640" cy="459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2590920" y="28195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d8caf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6019920" y="28195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d8caf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4572000" y="38862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gradFill rotWithShape="0">
            <a:gsLst>
              <a:gs pos="0">
                <a:srgbClr val="d8caf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4572000" y="137160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gradFill rotWithShape="0">
            <a:gsLst>
              <a:gs pos="0">
                <a:srgbClr val="d8caf2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7"/>
          <p:cNvSpPr/>
          <p:nvPr/>
        </p:nvSpPr>
        <p:spPr>
          <a:xfrm>
            <a:off x="3429000" y="2209680"/>
            <a:ext cx="2590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29000" y="2743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BankGothic Md BT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3720" y="609480"/>
            <a:ext cx="5333760" cy="703800"/>
          </a:xfrm>
          <a:prstGeom prst="rect">
            <a:avLst/>
          </a:prstGeom>
          <a:gradFill rotWithShape="0">
            <a:gsLst>
              <a:gs pos="0">
                <a:srgbClr val="c1b6f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сторическое изменение социально-психологического типа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066680" y="1981080"/>
            <a:ext cx="2133720" cy="18176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. Гре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ически соверш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и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362320" y="5105520"/>
            <a:ext cx="1981080" cy="6314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поха Возрож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905120" y="4114800"/>
            <a:ext cx="1904760" cy="6314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. Р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лестный вой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6324480" y="1981080"/>
            <a:ext cx="2057400" cy="149328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редневеков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ир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ющий мисс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791320" y="4114800"/>
            <a:ext cx="1981080" cy="6314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бодного выб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257800" y="5105520"/>
            <a:ext cx="2590920" cy="631440"/>
          </a:xfrm>
          <a:prstGeom prst="rect">
            <a:avLst/>
          </a:prstGeom>
          <a:solidFill>
            <a:srgbClr val="d8ca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ллекту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AutoShape 24"/>
          <p:cNvCxnSpPr>
            <a:stCxn id="226" idx="2"/>
            <a:endCxn id="232" idx="1"/>
          </p:cNvCxnSpPr>
          <p:nvPr/>
        </p:nvCxnSpPr>
        <p:spPr>
          <a:xfrm flipH="1" rot="16200000">
            <a:off x="2979720" y="3144600"/>
            <a:ext cx="4099320" cy="45792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AutoShape 25"/>
          <p:cNvCxnSpPr>
            <a:stCxn id="226" idx="2"/>
            <a:endCxn id="228" idx="3"/>
          </p:cNvCxnSpPr>
          <p:nvPr/>
        </p:nvCxnSpPr>
        <p:spPr>
          <a:xfrm rot="5400000">
            <a:off x="2522160" y="3144960"/>
            <a:ext cx="4099320" cy="45792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26"/>
          <p:cNvCxnSpPr>
            <a:stCxn id="226" idx="2"/>
            <a:endCxn id="231" idx="1"/>
          </p:cNvCxnSpPr>
          <p:nvPr/>
        </p:nvCxnSpPr>
        <p:spPr>
          <a:xfrm flipH="1" rot="16200000">
            <a:off x="3741840" y="2382480"/>
            <a:ext cx="3108960" cy="99144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27"/>
          <p:cNvCxnSpPr>
            <a:stCxn id="226" idx="2"/>
            <a:endCxn id="229" idx="3"/>
          </p:cNvCxnSpPr>
          <p:nvPr/>
        </p:nvCxnSpPr>
        <p:spPr>
          <a:xfrm rot="5400000">
            <a:off x="2750400" y="2382840"/>
            <a:ext cx="3108960" cy="99144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28"/>
          <p:cNvCxnSpPr/>
          <p:nvPr/>
        </p:nvCxnSpPr>
        <p:spPr>
          <a:xfrm flipH="1" rot="16200000">
            <a:off x="4874040" y="1296720"/>
            <a:ext cx="1375560" cy="1524600"/>
          </a:xfrm>
          <a:prstGeom prst="bentConnector2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Line 30"/>
          <p:cNvSpPr/>
          <p:nvPr/>
        </p:nvSpPr>
        <p:spPr>
          <a:xfrm flipH="1">
            <a:off x="3200040" y="2743200"/>
            <a:ext cx="16002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2971800" y="380880"/>
            <a:ext cx="3124080" cy="70380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умный оптимисти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971800" y="1752480"/>
            <a:ext cx="3124080" cy="39888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шение к ми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971800" y="4572000"/>
            <a:ext cx="3124080" cy="39888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шение к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2971800" y="5715000"/>
            <a:ext cx="3124080" cy="398880"/>
          </a:xfrm>
          <a:prstGeom prst="rect">
            <a:avLst/>
          </a:prstGeom>
          <a:gradFill rotWithShape="0">
            <a:gsLst>
              <a:gs pos="0">
                <a:srgbClr val="dfd4f4"/>
              </a:gs>
              <a:gs pos="100000">
                <a:srgbClr val="ffffd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ловек духо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14"/>
          <p:cNvSpPr txBox="1"/>
          <p:nvPr/>
        </p:nvSpPr>
        <p:spPr>
          <a:xfrm>
            <a:off x="2286000" y="2895480"/>
            <a:ext cx="4572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mercialScript BT"/>
              </a:rPr>
              <a:t>Совершенный психологический </a:t>
            </a:r>
            <a:endParaRPr b="0" lang="en-US" sz="24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66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mercialScript BT"/>
              </a:rPr>
              <a:t>тип современной личности</a:t>
            </a:r>
            <a:endParaRPr b="0" lang="en-US" sz="2400" spc="1" strike="noStrike">
              <a:ln w="0">
                <a:noFill/>
              </a:ln>
              <a:solidFill>
                <a:srgbClr val="66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mercialScript BT"/>
              <a:ea typeface="CommercialScript BT"/>
            </a:endParaRPr>
          </a:p>
        </p:txBody>
      </p:sp>
      <p:sp>
        <p:nvSpPr>
          <p:cNvPr id="244" name="AutoShape 17"/>
          <p:cNvSpPr/>
          <p:nvPr/>
        </p:nvSpPr>
        <p:spPr>
          <a:xfrm>
            <a:off x="4267080" y="40384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>
            <a:off x="4267080" y="51055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0"/>
          <p:cNvSpPr/>
          <p:nvPr/>
        </p:nvSpPr>
        <p:spPr>
          <a:xfrm rot="10800000">
            <a:off x="4266720" y="220968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1"/>
          <p:cNvSpPr/>
          <p:nvPr/>
        </p:nvSpPr>
        <p:spPr>
          <a:xfrm rot="10800000">
            <a:off x="4266720" y="1219320"/>
            <a:ext cx="381240" cy="457200"/>
          </a:xfrm>
          <a:prstGeom prst="downArrow">
            <a:avLst>
              <a:gd name="adj1" fmla="val 50000"/>
              <a:gd name="adj2" fmla="val 29981"/>
            </a:avLst>
          </a:prstGeom>
          <a:solidFill>
            <a:srgbClr val="d0d0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2"/>
          <p:cNvSpPr/>
          <p:nvPr/>
        </p:nvSpPr>
        <p:spPr>
          <a:xfrm>
            <a:off x="2133720" y="2819520"/>
            <a:ext cx="4876560" cy="10666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590920" y="266688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вершенный социально-психологический тип современной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438280" y="2438280"/>
            <a:ext cx="396252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752480" y="1676520"/>
            <a:ext cx="54104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3124080" y="129528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ношение к циви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3352680" y="46483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ношение с об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838080" y="23623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 rot="16200000">
            <a:off x="379080" y="29689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ношение с людь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 rot="5400000">
            <a:off x="6552720" y="2970000"/>
            <a:ext cx="19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е с групп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1143000" y="1219320"/>
            <a:ext cx="678168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4191120" y="1676520"/>
            <a:ext cx="304560" cy="76176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2"/>
          <p:cNvSpPr/>
          <p:nvPr/>
        </p:nvSpPr>
        <p:spPr>
          <a:xfrm>
            <a:off x="4191120" y="38862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6400800" y="29718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1752480" y="29718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380880" y="29718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8"/>
          <p:cNvSpPr/>
          <p:nvPr/>
        </p:nvSpPr>
        <p:spPr>
          <a:xfrm>
            <a:off x="7924680" y="29718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4191120" y="502920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0"/>
          <p:cNvSpPr/>
          <p:nvPr/>
        </p:nvSpPr>
        <p:spPr>
          <a:xfrm>
            <a:off x="4191120" y="6094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380880" y="609480"/>
            <a:ext cx="8305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3429000" y="58672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три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3"/>
          <p:cNvSpPr/>
          <p:nvPr/>
        </p:nvSpPr>
        <p:spPr>
          <a:xfrm>
            <a:off x="3657600" y="3049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ова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4"/>
          <p:cNvSpPr/>
          <p:nvPr/>
        </p:nvSpPr>
        <p:spPr>
          <a:xfrm>
            <a:off x="380880" y="6095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5"/>
          <p:cNvSpPr/>
          <p:nvPr/>
        </p:nvSpPr>
        <p:spPr>
          <a:xfrm rot="16200000">
            <a:off x="-679320" y="308304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оммуника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6"/>
          <p:cNvSpPr/>
          <p:nvPr/>
        </p:nvSpPr>
        <p:spPr>
          <a:xfrm rot="5400000">
            <a:off x="7777440" y="3007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лида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5"/>
          <p:cNvSpPr/>
          <p:nvPr/>
        </p:nvSpPr>
        <p:spPr>
          <a:xfrm>
            <a:off x="914400" y="457200"/>
            <a:ext cx="7162920" cy="51814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99"/>
              </a:gs>
              <a:gs pos="100000">
                <a:srgbClr val="dfd4f4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809880" y="1523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Отношение к с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657600" y="2362320"/>
            <a:ext cx="1676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ладеющий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б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124080" y="304812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Отношение к трудно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276720" y="3886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д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895480" y="44197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Отношение к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895480" y="525780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ор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2743200" y="2971800"/>
            <a:ext cx="35053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1828800" y="4343400"/>
            <a:ext cx="53341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7"/>
          <p:cNvSpPr/>
          <p:nvPr/>
        </p:nvSpPr>
        <p:spPr>
          <a:xfrm>
            <a:off x="6019920" y="4495680"/>
            <a:ext cx="533160" cy="1067040"/>
          </a:xfrm>
          <a:custGeom>
            <a:avLst/>
            <a:gdLst>
              <a:gd name="textAreaLeft" fmla="*/ 71280 w 533160"/>
              <a:gd name="textAreaRight" fmla="*/ 461880 w 5331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2514600" y="44956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3048120" y="3124080"/>
            <a:ext cx="533160" cy="1067040"/>
          </a:xfrm>
          <a:custGeom>
            <a:avLst/>
            <a:gdLst>
              <a:gd name="textAreaLeft" fmla="*/ 71280 w 533160"/>
              <a:gd name="textAreaRight" fmla="*/ 461880 w 53316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5410080" y="31240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3429000" y="1828800"/>
            <a:ext cx="380880" cy="838080"/>
          </a:xfrm>
          <a:custGeom>
            <a:avLst/>
            <a:gdLst>
              <a:gd name="textAreaLeft" fmla="*/ 50760 w 380880"/>
              <a:gd name="textAreaRight" fmla="*/ 330120 w 3808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5181480" y="18288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2"/>
          <p:cNvSpPr/>
          <p:nvPr/>
        </p:nvSpPr>
        <p:spPr>
          <a:xfrm>
            <a:off x="2438280" y="152280"/>
            <a:ext cx="411480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6c7f1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51460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048120" y="106668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вершенный тип современной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200400" y="25146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533520" y="3048120"/>
            <a:ext cx="2743200" cy="3657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e3d8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5486400" y="3048120"/>
            <a:ext cx="3124080" cy="175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6c7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09480" y="3429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762120" y="30481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5486400" y="34290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5562720" y="30481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циально-психолог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609480" y="3429000"/>
            <a:ext cx="26672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. Ю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. Рот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. Шостр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. Айзе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еч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социометрическому стат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 коммуникатив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веденческим особенност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5562720" y="3657600"/>
            <a:ext cx="2971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. Ф. Лазур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. Фро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. Шпранг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4419720" y="167616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 flipH="1">
            <a:off x="2742840" y="2743200"/>
            <a:ext cx="30492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5943600" y="2743200"/>
            <a:ext cx="38088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2"/>
          <p:cNvSpPr/>
          <p:nvPr/>
        </p:nvSpPr>
        <p:spPr>
          <a:xfrm>
            <a:off x="4343400" y="8380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4"/>
          <p:cNvSpPr/>
          <p:nvPr/>
        </p:nvSpPr>
        <p:spPr>
          <a:xfrm>
            <a:off x="2438280" y="1905120"/>
            <a:ext cx="4114800" cy="990360"/>
          </a:xfrm>
          <a:prstGeom prst="ellipse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WordArt 25"/>
          <p:cNvSpPr txBox="1"/>
          <p:nvPr/>
        </p:nvSpPr>
        <p:spPr>
          <a:xfrm>
            <a:off x="2819520" y="2057400"/>
            <a:ext cx="3429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Unicode MS"/>
              </a:rPr>
              <a:t>Типология личносте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Unicode MS"/>
              <a:ea typeface="Arial Unicode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590200" y="609480"/>
            <a:ext cx="39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самоконтро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65040" y="1154160"/>
            <a:ext cx="851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характеризуйте основные типологии, базирующиеся на отдельных психолог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бенностях людей. Почему их, строго говоря, нельзя назвать социально-психологическим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йте характеристику типов личности по Д. Роттер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характеризуйте типологию личностей Э. Шостр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м рациональность классификации А. Ф. Лазурског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идеальные типы личности различных исторических эпо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2498760" y="33638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обсу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29480" y="3897360"/>
            <a:ext cx="801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м образом изменение  социометрической позиции человека в группе может вли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его социальную адаптацию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м позиция социометрической звезды отличается от лидер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индивид может иметь различные социометрические статусы в группах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9"/>
          <p:cNvSpPr/>
          <p:nvPr/>
        </p:nvSpPr>
        <p:spPr>
          <a:xfrm rot="10800000">
            <a:off x="1676520" y="4266720"/>
            <a:ext cx="5333760" cy="1295640"/>
          </a:xfrm>
          <a:prstGeom prst="pie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914400" y="152280"/>
            <a:ext cx="7391520" cy="91440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логия личностей по особенностям ориентировки и приспособления к ми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752480" y="3048120"/>
            <a:ext cx="1447920" cy="45720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страв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638680" y="30481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ов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895480" y="4495680"/>
            <a:ext cx="2855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ый - иррацион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тельный – эмоцион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ающий - интуи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22860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228600" y="2836800"/>
            <a:ext cx="91440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3657600" y="13716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К.Ю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4267080" y="1066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 rot="3600000">
            <a:off x="3087360" y="1979640"/>
            <a:ext cx="304920" cy="1066680"/>
          </a:xfrm>
          <a:prstGeom prst="downArrow">
            <a:avLst>
              <a:gd name="adj1" fmla="val 50000"/>
              <a:gd name="adj2" fmla="val 87456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 rot="18000000">
            <a:off x="5372280" y="201888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4267080" y="243828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3809880" y="1600200"/>
            <a:ext cx="1219320" cy="762120"/>
          </a:xfrm>
          <a:prstGeom prst="ellipse">
            <a:avLst/>
          </a:prstGeom>
          <a:noFill/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9"/>
          <p:cNvSpPr/>
          <p:nvPr/>
        </p:nvSpPr>
        <p:spPr>
          <a:xfrm>
            <a:off x="1600200" y="304920"/>
            <a:ext cx="5638680" cy="76176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Типология личностей на основе специфики самоконтроля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4495680" y="1066680"/>
            <a:ext cx="0" cy="1908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3733920" y="121932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Рот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2362320" y="1828800"/>
            <a:ext cx="2133360" cy="76212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Экстернальный локус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«Экстерна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4876920" y="1828800"/>
            <a:ext cx="1981080" cy="76212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альный локус контр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нтерна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1981080" y="2971800"/>
            <a:ext cx="4876920" cy="60948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dfd4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логия личностей на осно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 людей друг на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4419720" y="3581280"/>
            <a:ext cx="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429000" y="38098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Шос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2209680" y="4419720"/>
            <a:ext cx="2057400" cy="228600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п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икт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ряп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лькуля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лип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улиг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лавный па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д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щит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5105520" y="4419720"/>
            <a:ext cx="1676160" cy="34272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1600200" y="6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37"/>
          <p:cNvCxnSpPr>
            <a:stCxn id="61" idx="2"/>
            <a:endCxn id="62" idx="0"/>
          </p:cNvCxnSpPr>
          <p:nvPr/>
        </p:nvCxnSpPr>
        <p:spPr>
          <a:xfrm flipH="1">
            <a:off x="3428640" y="1523520"/>
            <a:ext cx="99144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38"/>
          <p:cNvCxnSpPr>
            <a:stCxn id="61" idx="2"/>
            <a:endCxn id="63" idx="0"/>
          </p:cNvCxnSpPr>
          <p:nvPr/>
        </p:nvCxnSpPr>
        <p:spPr>
          <a:xfrm>
            <a:off x="4419360" y="1523520"/>
            <a:ext cx="144828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39"/>
          <p:cNvCxnSpPr>
            <a:stCxn id="66" idx="2"/>
            <a:endCxn id="67" idx="0"/>
          </p:cNvCxnSpPr>
          <p:nvPr/>
        </p:nvCxnSpPr>
        <p:spPr>
          <a:xfrm flipH="1">
            <a:off x="3237840" y="4190760"/>
            <a:ext cx="114372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40"/>
          <p:cNvCxnSpPr>
            <a:stCxn id="66" idx="2"/>
            <a:endCxn id="68" idx="0"/>
          </p:cNvCxnSpPr>
          <p:nvPr/>
        </p:nvCxnSpPr>
        <p:spPr>
          <a:xfrm>
            <a:off x="4381200" y="4190760"/>
            <a:ext cx="156276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1828800" y="228600"/>
            <a:ext cx="5486400" cy="533520"/>
          </a:xfrm>
          <a:prstGeom prst="rect">
            <a:avLst/>
          </a:prstGeom>
          <a:gradFill rotWithShape="0">
            <a:gsLst>
              <a:gs pos="0">
                <a:srgbClr val="dfd4f4"/>
              </a:gs>
              <a:gs pos="100000">
                <a:srgbClr val="ffffd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категории людей, описанные Г.Айзенком на основе выраженности двух независимых параме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1828800" y="1143000"/>
            <a:ext cx="5486040" cy="5333760"/>
            <a:chOff x="1828800" y="1143000"/>
            <a:chExt cx="5486040" cy="5333760"/>
          </a:xfrm>
        </p:grpSpPr>
        <p:grpSp>
          <p:nvGrpSpPr>
            <p:cNvPr id="76" name="Group 28"/>
            <p:cNvGrpSpPr/>
            <p:nvPr/>
          </p:nvGrpSpPr>
          <p:grpSpPr>
            <a:xfrm>
              <a:off x="1832040" y="1146600"/>
              <a:ext cx="5478840" cy="5325480"/>
              <a:chOff x="1832040" y="1146600"/>
              <a:chExt cx="5478840" cy="5325480"/>
            </a:xfrm>
          </p:grpSpPr>
          <p:grpSp>
            <p:nvGrpSpPr>
              <p:cNvPr id="77" name="Group 13"/>
              <p:cNvGrpSpPr/>
              <p:nvPr/>
            </p:nvGrpSpPr>
            <p:grpSpPr>
              <a:xfrm>
                <a:off x="1832040" y="1146600"/>
                <a:ext cx="555840" cy="3132720"/>
                <a:chOff x="1832040" y="1146600"/>
                <a:chExt cx="555840" cy="3132720"/>
              </a:xfrm>
            </p:grpSpPr>
            <p:sp>
              <p:nvSpPr>
                <p:cNvPr id="78" name="Rectangle 4"/>
                <p:cNvSpPr/>
                <p:nvPr/>
              </p:nvSpPr>
              <p:spPr>
                <a:xfrm>
                  <a:off x="1901160" y="1146600"/>
                  <a:ext cx="417600" cy="313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12"/>
                <p:cNvSpPr/>
                <p:nvPr/>
              </p:nvSpPr>
              <p:spPr>
                <a:xfrm>
                  <a:off x="1832040" y="1146600"/>
                  <a:ext cx="555840" cy="313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Group 15"/>
              <p:cNvGrpSpPr/>
              <p:nvPr/>
            </p:nvGrpSpPr>
            <p:grpSpPr>
              <a:xfrm>
                <a:off x="2388240" y="1146600"/>
                <a:ext cx="2112480" cy="731160"/>
                <a:chOff x="2388240" y="1146600"/>
                <a:chExt cx="2112480" cy="731160"/>
              </a:xfrm>
            </p:grpSpPr>
            <p:sp>
              <p:nvSpPr>
                <p:cNvPr id="81" name="Rectangle 5"/>
                <p:cNvSpPr/>
                <p:nvPr/>
              </p:nvSpPr>
              <p:spPr>
                <a:xfrm>
                  <a:off x="2457720" y="1146600"/>
                  <a:ext cx="1973520" cy="73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Стабильны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14"/>
                <p:cNvSpPr/>
                <p:nvPr/>
              </p:nvSpPr>
              <p:spPr>
                <a:xfrm>
                  <a:off x="2388240" y="1146600"/>
                  <a:ext cx="2112480" cy="73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17"/>
              <p:cNvGrpSpPr/>
              <p:nvPr/>
            </p:nvGrpSpPr>
            <p:grpSpPr>
              <a:xfrm>
                <a:off x="4501440" y="1146600"/>
                <a:ext cx="2809440" cy="731160"/>
                <a:chOff x="4501440" y="1146600"/>
                <a:chExt cx="2809440" cy="731160"/>
              </a:xfrm>
            </p:grpSpPr>
            <p:sp>
              <p:nvSpPr>
                <p:cNvPr id="84" name="Rectangle 6"/>
                <p:cNvSpPr/>
                <p:nvPr/>
              </p:nvSpPr>
              <p:spPr>
                <a:xfrm>
                  <a:off x="4570920" y="1146600"/>
                  <a:ext cx="2670480" cy="73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евротичный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16"/>
                <p:cNvSpPr/>
                <p:nvPr/>
              </p:nvSpPr>
              <p:spPr>
                <a:xfrm>
                  <a:off x="4501440" y="1146600"/>
                  <a:ext cx="2809440" cy="73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19"/>
              <p:cNvGrpSpPr/>
              <p:nvPr/>
            </p:nvGrpSpPr>
            <p:grpSpPr>
              <a:xfrm>
                <a:off x="2388240" y="1878120"/>
                <a:ext cx="2112480" cy="2401200"/>
                <a:chOff x="2388240" y="1878120"/>
                <a:chExt cx="2112480" cy="2401200"/>
              </a:xfrm>
            </p:grpSpPr>
            <p:sp>
              <p:nvSpPr>
                <p:cNvPr id="87" name="Rectangle 7"/>
                <p:cNvSpPr/>
                <p:nvPr/>
              </p:nvSpPr>
              <p:spPr>
                <a:xfrm>
                  <a:off x="2457720" y="1878120"/>
                  <a:ext cx="1973520" cy="24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кой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у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авновешен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н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еж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нтролируем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м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ролюбив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иматель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з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ботлив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п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ссивный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18"/>
                <p:cNvSpPr/>
                <p:nvPr/>
              </p:nvSpPr>
              <p:spPr>
                <a:xfrm>
                  <a:off x="2388240" y="1878120"/>
                  <a:ext cx="2112480" cy="24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21"/>
              <p:cNvGrpSpPr/>
              <p:nvPr/>
            </p:nvGrpSpPr>
            <p:grpSpPr>
              <a:xfrm>
                <a:off x="4501440" y="1878120"/>
                <a:ext cx="2809440" cy="2401200"/>
                <a:chOff x="4501440" y="1878120"/>
                <a:chExt cx="2809440" cy="2401200"/>
              </a:xfrm>
            </p:grpSpPr>
            <p:sp>
              <p:nvSpPr>
                <p:cNvPr id="90" name="Rectangle 8"/>
                <p:cNvSpPr/>
                <p:nvPr/>
              </p:nvSpPr>
              <p:spPr>
                <a:xfrm>
                  <a:off x="4570920" y="1878120"/>
                  <a:ext cx="2670480" cy="240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егко поддающийся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еременам настроения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евож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р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гид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р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ссудитель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п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ссимистич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з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мкнут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н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общитель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т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хий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20"/>
                <p:cNvSpPr/>
                <p:nvPr/>
              </p:nvSpPr>
              <p:spPr>
                <a:xfrm>
                  <a:off x="4501440" y="1878120"/>
                  <a:ext cx="2809440" cy="2401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Group 23"/>
              <p:cNvGrpSpPr/>
              <p:nvPr/>
            </p:nvGrpSpPr>
            <p:grpSpPr>
              <a:xfrm>
                <a:off x="1832040" y="4279680"/>
                <a:ext cx="555840" cy="2192400"/>
                <a:chOff x="1832040" y="4279680"/>
                <a:chExt cx="555840" cy="2192400"/>
              </a:xfrm>
            </p:grpSpPr>
            <p:sp>
              <p:nvSpPr>
                <p:cNvPr id="93" name="Rectangle 9"/>
                <p:cNvSpPr/>
                <p:nvPr/>
              </p:nvSpPr>
              <p:spPr>
                <a:xfrm>
                  <a:off x="1901160" y="4279680"/>
                  <a:ext cx="417600" cy="21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Э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2"/>
                <p:cNvSpPr/>
                <p:nvPr/>
              </p:nvSpPr>
              <p:spPr>
                <a:xfrm>
                  <a:off x="1832040" y="4279680"/>
                  <a:ext cx="555840" cy="21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5"/>
              <p:cNvGrpSpPr/>
              <p:nvPr/>
            </p:nvGrpSpPr>
            <p:grpSpPr>
              <a:xfrm>
                <a:off x="2388240" y="4279680"/>
                <a:ext cx="2112480" cy="2192400"/>
                <a:chOff x="2388240" y="4279680"/>
                <a:chExt cx="2112480" cy="2192400"/>
              </a:xfrm>
            </p:grpSpPr>
            <p:sp>
              <p:nvSpPr>
                <p:cNvPr id="96" name="Rectangle 10"/>
                <p:cNvSpPr/>
                <p:nvPr/>
              </p:nvSpPr>
              <p:spPr>
                <a:xfrm>
                  <a:off x="2457720" y="4279680"/>
                  <a:ext cx="1973520" cy="21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идер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ззабот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сел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п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кладист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о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зывчив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р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зговорчив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д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ужелюб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о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щительный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24"/>
                <p:cNvSpPr/>
                <p:nvPr/>
              </p:nvSpPr>
              <p:spPr>
                <a:xfrm>
                  <a:off x="2388240" y="4279680"/>
                  <a:ext cx="2112480" cy="21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27"/>
              <p:cNvGrpSpPr/>
              <p:nvPr/>
            </p:nvGrpSpPr>
            <p:grpSpPr>
              <a:xfrm>
                <a:off x="4501440" y="4279680"/>
                <a:ext cx="2809440" cy="2192400"/>
                <a:chOff x="4501440" y="4279680"/>
                <a:chExt cx="2809440" cy="2192400"/>
              </a:xfrm>
            </p:grpSpPr>
            <p:sp>
              <p:nvSpPr>
                <p:cNvPr id="99" name="Rectangle 11"/>
                <p:cNvSpPr/>
                <p:nvPr/>
              </p:nvSpPr>
              <p:spPr>
                <a:xfrm>
                  <a:off x="4570920" y="4279680"/>
                  <a:ext cx="2670480" cy="21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Раним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спокой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рессив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озбудим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н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епостоян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пульсив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о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тимистичный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тивный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26"/>
                <p:cNvSpPr/>
                <p:nvPr/>
              </p:nvSpPr>
              <p:spPr>
                <a:xfrm>
                  <a:off x="4501440" y="4279680"/>
                  <a:ext cx="2809440" cy="21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Rectangle 29"/>
            <p:cNvSpPr/>
            <p:nvPr/>
          </p:nvSpPr>
          <p:spPr>
            <a:xfrm>
              <a:off x="1828800" y="1143000"/>
              <a:ext cx="5486040" cy="533376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31"/>
          <p:cNvSpPr/>
          <p:nvPr/>
        </p:nvSpPr>
        <p:spPr>
          <a:xfrm>
            <a:off x="1440" y="57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3"/>
          <p:cNvSpPr/>
          <p:nvPr/>
        </p:nvSpPr>
        <p:spPr>
          <a:xfrm>
            <a:off x="0" y="2286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5"/>
          <p:cNvSpPr/>
          <p:nvPr/>
        </p:nvSpPr>
        <p:spPr>
          <a:xfrm>
            <a:off x="4343400" y="76212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447920" y="228600"/>
            <a:ext cx="6324480" cy="685800"/>
          </a:xfrm>
          <a:prstGeom prst="rect">
            <a:avLst/>
          </a:prstGeom>
          <a:gradFill rotWithShape="0">
            <a:gsLst>
              <a:gs pos="0">
                <a:srgbClr val="dfd4f4"/>
              </a:gs>
              <a:gs pos="100000">
                <a:srgbClr val="ffffd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ы личностей, выделяемые на основе взаимосвязи между телосложением и характеро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410080" y="1219320"/>
            <a:ext cx="2438640" cy="838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телосложения на характер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715000" y="2362320"/>
            <a:ext cx="18288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5000" y="327672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е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715000" y="4267080"/>
            <a:ext cx="1828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219320" y="1219320"/>
            <a:ext cx="2743200" cy="68580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 и отношения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19320" y="2209680"/>
            <a:ext cx="2743200" cy="52020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отношению к окружающему ми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219320" y="2743200"/>
            <a:ext cx="274320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бежд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спринцип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219320" y="3581280"/>
            <a:ext cx="27432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отношению к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219320" y="3886200"/>
            <a:ext cx="274320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я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ездея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1219320" y="4648320"/>
            <a:ext cx="27432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отношению к люд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1219320" y="4952880"/>
            <a:ext cx="274320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мкну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219320" y="5791320"/>
            <a:ext cx="274320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 отношению к самому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219320" y="6095880"/>
            <a:ext cx="274320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льтру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го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6"/>
          <p:cNvCxnSpPr>
            <a:stCxn id="105" idx="2"/>
            <a:endCxn id="110" idx="0"/>
          </p:cNvCxnSpPr>
          <p:nvPr/>
        </p:nvCxnSpPr>
        <p:spPr>
          <a:xfrm flipH="1">
            <a:off x="2590200" y="914040"/>
            <a:ext cx="201996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AutoShape 17"/>
          <p:cNvCxnSpPr>
            <a:stCxn id="105" idx="2"/>
            <a:endCxn id="106" idx="0"/>
          </p:cNvCxnSpPr>
          <p:nvPr/>
        </p:nvCxnSpPr>
        <p:spPr>
          <a:xfrm>
            <a:off x="4609800" y="914040"/>
            <a:ext cx="201996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AutoShape 18"/>
          <p:cNvCxnSpPr>
            <a:stCxn id="106" idx="2"/>
            <a:endCxn id="107" idx="0"/>
          </p:cNvCxnSpPr>
          <p:nvPr/>
        </p:nvCxnSpPr>
        <p:spPr>
          <a:xfrm>
            <a:off x="6629040" y="2057040"/>
            <a:ext cx="1080" cy="3056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2" name="AutoShape 19"/>
          <p:cNvCxnSpPr>
            <a:stCxn id="107" idx="2"/>
            <a:endCxn id="108" idx="0"/>
          </p:cNvCxnSpPr>
          <p:nvPr/>
        </p:nvCxnSpPr>
        <p:spPr>
          <a:xfrm>
            <a:off x="6629040" y="2895120"/>
            <a:ext cx="1080" cy="3819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3" name="AutoShape 20"/>
          <p:cNvCxnSpPr>
            <a:stCxn id="108" idx="2"/>
            <a:endCxn id="109" idx="0"/>
          </p:cNvCxnSpPr>
          <p:nvPr/>
        </p:nvCxnSpPr>
        <p:spPr>
          <a:xfrm>
            <a:off x="6629040" y="3886200"/>
            <a:ext cx="1080" cy="3816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4" name="AutoShape 21"/>
          <p:cNvCxnSpPr>
            <a:stCxn id="110" idx="2"/>
            <a:endCxn id="111" idx="0"/>
          </p:cNvCxnSpPr>
          <p:nvPr/>
        </p:nvCxnSpPr>
        <p:spPr>
          <a:xfrm>
            <a:off x="2590560" y="1905120"/>
            <a:ext cx="1080" cy="30528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5" name="AutoShape 22"/>
          <p:cNvCxnSpPr>
            <a:stCxn id="112" idx="2"/>
            <a:endCxn id="113" idx="0"/>
          </p:cNvCxnSpPr>
          <p:nvPr/>
        </p:nvCxnSpPr>
        <p:spPr>
          <a:xfrm>
            <a:off x="2590560" y="3376080"/>
            <a:ext cx="1080" cy="205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6" name="AutoShape 23"/>
          <p:cNvCxnSpPr>
            <a:stCxn id="114" idx="2"/>
            <a:endCxn id="115" idx="0"/>
          </p:cNvCxnSpPr>
          <p:nvPr/>
        </p:nvCxnSpPr>
        <p:spPr>
          <a:xfrm>
            <a:off x="2590560" y="4519440"/>
            <a:ext cx="1080" cy="12924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27" name="AutoShape 24"/>
          <p:cNvCxnSpPr>
            <a:stCxn id="116" idx="2"/>
            <a:endCxn id="117" idx="0"/>
          </p:cNvCxnSpPr>
          <p:nvPr/>
        </p:nvCxnSpPr>
        <p:spPr>
          <a:xfrm>
            <a:off x="2590560" y="5586120"/>
            <a:ext cx="1080" cy="2055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6"/>
          <p:cNvSpPr/>
          <p:nvPr/>
        </p:nvSpPr>
        <p:spPr>
          <a:xfrm>
            <a:off x="1219320" y="380880"/>
            <a:ext cx="6629400" cy="457200"/>
          </a:xfrm>
          <a:prstGeom prst="rect">
            <a:avLst/>
          </a:prstGeom>
          <a:gradFill rotWithShape="0">
            <a:gsLst>
              <a:gs pos="0">
                <a:srgbClr val="ffffd3"/>
              </a:gs>
              <a:gs pos="100000">
                <a:srgbClr val="c8b4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е особенност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190512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атив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5410080" y="12952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Педантич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1905120" y="19810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Застревающ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5410080" y="19810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Возбудим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1905120" y="26668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Интравертив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410080" y="26668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Гипертимически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1905120" y="3352680"/>
            <a:ext cx="18288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Тревожно – боязлив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410080" y="3352680"/>
            <a:ext cx="16765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Циклотимически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905120" y="4114800"/>
            <a:ext cx="1828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Аффективно – экзальтирован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410080" y="4114800"/>
            <a:ext cx="16765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Эмотивный т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3352680" y="5410080"/>
            <a:ext cx="24004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ческие особенности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0" y="66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AutoShape 42"/>
          <p:cNvCxnSpPr>
            <a:stCxn id="139" idx="0"/>
            <a:endCxn id="138" idx="2"/>
          </p:cNvCxnSpPr>
          <p:nvPr/>
        </p:nvCxnSpPr>
        <p:spPr>
          <a:xfrm flipV="1">
            <a:off x="4552920" y="4686120"/>
            <a:ext cx="1696320" cy="724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2" name="AutoShape 43"/>
          <p:cNvCxnSpPr>
            <a:stCxn id="139" idx="0"/>
            <a:endCxn id="137" idx="2"/>
          </p:cNvCxnSpPr>
          <p:nvPr/>
        </p:nvCxnSpPr>
        <p:spPr>
          <a:xfrm flipH="1" flipV="1">
            <a:off x="2818800" y="4723560"/>
            <a:ext cx="1734120" cy="6865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3" name="AutoShape 46"/>
          <p:cNvCxnSpPr>
            <a:stCxn id="137" idx="3"/>
            <a:endCxn id="138" idx="1"/>
          </p:cNvCxnSpPr>
          <p:nvPr/>
        </p:nvCxnSpPr>
        <p:spPr>
          <a:xfrm flipV="1">
            <a:off x="3733920" y="4399920"/>
            <a:ext cx="1676880" cy="1980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4" name="AutoShape 47"/>
          <p:cNvCxnSpPr>
            <a:stCxn id="137" idx="0"/>
            <a:endCxn id="135" idx="2"/>
          </p:cNvCxnSpPr>
          <p:nvPr/>
        </p:nvCxnSpPr>
        <p:spPr>
          <a:xfrm flipV="1">
            <a:off x="2819160" y="3923640"/>
            <a:ext cx="1080" cy="1911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5" name="AutoShape 48"/>
          <p:cNvCxnSpPr>
            <a:stCxn id="135" idx="0"/>
            <a:endCxn id="133" idx="2"/>
          </p:cNvCxnSpPr>
          <p:nvPr/>
        </p:nvCxnSpPr>
        <p:spPr>
          <a:xfrm flipV="1">
            <a:off x="2819160" y="31233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6" name="AutoShape 49"/>
          <p:cNvCxnSpPr>
            <a:stCxn id="133" idx="0"/>
            <a:endCxn id="131" idx="2"/>
          </p:cNvCxnSpPr>
          <p:nvPr/>
        </p:nvCxnSpPr>
        <p:spPr>
          <a:xfrm flipV="1">
            <a:off x="2819160" y="24375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7" name="AutoShape 50"/>
          <p:cNvCxnSpPr>
            <a:stCxn id="131" idx="0"/>
            <a:endCxn id="129" idx="2"/>
          </p:cNvCxnSpPr>
          <p:nvPr/>
        </p:nvCxnSpPr>
        <p:spPr>
          <a:xfrm flipV="1">
            <a:off x="2819160" y="17517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8" name="AutoShape 51"/>
          <p:cNvCxnSpPr>
            <a:stCxn id="138" idx="0"/>
            <a:endCxn id="136" idx="2"/>
          </p:cNvCxnSpPr>
          <p:nvPr/>
        </p:nvCxnSpPr>
        <p:spPr>
          <a:xfrm flipV="1">
            <a:off x="6248160" y="3923640"/>
            <a:ext cx="1080" cy="19116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49" name="AutoShape 52"/>
          <p:cNvCxnSpPr>
            <a:stCxn id="136" idx="0"/>
            <a:endCxn id="134" idx="2"/>
          </p:cNvCxnSpPr>
          <p:nvPr/>
        </p:nvCxnSpPr>
        <p:spPr>
          <a:xfrm flipV="1">
            <a:off x="6248160" y="31233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50" name="AutoShape 53"/>
          <p:cNvCxnSpPr>
            <a:stCxn id="134" idx="0"/>
            <a:endCxn id="132" idx="2"/>
          </p:cNvCxnSpPr>
          <p:nvPr/>
        </p:nvCxnSpPr>
        <p:spPr>
          <a:xfrm flipV="1">
            <a:off x="6248160" y="2437560"/>
            <a:ext cx="1080" cy="2293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51" name="AutoShape 54"/>
          <p:cNvCxnSpPr>
            <a:stCxn id="132" idx="0"/>
            <a:endCxn id="130" idx="2"/>
          </p:cNvCxnSpPr>
          <p:nvPr/>
        </p:nvCxnSpPr>
        <p:spPr>
          <a:xfrm flipV="1">
            <a:off x="6248160" y="17517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" name="AutoShape 58"/>
          <p:cNvCxnSpPr>
            <a:stCxn id="129" idx="0"/>
            <a:endCxn id="128" idx="2"/>
          </p:cNvCxnSpPr>
          <p:nvPr/>
        </p:nvCxnSpPr>
        <p:spPr>
          <a:xfrm flipV="1">
            <a:off x="2819520" y="837720"/>
            <a:ext cx="171504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  <p:cxnSp>
        <p:nvCxnSpPr>
          <p:cNvPr id="153" name="AutoShape 59"/>
          <p:cNvCxnSpPr>
            <a:stCxn id="130" idx="0"/>
            <a:endCxn id="128" idx="2"/>
          </p:cNvCxnSpPr>
          <p:nvPr/>
        </p:nvCxnSpPr>
        <p:spPr>
          <a:xfrm flipH="1" flipV="1">
            <a:off x="4533120" y="837720"/>
            <a:ext cx="1715400" cy="457920"/>
          </a:xfrm>
          <a:prstGeom prst="straightConnector1">
            <a:avLst/>
          </a:prstGeom>
          <a:ln w="1584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8"/>
          <p:cNvSpPr/>
          <p:nvPr/>
        </p:nvSpPr>
        <p:spPr>
          <a:xfrm>
            <a:off x="457200" y="609480"/>
            <a:ext cx="3657600" cy="1371600"/>
          </a:xfrm>
          <a:prstGeom prst="rect">
            <a:avLst/>
          </a:prstGeom>
          <a:solidFill>
            <a:srgbClr val="ffffd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Типология личности по преобладающе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4572000" y="609480"/>
            <a:ext cx="3886200" cy="1371600"/>
          </a:xfrm>
          <a:prstGeom prst="rect">
            <a:avLst/>
          </a:prstGeom>
          <a:solidFill>
            <a:srgbClr val="ffffd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33"/>
                </a:solidFill>
                <a:latin typeface="Arial"/>
                <a:ea typeface="Arial"/>
              </a:rPr>
              <a:t>Типология личностей по социометрическому статусу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09480" y="304812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905120" y="38098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 де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2743200" y="4876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а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105520" y="3581280"/>
            <a:ext cx="2971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Зв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Предпочтим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Ведом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Пренебрегаем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Изолированн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«Отвергаемы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28600" y="21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9"/>
          <p:cNvSpPr/>
          <p:nvPr/>
        </p:nvSpPr>
        <p:spPr>
          <a:xfrm>
            <a:off x="914400" y="21337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0"/>
          <p:cNvSpPr/>
          <p:nvPr/>
        </p:nvSpPr>
        <p:spPr>
          <a:xfrm>
            <a:off x="2209680" y="2133720"/>
            <a:ext cx="457200" cy="1447560"/>
          </a:xfrm>
          <a:prstGeom prst="downArrow">
            <a:avLst>
              <a:gd name="adj1" fmla="val 50000"/>
              <a:gd name="adj2" fmla="val 791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1"/>
          <p:cNvSpPr/>
          <p:nvPr/>
        </p:nvSpPr>
        <p:spPr>
          <a:xfrm>
            <a:off x="3352680" y="2133720"/>
            <a:ext cx="457200" cy="2438280"/>
          </a:xfrm>
          <a:prstGeom prst="downArrow">
            <a:avLst>
              <a:gd name="adj1" fmla="val 50000"/>
              <a:gd name="adj2" fmla="val 13332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6248520" y="21337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685800" y="304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 – психологическая типология в зависимости от приспособления к среде и развития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733920" y="2057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657600" y="20574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352680" y="16765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Unicode MS"/>
              </a:rPr>
              <a:t>А. Ф. Лазу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762120" y="2438280"/>
            <a:ext cx="21333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изки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609480" y="2895480"/>
            <a:ext cx="2438640" cy="290196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Рассудо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Аффективн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одвиж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чув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чт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Активны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пульсивно-энерги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орно-дея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ям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3581280" y="2438280"/>
            <a:ext cx="2286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редни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3429000" y="2895480"/>
            <a:ext cx="2590920" cy="387504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Непрактичные теорет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уче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худож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религиозные дея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Практичные реалис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льтруис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бществен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власт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хозяйств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477120" y="2438280"/>
            <a:ext cx="19047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сши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324480" y="32767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6400800" y="2895480"/>
            <a:ext cx="2209680" cy="73332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юди с высшими человеческими идеа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4572000" y="11430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6"/>
          <p:cNvSpPr/>
          <p:nvPr/>
        </p:nvSpPr>
        <p:spPr>
          <a:xfrm rot="3600000">
            <a:off x="3238200" y="19432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7"/>
          <p:cNvSpPr/>
          <p:nvPr/>
        </p:nvSpPr>
        <p:spPr>
          <a:xfrm rot="18000000">
            <a:off x="5936760" y="19216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8"/>
          <p:cNvSpPr/>
          <p:nvPr/>
        </p:nvSpPr>
        <p:spPr>
          <a:xfrm>
            <a:off x="4572000" y="20574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895480" y="914400"/>
            <a:ext cx="3429000" cy="52056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рих Фро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4419720" y="1523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d8ca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057400" y="2133720"/>
            <a:ext cx="49528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ие типы по доминирующим установкам в социальной сре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6"/>
          <p:cNvCxnSpPr/>
          <p:nvPr/>
        </p:nvCxnSpPr>
        <p:spPr>
          <a:xfrm>
            <a:off x="7009920" y="251424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AutoShape 7"/>
          <p:cNvCxnSpPr>
            <a:endCxn id="186" idx="0"/>
          </p:cNvCxnSpPr>
          <p:nvPr/>
        </p:nvCxnSpPr>
        <p:spPr>
          <a:xfrm>
            <a:off x="1447560" y="251424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Text Box 8"/>
          <p:cNvSpPr/>
          <p:nvPr/>
        </p:nvSpPr>
        <p:spPr>
          <a:xfrm>
            <a:off x="3657600" y="304812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Рецеп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657600" y="358128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Эксплуатир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657600" y="403848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Накаплив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657600" y="449568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Рыноч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3657600" y="4952880"/>
            <a:ext cx="1752480" cy="307080"/>
          </a:xfrm>
          <a:prstGeom prst="rect">
            <a:avLst/>
          </a:prstGeom>
          <a:solidFill>
            <a:srgbClr val="ffff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Продук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AutoShape 13"/>
          <p:cNvCxnSpPr>
            <a:endCxn id="193" idx="0"/>
          </p:cNvCxnSpPr>
          <p:nvPr/>
        </p:nvCxnSpPr>
        <p:spPr>
          <a:xfrm>
            <a:off x="7391160" y="2514240"/>
            <a:ext cx="1080" cy="259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4" name="Line 14"/>
          <p:cNvSpPr/>
          <p:nvPr/>
        </p:nvSpPr>
        <p:spPr>
          <a:xfrm>
            <a:off x="1447920" y="5105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 flipH="1">
            <a:off x="5410080" y="5105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 flipH="1">
            <a:off x="5410080" y="4648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1447920" y="4191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 flipH="1">
            <a:off x="5410080" y="3733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9"/>
          <p:cNvSpPr/>
          <p:nvPr/>
        </p:nvSpPr>
        <p:spPr>
          <a:xfrm>
            <a:off x="1447920" y="3200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0"/>
          <p:cNvSpPr/>
          <p:nvPr/>
        </p:nvSpPr>
        <p:spPr>
          <a:xfrm>
            <a:off x="144792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40:43Z</dcterms:modified>
  <cp:revision>19</cp:revision>
  <dc:subject/>
  <dc:title>PowerPoint Presentation</dc:title>
</cp:coreProperties>
</file>