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D23-7F66-4781-A0CC-65C4FA0C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F5C-EBB1-4E08-B8C3-EDF7462A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787-EEFB-42CC-8060-2C7E4E93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FEF-F665-4673-957E-BD966FD1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45B-206B-4461-A63B-73B59C1A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2E8-7711-4AA9-91DB-0A8687B7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9FE-BDE4-4FD1-B09E-DE65CC40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71C-1F0E-4237-98ED-0E2CF3C6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FD2-1DF2-41A5-8D04-32DA157C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ED61-D022-454D-961C-E4A5180F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D71-9B6A-4796-A037-15BE971F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E8A8-C5D7-4521-8D7A-94CA3A48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9ef0"/>
            </a:gs>
            <a:gs pos="50000">
              <a:srgbClr val="e6ffa1"/>
            </a:gs>
            <a:gs pos="100000">
              <a:srgbClr val="5a9ef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0E70-7FE0-4F77-961D-851971B895DB}" type="slidenum">
              <a:rPr b="0" lang="ru-RU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228600"/>
            <a:ext cx="7467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5. Социальная психология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и профессиональная деятельность.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6360" y="1574640"/>
            <a:ext cx="847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3634"/>
                </a:solidFill>
                <a:latin typeface="Times New Roman"/>
              </a:rPr>
              <a:t>Тема 5.1. Социально – психологические особенности </a:t>
            </a:r>
            <a:endParaRPr b="0" lang="en-US" sz="22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63634"/>
                </a:solidFill>
                <a:latin typeface="Times New Roman"/>
              </a:rPr>
              <a:t>управленческой, предпринимательской и торговой деятельности</a:t>
            </a:r>
            <a:r>
              <a:rPr b="1" i="1" lang="ru-RU" sz="20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47680" y="2309760"/>
            <a:ext cx="8606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В результате изучения темы вы будете понимать в чем состоит сущность управления, его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социальные и человеческие задачи, находить пути повышения эффективности управления;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специфику предпринимательской и торговой деятельности, их зависимость от учета социально –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психологических факторов, связанных с особенностями этих видов деятельности.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28600" y="3429000"/>
            <a:ext cx="68119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В теме будут рассмотрены вопросы: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онятие  деятельности в психологической науке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Управление как системная социальная категория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редпринимательская деятельность и социальная психология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Социальная психология в торговле и маркетинге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96920" y="4952880"/>
            <a:ext cx="86612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3634"/>
                </a:solidFill>
                <a:latin typeface="Times New Roman"/>
              </a:rPr>
              <a:t>Основная литература: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3634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3634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3634"/>
                </a:solidFill>
                <a:latin typeface="Times New Roman"/>
              </a:rPr>
              <a:t>Дополнительная литература: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3634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3634"/>
                </a:solidFill>
                <a:latin typeface="Times New Roman"/>
              </a:rPr>
              <a:t>2. Морозов,А.В.    Социальная психология : учебник для вузов / Морозов,А.В. - 2-е изд. - М. : Академический проект</a:t>
            </a: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: </a:t>
            </a:r>
            <a:r>
              <a:rPr b="0" lang="ru-RU" sz="1200" spc="-1" strike="noStrike">
                <a:solidFill>
                  <a:srgbClr val="463634"/>
                </a:solidFill>
                <a:latin typeface="Times New Roman"/>
              </a:rPr>
              <a:t>Логос.- 2010. - 336.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762120" y="533520"/>
            <a:ext cx="7619760" cy="533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Предпринимательская  деятельност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33520" y="2154240"/>
          <a:ext cx="3657600" cy="25495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ЭТАПЫ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202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поиск идеи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составление бизнес-плана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поиск ресурсов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образование и организация предприятия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управление.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876920" y="2154240"/>
          <a:ext cx="3809880" cy="395136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Качества предпринимателя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345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мотивация «достижения успеха»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самостоятельность, ответственность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90000"/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быстрота реакции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расчетливость, прогностичность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творческое мышление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стрессоустойчивость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795241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компетентность в разных областях.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186" name="AutoShape 39"/>
          <p:cNvSpPr/>
          <p:nvPr/>
        </p:nvSpPr>
        <p:spPr>
          <a:xfrm rot="5400000">
            <a:off x="1447200" y="1447560"/>
            <a:ext cx="990720" cy="381240"/>
          </a:xfrm>
          <a:prstGeom prst="pi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7" name="AutoShape 40"/>
          <p:cNvSpPr/>
          <p:nvPr/>
        </p:nvSpPr>
        <p:spPr>
          <a:xfrm rot="5400000">
            <a:off x="6553080" y="1447920"/>
            <a:ext cx="990720" cy="380880"/>
          </a:xfrm>
          <a:prstGeom prst="pi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1905120" y="2438280"/>
            <a:ext cx="5333760" cy="6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равильная организация предприят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905120" y="3657600"/>
            <a:ext cx="533376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Социально-психологические концепции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0" name="Document"/>
          <p:cNvSpPr/>
          <p:nvPr/>
        </p:nvSpPr>
        <p:spPr>
          <a:xfrm>
            <a:off x="914400" y="5105520"/>
            <a:ext cx="1371600" cy="1523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Теория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1" name="Document"/>
          <p:cNvSpPr/>
          <p:nvPr/>
        </p:nvSpPr>
        <p:spPr>
          <a:xfrm>
            <a:off x="3581280" y="5029200"/>
            <a:ext cx="1371600" cy="15238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Теория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2" name="Document"/>
          <p:cNvSpPr/>
          <p:nvPr/>
        </p:nvSpPr>
        <p:spPr>
          <a:xfrm>
            <a:off x="6400800" y="5029200"/>
            <a:ext cx="1371600" cy="1523880"/>
          </a:xfrm>
          <a:prstGeom prst="pi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Теория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3" name="Document"/>
          <p:cNvSpPr/>
          <p:nvPr/>
        </p:nvSpPr>
        <p:spPr>
          <a:xfrm>
            <a:off x="990720" y="304920"/>
            <a:ext cx="1371600" cy="1523880"/>
          </a:xfrm>
          <a:prstGeom prst="pi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ринципы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Document"/>
          <p:cNvSpPr/>
          <p:nvPr/>
        </p:nvSpPr>
        <p:spPr>
          <a:xfrm>
            <a:off x="3505320" y="380880"/>
            <a:ext cx="1371600" cy="1522440"/>
          </a:xfrm>
          <a:prstGeom prst="pi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равила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Document"/>
          <p:cNvSpPr/>
          <p:nvPr/>
        </p:nvSpPr>
        <p:spPr>
          <a:xfrm>
            <a:off x="6248520" y="380880"/>
            <a:ext cx="1371600" cy="1522440"/>
          </a:xfrm>
          <a:prstGeom prst="pie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услови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Line 12"/>
          <p:cNvSpPr/>
          <p:nvPr/>
        </p:nvSpPr>
        <p:spPr>
          <a:xfrm flipH="1" flipV="1">
            <a:off x="1980720" y="1904760"/>
            <a:ext cx="2590920" cy="5331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Line 13"/>
          <p:cNvSpPr/>
          <p:nvPr/>
        </p:nvSpPr>
        <p:spPr>
          <a:xfrm flipV="1">
            <a:off x="4572000" y="1904760"/>
            <a:ext cx="2133720" cy="5331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8" name="Line 14"/>
          <p:cNvSpPr/>
          <p:nvPr/>
        </p:nvSpPr>
        <p:spPr>
          <a:xfrm flipH="1" flipV="1">
            <a:off x="4419360" y="1904760"/>
            <a:ext cx="152280" cy="5331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4572000" y="3124080"/>
            <a:ext cx="0" cy="5335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0" name="Line 16"/>
          <p:cNvSpPr/>
          <p:nvPr/>
        </p:nvSpPr>
        <p:spPr>
          <a:xfrm flipH="1">
            <a:off x="1676160" y="4343400"/>
            <a:ext cx="2895480" cy="7621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Line 17"/>
          <p:cNvSpPr/>
          <p:nvPr/>
        </p:nvSpPr>
        <p:spPr>
          <a:xfrm>
            <a:off x="4572000" y="4343400"/>
            <a:ext cx="2362320" cy="6858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4572000" y="4343400"/>
            <a:ext cx="152280" cy="6858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Oval 2"/>
          <p:cNvSpPr/>
          <p:nvPr/>
        </p:nvSpPr>
        <p:spPr>
          <a:xfrm>
            <a:off x="1181160" y="76320"/>
            <a:ext cx="6781680" cy="6629400"/>
          </a:xfrm>
          <a:prstGeom prst="ellipse">
            <a:avLst/>
          </a:prstGeom>
          <a:noFill/>
          <a:ln w="38160">
            <a:solidFill>
              <a:srgbClr val="46363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Oval 3"/>
          <p:cNvSpPr/>
          <p:nvPr/>
        </p:nvSpPr>
        <p:spPr>
          <a:xfrm>
            <a:off x="2971800" y="2895480"/>
            <a:ext cx="3429000" cy="1295640"/>
          </a:xfrm>
          <a:prstGeom prst="ellipse">
            <a:avLst/>
          </a:prstGeom>
          <a:gradFill rotWithShape="0">
            <a:gsLst>
              <a:gs pos="0">
                <a:srgbClr val="75dbff"/>
              </a:gs>
              <a:gs pos="50000">
                <a:srgbClr val="beff7d"/>
              </a:gs>
              <a:gs pos="100000">
                <a:srgbClr val="75db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методы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воздейств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на персонал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029200" y="4343400"/>
            <a:ext cx="2286000" cy="1066680"/>
          </a:xfrm>
          <a:prstGeom prst="ellipse">
            <a:avLst/>
          </a:prstGeom>
          <a:gradFill rotWithShape="0">
            <a:gsLst>
              <a:gs pos="0">
                <a:srgbClr val="75dbff"/>
              </a:gs>
              <a:gs pos="50000">
                <a:srgbClr val="beff7d"/>
              </a:gs>
              <a:gs pos="100000">
                <a:srgbClr val="75db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ринужде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1828800" y="4419720"/>
            <a:ext cx="2286000" cy="1066680"/>
          </a:xfrm>
          <a:prstGeom prst="ellipse">
            <a:avLst/>
          </a:prstGeom>
          <a:gradFill rotWithShape="0">
            <a:gsLst>
              <a:gs pos="0">
                <a:srgbClr val="75dbff"/>
              </a:gs>
              <a:gs pos="50000">
                <a:srgbClr val="beff7d"/>
              </a:gs>
              <a:gs pos="100000">
                <a:srgbClr val="75db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убежде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1523880" y="1676520"/>
            <a:ext cx="2286000" cy="1066680"/>
          </a:xfrm>
          <a:prstGeom prst="ellipse">
            <a:avLst/>
          </a:prstGeom>
          <a:gradFill rotWithShape="0">
            <a:gsLst>
              <a:gs pos="0">
                <a:srgbClr val="75dbff"/>
              </a:gs>
              <a:gs pos="50000">
                <a:srgbClr val="beff7d"/>
              </a:gs>
              <a:gs pos="100000">
                <a:srgbClr val="75db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ример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429000" y="609480"/>
            <a:ext cx="2286000" cy="1067040"/>
          </a:xfrm>
          <a:prstGeom prst="ellipse">
            <a:avLst/>
          </a:prstGeom>
          <a:gradFill rotWithShape="0">
            <a:gsLst>
              <a:gs pos="0">
                <a:srgbClr val="75dbff"/>
              </a:gs>
              <a:gs pos="50000">
                <a:srgbClr val="beff7d"/>
              </a:gs>
              <a:gs pos="100000">
                <a:srgbClr val="75db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оощре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9" name="Oval 8"/>
          <p:cNvSpPr/>
          <p:nvPr/>
        </p:nvSpPr>
        <p:spPr>
          <a:xfrm>
            <a:off x="5257800" y="1676520"/>
            <a:ext cx="2286000" cy="1066680"/>
          </a:xfrm>
          <a:prstGeom prst="ellipse">
            <a:avLst/>
          </a:prstGeom>
          <a:gradFill rotWithShape="0">
            <a:gsLst>
              <a:gs pos="0">
                <a:srgbClr val="75dbff"/>
              </a:gs>
              <a:gs pos="50000">
                <a:srgbClr val="beff7d"/>
              </a:gs>
              <a:gs pos="100000">
                <a:srgbClr val="75db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влия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3276360" y="4114800"/>
            <a:ext cx="609480" cy="3049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Line 10"/>
          <p:cNvSpPr/>
          <p:nvPr/>
        </p:nvSpPr>
        <p:spPr>
          <a:xfrm>
            <a:off x="5486400" y="4114800"/>
            <a:ext cx="609480" cy="2286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2" name="Line 11"/>
          <p:cNvSpPr/>
          <p:nvPr/>
        </p:nvSpPr>
        <p:spPr>
          <a:xfrm flipH="1" flipV="1">
            <a:off x="3352680" y="2590920"/>
            <a:ext cx="609840" cy="3808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3" name="Line 12"/>
          <p:cNvSpPr/>
          <p:nvPr/>
        </p:nvSpPr>
        <p:spPr>
          <a:xfrm flipV="1">
            <a:off x="4572000" y="1676520"/>
            <a:ext cx="0" cy="12189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4" name="Line 13"/>
          <p:cNvSpPr/>
          <p:nvPr/>
        </p:nvSpPr>
        <p:spPr>
          <a:xfrm flipV="1">
            <a:off x="5638680" y="2742840"/>
            <a:ext cx="381240" cy="2286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286000" y="1768320"/>
            <a:ext cx="4572000" cy="68580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ТОРГОВАЯ ДЕЯТЕЛЬНОСТ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3052440" y="100656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СОЦИАЛЬНАЯ ПСИХОЛОГИ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125160" y="32076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МАРКЕТИНГ 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 РЕКЛАМА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 flipV="1">
            <a:off x="3733920" y="62532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9" name="Line 6"/>
          <p:cNvSpPr/>
          <p:nvPr/>
        </p:nvSpPr>
        <p:spPr>
          <a:xfrm flipV="1">
            <a:off x="5715000" y="62532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 flipV="1">
            <a:off x="6858000" y="473040"/>
            <a:ext cx="0" cy="129528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 flipH="1">
            <a:off x="6324480" y="473040"/>
            <a:ext cx="53352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2286000" y="473040"/>
            <a:ext cx="0" cy="137160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2286000" y="473040"/>
            <a:ext cx="76212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4572000" y="131112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286000" y="2454120"/>
          <a:ext cx="4572000" cy="34862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3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социально-психологические аспекты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393a18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управление организацией труда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93a18"/>
                        </a:buClr>
                        <a:buSzPct val="9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общение покупателя и продавца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93a18"/>
                        </a:buClr>
                        <a:buSzPct val="9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профилактика и решение конфликтов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93a18"/>
                        </a:buClr>
                        <a:buSzPct val="9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доверие покупателя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393a18"/>
                        </a:buClr>
                        <a:buSzPct val="9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формирование торгового коллектива и      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психологического климата.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Line 37"/>
          <p:cNvSpPr/>
          <p:nvPr/>
        </p:nvSpPr>
        <p:spPr>
          <a:xfrm>
            <a:off x="4572000" y="2530440"/>
            <a:ext cx="0" cy="5335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4"/>
          <p:cNvSpPr/>
          <p:nvPr/>
        </p:nvSpPr>
        <p:spPr>
          <a:xfrm>
            <a:off x="609480" y="228600"/>
            <a:ext cx="8001000" cy="640080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Oval 3"/>
          <p:cNvSpPr/>
          <p:nvPr/>
        </p:nvSpPr>
        <p:spPr>
          <a:xfrm>
            <a:off x="2552760" y="1409760"/>
            <a:ext cx="4038480" cy="4038480"/>
          </a:xfrm>
          <a:prstGeom prst="ellipse">
            <a:avLst/>
          </a:prstGeom>
          <a:gradFill rotWithShape="0">
            <a:gsLst>
              <a:gs pos="0">
                <a:srgbClr val="c6ff8d"/>
              </a:gs>
              <a:gs pos="100000">
                <a:srgbClr val="5fd5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463634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Oval 2"/>
          <p:cNvSpPr/>
          <p:nvPr/>
        </p:nvSpPr>
        <p:spPr>
          <a:xfrm>
            <a:off x="3200400" y="2057400"/>
            <a:ext cx="2743200" cy="2743200"/>
          </a:xfrm>
          <a:prstGeom prst="ellipse">
            <a:avLst/>
          </a:prstGeom>
          <a:gradFill rotWithShape="0">
            <a:gsLst>
              <a:gs pos="0">
                <a:srgbClr val="c6ff8d"/>
              </a:gs>
              <a:gs pos="100000">
                <a:srgbClr val="5fd5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деятельност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активность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4572000" y="3124080"/>
            <a:ext cx="0" cy="6858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 rot="19032000">
            <a:off x="1221840" y="99000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игрова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 rot="2752800">
            <a:off x="6476400" y="9136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учебна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871920" y="6172200"/>
            <a:ext cx="739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3634"/>
                </a:solidFill>
                <a:latin typeface="Times New Roman"/>
              </a:rPr>
              <a:t>социально-психологические явления. процессы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269240" y="5029200"/>
            <a:ext cx="7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цел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 rot="3055800">
            <a:off x="1240920" y="500796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спортивна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 rot="18324000">
            <a:off x="6111720" y="478728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профессиональна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 rot="5358600">
            <a:off x="5712840" y="312552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мотивы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3996000" y="1600200"/>
            <a:ext cx="11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действие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 rot="16234200">
            <a:off x="2167920" y="3228480"/>
            <a:ext cx="15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потребности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0" name="Line 15"/>
          <p:cNvSpPr/>
          <p:nvPr/>
        </p:nvSpPr>
        <p:spPr>
          <a:xfrm flipV="1">
            <a:off x="4572000" y="5638320"/>
            <a:ext cx="0" cy="7621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Line 16"/>
          <p:cNvSpPr/>
          <p:nvPr/>
        </p:nvSpPr>
        <p:spPr>
          <a:xfrm flipV="1">
            <a:off x="7772400" y="4800240"/>
            <a:ext cx="0" cy="1600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Line 17"/>
          <p:cNvSpPr/>
          <p:nvPr/>
        </p:nvSpPr>
        <p:spPr>
          <a:xfrm flipV="1">
            <a:off x="1219320" y="4800240"/>
            <a:ext cx="0" cy="1600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220840" y="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3634"/>
                </a:solidFill>
                <a:latin typeface="Times New Roman"/>
              </a:rPr>
              <a:t>Вопросы для самоконтроля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-146160" y="533520"/>
            <a:ext cx="9649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Как определяется деятельность в психологии и на какие виды она  подразделяется?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Каково строение деятельности?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В чем состоит сущность управления?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Назовите основные функции и принципы управления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Какие психологические концепции управления выделяются?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Для чего нужны социально-психологические технологии организации управления?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Дайте определение предпринимательской деятельности. От каких  социально-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сихологических факторов она зависит?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еречислите психологические особенности личности предпринимателя, от которых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зависит успех его деятельности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Назовите основные психологические методы, которые может использовать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редприниматель для воздействия на социальную общность людей в организации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Какое влияние оказывает социальная психология  на торговлю и маркетинг</a:t>
            </a: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415600" y="4191120"/>
            <a:ext cx="43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3634"/>
                </a:solidFill>
                <a:latin typeface="Times New Roman"/>
              </a:rPr>
              <a:t>Вопросы для обсуждения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-331560" y="4748040"/>
            <a:ext cx="974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Единство формальных и неформальных отношений является достаточно сложной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роблемой в современном руководстве. Большой разрыв между интересами дела и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интересами людей не допустим. Почему? От чего зависит здесь успешная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организаторская деятельность предпринимателя?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Каковы положительные и отрицательные особенности российской рекламы?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Всегда ли используются в рекламе социально-психологические знания?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buClr>
                <a:srgbClr val="463634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00400" y="3162240"/>
            <a:ext cx="2666880" cy="495360"/>
          </a:xfrm>
          <a:prstGeom prst="rect">
            <a:avLst/>
          </a:prstGeom>
          <a:gradFill rotWithShape="0">
            <a:gsLst>
              <a:gs pos="0">
                <a:srgbClr val="65d7ff"/>
              </a:gs>
              <a:gs pos="50000">
                <a:srgbClr val="d4ffa9"/>
              </a:gs>
              <a:gs pos="100000">
                <a:srgbClr val="65d7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ДЕЯТЕЛЬНОСТЬ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010280" y="3122640"/>
            <a:ext cx="1676520" cy="533520"/>
          </a:xfrm>
          <a:prstGeom prst="rect">
            <a:avLst/>
          </a:prstGeom>
          <a:gradFill rotWithShape="0">
            <a:gsLst>
              <a:gs pos="0">
                <a:srgbClr val="65d7ff"/>
              </a:gs>
              <a:gs pos="50000">
                <a:srgbClr val="d4ffa9"/>
              </a:gs>
              <a:gs pos="100000">
                <a:srgbClr val="65d7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труд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80880" y="3162240"/>
            <a:ext cx="1676520" cy="533520"/>
          </a:xfrm>
          <a:prstGeom prst="rect">
            <a:avLst/>
          </a:prstGeom>
          <a:gradFill rotWithShape="0">
            <a:gsLst>
              <a:gs pos="0">
                <a:srgbClr val="65d7ff"/>
              </a:gs>
              <a:gs pos="50000">
                <a:srgbClr val="d4ffa9"/>
              </a:gs>
              <a:gs pos="100000">
                <a:srgbClr val="65d7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работ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429000" y="4267080"/>
            <a:ext cx="2286000" cy="533520"/>
          </a:xfrm>
          <a:prstGeom prst="rect">
            <a:avLst/>
          </a:prstGeom>
          <a:gradFill rotWithShape="0">
            <a:gsLst>
              <a:gs pos="0">
                <a:srgbClr val="65d7ff"/>
              </a:gs>
              <a:gs pos="50000">
                <a:srgbClr val="d4ffa9"/>
              </a:gs>
              <a:gs pos="100000">
                <a:srgbClr val="65d7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активность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429000" y="1981080"/>
            <a:ext cx="2286000" cy="533520"/>
          </a:xfrm>
          <a:prstGeom prst="rect">
            <a:avLst/>
          </a:prstGeom>
          <a:gradFill rotWithShape="0">
            <a:gsLst>
              <a:gs pos="0">
                <a:srgbClr val="65d7ff"/>
              </a:gs>
              <a:gs pos="50000">
                <a:srgbClr val="d4ffa9"/>
              </a:gs>
              <a:gs pos="100000">
                <a:srgbClr val="65d7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оведение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324480" y="4648320"/>
            <a:ext cx="2286000" cy="198108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роизво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 непроизво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сознате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бессознате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индивидуа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коллектив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творческ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80880" y="4495680"/>
            <a:ext cx="2286000" cy="198144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материа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 духов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внешня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внутрення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непосредствен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опосредован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репродуктив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533520" y="304920"/>
            <a:ext cx="2133360" cy="129528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спортив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учеб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трудов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игров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6400800" y="304920"/>
            <a:ext cx="2133720" cy="129528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исполните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управленческ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коммуникатив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- познавате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5867280" y="3429000"/>
            <a:ext cx="1143000" cy="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2057400" y="3424320"/>
            <a:ext cx="1143000" cy="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Line 14"/>
          <p:cNvSpPr/>
          <p:nvPr/>
        </p:nvSpPr>
        <p:spPr>
          <a:xfrm flipV="1">
            <a:off x="4572000" y="2514240"/>
            <a:ext cx="0" cy="60948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Line 15"/>
          <p:cNvSpPr/>
          <p:nvPr/>
        </p:nvSpPr>
        <p:spPr>
          <a:xfrm flipV="1">
            <a:off x="4572000" y="3657240"/>
            <a:ext cx="0" cy="60948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cxnSp>
        <p:nvCxnSpPr>
          <p:cNvPr id="59" name="AutoShape 16"/>
          <p:cNvCxnSpPr/>
          <p:nvPr/>
        </p:nvCxnSpPr>
        <p:spPr>
          <a:xfrm flipV="1">
            <a:off x="5866920" y="1618560"/>
            <a:ext cx="1143720" cy="1810440"/>
          </a:xfrm>
          <a:prstGeom prst="curvedConnector2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</p:cxnSp>
      <p:cxnSp>
        <p:nvCxnSpPr>
          <p:cNvPr id="60" name="AutoShape 21"/>
          <p:cNvCxnSpPr>
            <a:stCxn id="46" idx="1"/>
          </p:cNvCxnSpPr>
          <p:nvPr/>
        </p:nvCxnSpPr>
        <p:spPr>
          <a:xfrm rot="10800000">
            <a:off x="2133000" y="1599480"/>
            <a:ext cx="1067400" cy="1810440"/>
          </a:xfrm>
          <a:prstGeom prst="curvedConnector2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</p:cxnSp>
      <p:sp>
        <p:nvSpPr>
          <p:cNvPr id="61" name="Line 28"/>
          <p:cNvSpPr/>
          <p:nvPr/>
        </p:nvSpPr>
        <p:spPr>
          <a:xfrm>
            <a:off x="5867280" y="3657600"/>
            <a:ext cx="1067040" cy="9907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Line 29"/>
          <p:cNvSpPr/>
          <p:nvPr/>
        </p:nvSpPr>
        <p:spPr>
          <a:xfrm flipH="1">
            <a:off x="2057040" y="3657600"/>
            <a:ext cx="1143000" cy="8380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400480" y="152280"/>
            <a:ext cx="4343400" cy="83844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ТРУДОВАЯ ДЕЯТЕЛЬНОСТ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09480" y="1371600"/>
            <a:ext cx="3276720" cy="60948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РОФЕССИОНА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181480" y="1371600"/>
            <a:ext cx="3276720" cy="60948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НЕПРОФЕССИОНАЛЬНА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990720" y="2286000"/>
            <a:ext cx="2361960" cy="220968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рофесси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набор знаний,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навыков на основе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одготовки и опыта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133720" y="1981080"/>
            <a:ext cx="0" cy="3049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>
            <a:off x="2133720" y="289548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5791320" y="2286000"/>
            <a:ext cx="2361960" cy="220968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труд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нет специальных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знаний, навыков без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одготовки и опыта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6934320" y="1981080"/>
            <a:ext cx="0" cy="3049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6934320" y="289548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685800" y="4724280"/>
            <a:ext cx="3200400" cy="38124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факторы эффективности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304920" y="5334120"/>
            <a:ext cx="2361960" cy="30456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субъективные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3048120" y="5334120"/>
            <a:ext cx="2361960" cy="30456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объективные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2514600" y="6019920"/>
            <a:ext cx="2057400" cy="30456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средовые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5334120" y="6019920"/>
            <a:ext cx="2057400" cy="304560"/>
          </a:xfrm>
          <a:prstGeom prst="rect">
            <a:avLst/>
          </a:prstGeom>
          <a:gradFill rotWithShape="0">
            <a:gsLst>
              <a:gs pos="0">
                <a:srgbClr val="5bd4ff"/>
              </a:gs>
              <a:gs pos="50000">
                <a:srgbClr val="c2ff85"/>
              </a:gs>
              <a:gs pos="100000">
                <a:srgbClr val="5bd4ff"/>
              </a:gs>
            </a:gsLst>
            <a:lin ang="189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аппаратные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1676520" y="5105520"/>
            <a:ext cx="380880" cy="2286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3124080" y="5105520"/>
            <a:ext cx="381240" cy="2286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Line 19"/>
          <p:cNvSpPr/>
          <p:nvPr/>
        </p:nvSpPr>
        <p:spPr>
          <a:xfrm flipH="1">
            <a:off x="3352680" y="5638680"/>
            <a:ext cx="609840" cy="38124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4952880" y="5638680"/>
            <a:ext cx="685800" cy="38124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152280" y="1600200"/>
            <a:ext cx="45720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152280" y="1600200"/>
            <a:ext cx="0" cy="327672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3" name="Line 23"/>
          <p:cNvSpPr/>
          <p:nvPr/>
        </p:nvSpPr>
        <p:spPr>
          <a:xfrm>
            <a:off x="152280" y="4876920"/>
            <a:ext cx="53352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Line 24"/>
          <p:cNvSpPr/>
          <p:nvPr/>
        </p:nvSpPr>
        <p:spPr>
          <a:xfrm flipH="1">
            <a:off x="2209680" y="990720"/>
            <a:ext cx="1524240" cy="3808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Line 25"/>
          <p:cNvSpPr/>
          <p:nvPr/>
        </p:nvSpPr>
        <p:spPr>
          <a:xfrm>
            <a:off x="5486400" y="990720"/>
            <a:ext cx="1447920" cy="3808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200400" y="3029040"/>
            <a:ext cx="2590920" cy="799920"/>
          </a:xfrm>
          <a:prstGeom prst="rect">
            <a:avLst/>
          </a:prstGeom>
          <a:gradFill rotWithShape="0">
            <a:gsLst>
              <a:gs pos="0">
                <a:srgbClr val="daffb5"/>
              </a:gs>
              <a:gs pos="100000">
                <a:srgbClr val="33cc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ДЕЙСТВИЕ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010280" y="3084480"/>
            <a:ext cx="1600200" cy="687600"/>
          </a:xfrm>
          <a:prstGeom prst="rect">
            <a:avLst/>
          </a:prstGeom>
          <a:gradFill rotWithShape="0">
            <a:gsLst>
              <a:gs pos="0">
                <a:srgbClr val="daffb5"/>
              </a:gs>
              <a:gs pos="100000">
                <a:srgbClr val="33cc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навык,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привычка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04920" y="3067200"/>
            <a:ext cx="1752480" cy="723600"/>
          </a:xfrm>
          <a:prstGeom prst="rect">
            <a:avLst/>
          </a:prstGeom>
          <a:gradFill rotWithShape="0">
            <a:gsLst>
              <a:gs pos="0">
                <a:srgbClr val="daffb5"/>
              </a:gs>
              <a:gs pos="100000">
                <a:srgbClr val="33cc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операции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429000" y="4896000"/>
            <a:ext cx="2286000" cy="533160"/>
          </a:xfrm>
          <a:prstGeom prst="rect">
            <a:avLst/>
          </a:prstGeom>
          <a:gradFill rotWithShape="0">
            <a:gsLst>
              <a:gs pos="0">
                <a:srgbClr val="daffb5"/>
              </a:gs>
              <a:gs pos="100000">
                <a:srgbClr val="33cc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цель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429000" y="1390680"/>
            <a:ext cx="2286000" cy="533520"/>
          </a:xfrm>
          <a:prstGeom prst="rect">
            <a:avLst/>
          </a:prstGeom>
          <a:gradFill rotWithShape="0">
            <a:gsLst>
              <a:gs pos="0">
                <a:srgbClr val="daffb5"/>
              </a:gs>
              <a:gs pos="100000">
                <a:srgbClr val="33cc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деятельность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2057400" y="3429000"/>
            <a:ext cx="1143000" cy="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Line 9"/>
          <p:cNvSpPr/>
          <p:nvPr/>
        </p:nvSpPr>
        <p:spPr>
          <a:xfrm flipV="1">
            <a:off x="4572000" y="1923840"/>
            <a:ext cx="0" cy="106668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 flipV="1">
            <a:off x="4572000" y="3828600"/>
            <a:ext cx="0" cy="1047960"/>
          </a:xfrm>
          <a:prstGeom prst="line">
            <a:avLst/>
          </a:prstGeom>
          <a:ln w="9360">
            <a:solidFill>
              <a:srgbClr val="46363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Line 15"/>
          <p:cNvSpPr/>
          <p:nvPr/>
        </p:nvSpPr>
        <p:spPr>
          <a:xfrm>
            <a:off x="5791320" y="3429000"/>
            <a:ext cx="121896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2590920" y="1676520"/>
            <a:ext cx="4267080" cy="1371600"/>
          </a:xfrm>
          <a:prstGeom prst="ellipse">
            <a:avLst/>
          </a:prstGeom>
          <a:gradFill rotWithShape="0">
            <a:gsLst>
              <a:gs pos="0">
                <a:srgbClr val="ccff33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ДЕЯТЕЛЬНОСТ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Oval 3"/>
          <p:cNvSpPr/>
          <p:nvPr/>
        </p:nvSpPr>
        <p:spPr>
          <a:xfrm>
            <a:off x="533520" y="3581280"/>
            <a:ext cx="3047760" cy="914400"/>
          </a:xfrm>
          <a:prstGeom prst="ellipse">
            <a:avLst/>
          </a:prstGeom>
          <a:gradFill rotWithShape="0">
            <a:gsLst>
              <a:gs pos="0">
                <a:srgbClr val="33ccff"/>
              </a:gs>
              <a:gs pos="50000">
                <a:srgbClr val="d0ffa1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ОТРЕБНОСТ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Oval 4"/>
          <p:cNvSpPr/>
          <p:nvPr/>
        </p:nvSpPr>
        <p:spPr>
          <a:xfrm>
            <a:off x="4038480" y="3581280"/>
            <a:ext cx="2362320" cy="914400"/>
          </a:xfrm>
          <a:prstGeom prst="ellipse">
            <a:avLst/>
          </a:prstGeom>
          <a:gradFill rotWithShape="0">
            <a:gsLst>
              <a:gs pos="0">
                <a:srgbClr val="33ccff"/>
              </a:gs>
              <a:gs pos="50000">
                <a:srgbClr val="d0ffa1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ОТИВ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8" name="Oval 5"/>
          <p:cNvSpPr/>
          <p:nvPr/>
        </p:nvSpPr>
        <p:spPr>
          <a:xfrm>
            <a:off x="6781680" y="3581280"/>
            <a:ext cx="1828800" cy="914400"/>
          </a:xfrm>
          <a:prstGeom prst="ellipse">
            <a:avLst/>
          </a:prstGeom>
          <a:gradFill rotWithShape="0">
            <a:gsLst>
              <a:gs pos="0">
                <a:srgbClr val="33ccff"/>
              </a:gs>
              <a:gs pos="50000">
                <a:srgbClr val="d0ffa1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ЦЕЛЬ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Line 6"/>
          <p:cNvSpPr/>
          <p:nvPr/>
        </p:nvSpPr>
        <p:spPr>
          <a:xfrm>
            <a:off x="6400800" y="4038480"/>
            <a:ext cx="38088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0" name="Line 7"/>
          <p:cNvSpPr/>
          <p:nvPr/>
        </p:nvSpPr>
        <p:spPr>
          <a:xfrm flipH="1">
            <a:off x="2209320" y="2895480"/>
            <a:ext cx="1219320" cy="6858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4952880" y="3048120"/>
            <a:ext cx="0" cy="5331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Line 9"/>
          <p:cNvSpPr/>
          <p:nvPr/>
        </p:nvSpPr>
        <p:spPr>
          <a:xfrm>
            <a:off x="6095880" y="2895480"/>
            <a:ext cx="1447920" cy="6858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cxnSp>
        <p:nvCxnSpPr>
          <p:cNvPr id="103" name="AutoShape 10"/>
          <p:cNvCxnSpPr>
            <a:stCxn id="96" idx="4"/>
            <a:endCxn id="97" idx="4"/>
          </p:cNvCxnSpPr>
          <p:nvPr/>
        </p:nvCxnSpPr>
        <p:spPr>
          <a:xfrm flipH="1" rot="16200000">
            <a:off x="3637440" y="2914920"/>
            <a:ext cx="2520" cy="3162960"/>
          </a:xfrm>
          <a:prstGeom prst="curvedConnector5">
            <a:avLst>
              <a:gd name="adj1" fmla="val 14400000"/>
              <a:gd name="adj2" fmla="val 49994"/>
              <a:gd name="adj3" fmla="val 14400000"/>
            </a:avLst>
          </a:prstGeom>
          <a:ln w="9360">
            <a:solidFill>
              <a:srgbClr val="463634"/>
            </a:solidFill>
            <a:miter/>
            <a:tailEnd len="med" type="triangle" w="med"/>
          </a:ln>
        </p:spPr>
      </p:cxnSp>
      <p:cxnSp>
        <p:nvCxnSpPr>
          <p:cNvPr id="104" name="AutoShape 11"/>
          <p:cNvCxnSpPr>
            <a:stCxn id="97" idx="4"/>
            <a:endCxn id="98" idx="4"/>
          </p:cNvCxnSpPr>
          <p:nvPr/>
        </p:nvCxnSpPr>
        <p:spPr>
          <a:xfrm flipH="1" rot="16200000">
            <a:off x="6455880" y="3258000"/>
            <a:ext cx="2520" cy="247716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463634"/>
            </a:solidFill>
            <a:miter/>
            <a:tailEnd len="med" type="triangle" w="med"/>
          </a:ln>
        </p:spPr>
      </p:cxnSp>
      <p:sp>
        <p:nvSpPr>
          <p:cNvPr id="105" name="Text Box 12"/>
          <p:cNvSpPr/>
          <p:nvPr/>
        </p:nvSpPr>
        <p:spPr>
          <a:xfrm>
            <a:off x="5623920" y="4735440"/>
            <a:ext cx="20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3634"/>
                </a:solidFill>
                <a:latin typeface="Times New Roman"/>
              </a:rPr>
              <a:t>ВЫСШИЙ РЕГУЛЯТОР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429000" y="152280"/>
            <a:ext cx="2286000" cy="533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63634"/>
                </a:solidFill>
                <a:latin typeface="Times New Roman"/>
              </a:rPr>
              <a:t>УПРАВЛЕНИЕ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14680" y="990720"/>
            <a:ext cx="5715000" cy="45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главный признак управления в социальных системах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85800" y="1981080"/>
            <a:ext cx="2286000" cy="5335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субъект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управлени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095880" y="1905120"/>
            <a:ext cx="2286000" cy="6094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объект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управлени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2057400" y="3048120"/>
            <a:ext cx="5029200" cy="3808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системы управлени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057400" y="3733920"/>
            <a:ext cx="5029200" cy="3808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научная организация управлени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371600" y="4495680"/>
            <a:ext cx="6400800" cy="3812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РОЦЕСС УПРАВЛЕ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85800" y="5486400"/>
            <a:ext cx="2819520" cy="30492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цель управлени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410080" y="5486400"/>
            <a:ext cx="2819520" cy="3049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особенности управлени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2057400" y="6248520"/>
            <a:ext cx="5029200" cy="38088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решение задач управлени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 flipV="1">
            <a:off x="2895480" y="579132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 flipV="1">
            <a:off x="6019920" y="579132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Line 14"/>
          <p:cNvSpPr/>
          <p:nvPr/>
        </p:nvSpPr>
        <p:spPr>
          <a:xfrm flipV="1">
            <a:off x="2743200" y="4876560"/>
            <a:ext cx="0" cy="6094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 flipV="1">
            <a:off x="6248520" y="4876560"/>
            <a:ext cx="0" cy="6094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2971800" y="4114800"/>
            <a:ext cx="0" cy="3808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5715000" y="4114800"/>
            <a:ext cx="0" cy="3808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666880" y="3429000"/>
            <a:ext cx="0" cy="3049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Line 19"/>
          <p:cNvSpPr/>
          <p:nvPr/>
        </p:nvSpPr>
        <p:spPr>
          <a:xfrm flipV="1">
            <a:off x="2895480" y="3428640"/>
            <a:ext cx="0" cy="3049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6095880" y="3429000"/>
            <a:ext cx="0" cy="3049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Line 21"/>
          <p:cNvSpPr/>
          <p:nvPr/>
        </p:nvSpPr>
        <p:spPr>
          <a:xfrm flipV="1">
            <a:off x="6324480" y="3428640"/>
            <a:ext cx="0" cy="3049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2514600" y="2514600"/>
            <a:ext cx="0" cy="5335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2743200" y="2514600"/>
            <a:ext cx="0" cy="5335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6324480" y="2514600"/>
            <a:ext cx="0" cy="5335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Line 25"/>
          <p:cNvSpPr/>
          <p:nvPr/>
        </p:nvSpPr>
        <p:spPr>
          <a:xfrm flipV="1">
            <a:off x="6553080" y="2514600"/>
            <a:ext cx="0" cy="53352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Line 26"/>
          <p:cNvSpPr/>
          <p:nvPr/>
        </p:nvSpPr>
        <p:spPr>
          <a:xfrm>
            <a:off x="2971800" y="2133720"/>
            <a:ext cx="312408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 flipH="1">
            <a:off x="2971800" y="2286000"/>
            <a:ext cx="3124080" cy="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2362320" y="1447920"/>
            <a:ext cx="0" cy="53316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6553080" y="144792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572000" y="685800"/>
            <a:ext cx="0" cy="30492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247840" y="152280"/>
            <a:ext cx="4648320" cy="533520"/>
          </a:xfrm>
          <a:prstGeom prst="rect">
            <a:avLst/>
          </a:prstGeom>
          <a:gradFill rotWithShape="0">
            <a:gsLst>
              <a:gs pos="0">
                <a:srgbClr val="6dd9ff"/>
              </a:gs>
              <a:gs pos="50000">
                <a:srgbClr val="ceff9d"/>
              </a:gs>
              <a:gs pos="100000">
                <a:srgbClr val="6dd9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Социальная система управле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143000"/>
            <a:ext cx="2438640" cy="609480"/>
          </a:xfrm>
          <a:prstGeom prst="rect">
            <a:avLst/>
          </a:prstGeom>
          <a:gradFill rotWithShape="0">
            <a:gsLst>
              <a:gs pos="0">
                <a:srgbClr val="6dd9ff"/>
              </a:gs>
              <a:gs pos="50000">
                <a:srgbClr val="ceff9d"/>
              </a:gs>
              <a:gs pos="100000">
                <a:srgbClr val="6dd9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субъект управлени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638680" y="1219320"/>
            <a:ext cx="2514600" cy="533160"/>
          </a:xfrm>
          <a:prstGeom prst="rect">
            <a:avLst/>
          </a:prstGeom>
          <a:gradFill rotWithShape="0">
            <a:gsLst>
              <a:gs pos="0">
                <a:srgbClr val="6dd9ff"/>
              </a:gs>
              <a:gs pos="50000">
                <a:srgbClr val="ceff9d"/>
              </a:gs>
              <a:gs pos="100000">
                <a:srgbClr val="6dd9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объект управлени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 flipH="1">
            <a:off x="1980720" y="685800"/>
            <a:ext cx="2590920" cy="45720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4572000" y="685800"/>
            <a:ext cx="2286000" cy="53352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124080" y="2286000"/>
            <a:ext cx="2895840" cy="533520"/>
          </a:xfrm>
          <a:prstGeom prst="rect">
            <a:avLst/>
          </a:prstGeom>
          <a:gradFill rotWithShape="0">
            <a:gsLst>
              <a:gs pos="0">
                <a:srgbClr val="6dd9ff"/>
              </a:gs>
              <a:gs pos="50000">
                <a:srgbClr val="ceff9d"/>
              </a:gs>
              <a:gs pos="100000">
                <a:srgbClr val="6dd9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Цель  управле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1905120" y="1752480"/>
            <a:ext cx="2628720" cy="53352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2" name="Line 9"/>
          <p:cNvSpPr/>
          <p:nvPr/>
        </p:nvSpPr>
        <p:spPr>
          <a:xfrm flipV="1">
            <a:off x="4572000" y="1752480"/>
            <a:ext cx="2057400" cy="53352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2247840" y="3200400"/>
            <a:ext cx="4648320" cy="533520"/>
          </a:xfrm>
          <a:prstGeom prst="rect">
            <a:avLst/>
          </a:prstGeom>
          <a:gradFill rotWithShape="0">
            <a:gsLst>
              <a:gs pos="0">
                <a:srgbClr val="6dd9ff"/>
              </a:gs>
              <a:gs pos="50000">
                <a:srgbClr val="ceff9d"/>
              </a:gs>
              <a:gs pos="100000">
                <a:srgbClr val="6dd9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Управленческие взаимоотноше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3352680" y="2819520"/>
            <a:ext cx="0" cy="38088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5638680" y="2819520"/>
            <a:ext cx="0" cy="38088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33520" y="4038480"/>
            <a:ext cx="2590560" cy="266724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Целевые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Организационные: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материально -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технического обеспечения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экономико - финансовая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учета контроля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социальная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мотивация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533520" y="4495680"/>
            <a:ext cx="259056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10920" y="4114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Функции управлени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5943600" y="4038480"/>
            <a:ext cx="2819520" cy="2667240"/>
          </a:xfrm>
          <a:prstGeom prst="rect">
            <a:avLst/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buClr>
                <a:srgbClr val="46363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социальной направленности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законности в управленческой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деятельности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объективности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системности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комплексности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гласности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- коллегиальности и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единоначалия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5943600" y="4495680"/>
            <a:ext cx="2819520" cy="180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5878080" y="411480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Общие принципы управления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Line 20"/>
          <p:cNvSpPr/>
          <p:nvPr/>
        </p:nvSpPr>
        <p:spPr>
          <a:xfrm flipV="1">
            <a:off x="2590920" y="3733920"/>
            <a:ext cx="0" cy="3045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 flipV="1">
            <a:off x="6324480" y="3733920"/>
            <a:ext cx="0" cy="3045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447920" y="152280"/>
            <a:ext cx="6553080" cy="609840"/>
          </a:xfrm>
          <a:prstGeom prst="rect">
            <a:avLst/>
          </a:prstGeom>
          <a:gradFill rotWithShape="0">
            <a:gsLst>
              <a:gs pos="0">
                <a:srgbClr val="9de5ff"/>
              </a:gs>
              <a:gs pos="50000">
                <a:srgbClr val="d6ffc1"/>
              </a:gs>
              <a:gs pos="100000">
                <a:srgbClr val="9de5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63634"/>
                </a:solidFill>
                <a:latin typeface="Times New Roman"/>
              </a:rPr>
              <a:t>ПСИХОЛОГИЧЕСКИЕ КОНЦЕПЦИИ УПРАВЛЕНИЯ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838080" y="1295280"/>
            <a:ext cx="2819520" cy="609840"/>
          </a:xfrm>
          <a:prstGeom prst="rect">
            <a:avLst/>
          </a:prstGeom>
          <a:gradFill rotWithShape="0">
            <a:gsLst>
              <a:gs pos="0">
                <a:srgbClr val="9de5ff"/>
              </a:gs>
              <a:gs pos="50000">
                <a:srgbClr val="d6ffc1"/>
              </a:gs>
              <a:gs pos="100000">
                <a:srgbClr val="9de5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ЛИЧНОСТНЫЕ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181480" y="1295280"/>
            <a:ext cx="2819520" cy="609840"/>
          </a:xfrm>
          <a:prstGeom prst="rect">
            <a:avLst/>
          </a:prstGeom>
          <a:gradFill rotWithShape="0">
            <a:gsLst>
              <a:gs pos="0">
                <a:srgbClr val="9de5ff"/>
              </a:gs>
              <a:gs pos="50000">
                <a:srgbClr val="d6ffc1"/>
              </a:gs>
              <a:gs pos="100000">
                <a:srgbClr val="9de5ff"/>
              </a:gs>
            </a:gsLst>
            <a:lin ang="540000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СОЦИАЛЬНО-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3634"/>
                </a:solidFill>
                <a:latin typeface="Times New Roman"/>
              </a:rPr>
              <a:t>ПСИХОЛОГИЧЕСКИЕ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 rot="16200000">
            <a:off x="-761760" y="4190760"/>
            <a:ext cx="4114800" cy="609480"/>
          </a:xfrm>
          <a:prstGeom prst="rect">
            <a:avLst/>
          </a:prstGeom>
          <a:gradFill rotWithShape="0">
            <a:gsLst>
              <a:gs pos="0">
                <a:srgbClr val="75dbff"/>
              </a:gs>
              <a:gs pos="50000">
                <a:srgbClr val="b6ff6d"/>
              </a:gs>
              <a:gs pos="100000">
                <a:srgbClr val="75db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УПРАВЛЕНЧЕСКОЙ ДЕЯТЕЛЬНОСТИ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РУКОВОДИТЕЛ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 rot="16200000">
            <a:off x="990360" y="4190760"/>
            <a:ext cx="4114800" cy="609480"/>
          </a:xfrm>
          <a:prstGeom prst="rect">
            <a:avLst/>
          </a:prstGeom>
          <a:gradFill rotWithShape="0">
            <a:gsLst>
              <a:gs pos="0">
                <a:srgbClr val="75dbff"/>
              </a:gs>
              <a:gs pos="50000">
                <a:srgbClr val="b6ff6d"/>
              </a:gs>
              <a:gs pos="100000">
                <a:srgbClr val="75db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ОВЫШЕНИЕ ЛИЧНОСТНОГО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ПОТЕНЦИАЛА СОТРУДНИКОВ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 rot="16200000">
            <a:off x="3657600" y="4114800"/>
            <a:ext cx="4114800" cy="609840"/>
          </a:xfrm>
          <a:prstGeom prst="rect">
            <a:avLst/>
          </a:prstGeom>
          <a:gradFill rotWithShape="0">
            <a:gsLst>
              <a:gs pos="0">
                <a:srgbClr val="75dbff"/>
              </a:gs>
              <a:gs pos="50000">
                <a:srgbClr val="b6ff6d"/>
              </a:gs>
              <a:gs pos="100000">
                <a:srgbClr val="75db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НЕФОРМАЛЬНЫЕ ОТНОШЕНИЯ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В КОЛЛЕКТИВЕ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Rectangle 8"/>
          <p:cNvSpPr/>
          <p:nvPr/>
        </p:nvSpPr>
        <p:spPr>
          <a:xfrm rot="16200000">
            <a:off x="5410080" y="4114800"/>
            <a:ext cx="4114800" cy="609480"/>
          </a:xfrm>
          <a:prstGeom prst="rect">
            <a:avLst/>
          </a:prstGeom>
          <a:gradFill rotWithShape="0">
            <a:gsLst>
              <a:gs pos="0">
                <a:srgbClr val="75dbff"/>
              </a:gs>
              <a:gs pos="50000">
                <a:srgbClr val="b6ff6d"/>
              </a:gs>
              <a:gs pos="100000">
                <a:srgbClr val="75dbff"/>
              </a:gs>
            </a:gsLst>
            <a:lin ang="0"/>
          </a:gra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ВЗАИМООТНОШЕНИЯ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3634"/>
                </a:solidFill>
                <a:latin typeface="Times New Roman"/>
              </a:rPr>
              <a:t>РУКОВОДИТЕЛЯ С СОТРУДНИКАМИ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2438280" y="762120"/>
            <a:ext cx="0" cy="5331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1295280" y="1905120"/>
            <a:ext cx="0" cy="5331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3048120" y="1905120"/>
            <a:ext cx="0" cy="5331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5715000" y="190512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7467480" y="190512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6553080" y="762120"/>
            <a:ext cx="0" cy="53316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"/>
          <p:cNvSpPr/>
          <p:nvPr/>
        </p:nvSpPr>
        <p:spPr>
          <a:xfrm>
            <a:off x="1916280" y="447840"/>
            <a:ext cx="5375160" cy="27842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3683160" y="1436760"/>
            <a:ext cx="184284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2684520" y="2427120"/>
            <a:ext cx="3838680" cy="0"/>
          </a:xfrm>
          <a:prstGeom prst="line">
            <a:avLst/>
          </a:prstGeom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006440" y="2676600"/>
            <a:ext cx="119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рядовые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сотрудники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865680" y="1809720"/>
            <a:ext cx="147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руководители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подразделений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862800" y="838080"/>
            <a:ext cx="141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заместитель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руководителя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Line 8"/>
          <p:cNvSpPr/>
          <p:nvPr/>
        </p:nvSpPr>
        <p:spPr>
          <a:xfrm flipV="1">
            <a:off x="1379520" y="632880"/>
            <a:ext cx="2455920" cy="2475000"/>
          </a:xfrm>
          <a:prstGeom prst="line">
            <a:avLst/>
          </a:prstGeom>
          <a:ln w="1908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451080" y="806400"/>
            <a:ext cx="159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обязанности,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права,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ответственность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6687720" y="880920"/>
            <a:ext cx="160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управленческие 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3634"/>
                </a:solidFill>
                <a:latin typeface="Times New Roman"/>
              </a:rPr>
              <a:t>воздействия</a:t>
            </a:r>
            <a:endParaRPr b="0" lang="en-US" sz="1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5294160" y="571680"/>
            <a:ext cx="2535480" cy="2536560"/>
          </a:xfrm>
          <a:prstGeom prst="line">
            <a:avLst/>
          </a:prstGeom>
          <a:ln w="19080">
            <a:solidFill>
              <a:srgbClr val="463634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3529440" y="76320"/>
            <a:ext cx="23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63634"/>
                </a:solidFill>
                <a:latin typeface="Times New Roman"/>
              </a:rPr>
              <a:t>РУКОВОДИТЕЛЬ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89080" y="4610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533520" y="3657600"/>
          <a:ext cx="7772400" cy="306720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Необходимые технологии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6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личный пример руководителя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передача максимума функции вниз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отказ от единоличного стиля управления 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привлечение инициативных работников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сплочение коллектива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создание здорового морально-психологического климата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совершенствование подсистем;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795241"/>
                        </a:buClr>
                        <a:buSzPct val="6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463634"/>
                          </a:solidFill>
                          <a:latin typeface="Times New Roman"/>
                        </a:rPr>
                        <a:t>предоставление разумной самостоятельности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Line 39"/>
          <p:cNvSpPr/>
          <p:nvPr/>
        </p:nvSpPr>
        <p:spPr>
          <a:xfrm flipV="1">
            <a:off x="2514600" y="320040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1" name="Line 40"/>
          <p:cNvSpPr/>
          <p:nvPr/>
        </p:nvSpPr>
        <p:spPr>
          <a:xfrm flipV="1">
            <a:off x="4572000" y="320040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2" name="Line 41"/>
          <p:cNvSpPr/>
          <p:nvPr/>
        </p:nvSpPr>
        <p:spPr>
          <a:xfrm flipV="1">
            <a:off x="6553080" y="3200400"/>
            <a:ext cx="0" cy="4572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58:18Z</dcterms:modified>
  <cp:revision>8</cp:revision>
  <dc:subject/>
  <dc:title>PowerPoint Presentation</dc:title>
</cp:coreProperties>
</file>