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691-A52C-445B-9AB9-E3D55956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76A-9247-4613-BCD9-4CCA850A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44B-306C-49E8-A90C-CF117F74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8CE-C03C-47F0-8C5D-3653D747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0248-58AA-481E-BFC7-5607A1E9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3A64-EB94-4A86-85AE-CD43989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0E8-E7B6-45D1-AEF4-150BDB2F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B59-14A6-42A7-A3CD-D54F240C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59D-99AD-4FCB-8B26-3654D63B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5B9-C002-4796-81AF-A82A7C02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818-56A7-48D5-A9E0-BA07C5B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A73-9879-4CD5-8761-D7429C91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2CBC-FC40-49F9-93B4-246DFD695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320" y="1219320"/>
            <a:ext cx="90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6. Психология взаимодействия и общения в малых групп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2280" y="190512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понимать психологию взаимодействия и общ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алых группах, их значения для совместной деятельности и жизни люд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00960" y="2743200"/>
            <a:ext cx="41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94560" y="3276720"/>
            <a:ext cx="5485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ность взаимодействия, его уровни и ти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начение и сущность об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и и виды об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редства и психологическая структура об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и критерии удовлетворенности общени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бенности общения в современном мире и его сти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31920" y="4876920"/>
            <a:ext cx="8597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533520" y="152280"/>
            <a:ext cx="81532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3. Социальная психология 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малых групп.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95480" y="1828800"/>
            <a:ext cx="3353040" cy="3124080"/>
          </a:xfrm>
          <a:prstGeom prst="diamond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3200400" y="4952880"/>
            <a:ext cx="2895480" cy="16765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ационно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евой компонен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6248520" y="2514600"/>
            <a:ext cx="2895480" cy="16765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ак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0" y="2590920"/>
            <a:ext cx="2895480" cy="167616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цептив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3124080" y="152280"/>
            <a:ext cx="2895840" cy="167652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ор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2133720" y="152280"/>
            <a:ext cx="4876560" cy="5943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2362320" y="55627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25800" y="5638680"/>
            <a:ext cx="31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РОВНИ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3505320" y="2666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2895480" y="419112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621600" y="4600440"/>
            <a:ext cx="15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тиче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2666880" y="4800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3416760" y="3305160"/>
            <a:ext cx="23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формацио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976920" y="18050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духов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80988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048120" y="2895480"/>
            <a:ext cx="3047760" cy="106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И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ДОВЛЕТВОРЕН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ЩЕН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7"/>
          <p:cNvSpPr/>
          <p:nvPr/>
        </p:nvSpPr>
        <p:spPr>
          <a:xfrm flipH="1" flipV="1">
            <a:off x="990720" y="4494960"/>
            <a:ext cx="2743200" cy="1219320"/>
          </a:xfrm>
          <a:prstGeom prst="wedgeEllipseCallout">
            <a:avLst>
              <a:gd name="adj1" fmla="val -59722"/>
              <a:gd name="adj2" fmla="val 36976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стимуля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8"/>
          <p:cNvSpPr/>
          <p:nvPr/>
        </p:nvSpPr>
        <p:spPr>
          <a:xfrm flipV="1">
            <a:off x="5181480" y="4571280"/>
            <a:ext cx="2819520" cy="1143000"/>
          </a:xfrm>
          <a:prstGeom prst="wedgeEllipseCallout">
            <a:avLst>
              <a:gd name="adj1" fmla="val -51523"/>
              <a:gd name="adj2" fmla="val 43750"/>
            </a:avLst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структурировании време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rc 11"/>
          <p:cNvSpPr/>
          <p:nvPr/>
        </p:nvSpPr>
        <p:spPr>
          <a:xfrm rot="16200000">
            <a:off x="4476600" y="3447720"/>
            <a:ext cx="228600" cy="1257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"/>
          <p:cNvSpPr/>
          <p:nvPr/>
        </p:nvSpPr>
        <p:spPr>
          <a:xfrm>
            <a:off x="396252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5181480" y="41148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18"/>
          <p:cNvSpPr/>
          <p:nvPr/>
        </p:nvSpPr>
        <p:spPr>
          <a:xfrm flipH="1" flipV="1">
            <a:off x="380520" y="1218600"/>
            <a:ext cx="2743200" cy="1143000"/>
          </a:xfrm>
          <a:prstGeom prst="wedgeEllipseCallout">
            <a:avLst>
              <a:gd name="adj1" fmla="val -45254"/>
              <a:gd name="adj2" fmla="val -4875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ыт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9"/>
          <p:cNvSpPr/>
          <p:nvPr/>
        </p:nvSpPr>
        <p:spPr>
          <a:xfrm flipH="1" flipV="1">
            <a:off x="3352680" y="1218600"/>
            <a:ext cx="2743200" cy="1066680"/>
          </a:xfrm>
          <a:prstGeom prst="wedgeEllipseCallout">
            <a:avLst>
              <a:gd name="adj1" fmla="val 5092"/>
              <a:gd name="adj2" fmla="val -6532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узнав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20"/>
          <p:cNvSpPr/>
          <p:nvPr/>
        </p:nvSpPr>
        <p:spPr>
          <a:xfrm flipH="1" flipV="1">
            <a:off x="6400800" y="1142280"/>
            <a:ext cx="2743200" cy="1219320"/>
          </a:xfrm>
          <a:prstGeom prst="wedgeEllipseCallout">
            <a:avLst>
              <a:gd name="adj1" fmla="val 54685"/>
              <a:gd name="adj2" fmla="val -38412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требность в достижении и призн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77724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 flipH="1" flipV="1">
            <a:off x="1676160" y="236196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9"/>
          <p:cNvSpPr/>
          <p:nvPr/>
        </p:nvSpPr>
        <p:spPr>
          <a:xfrm flipV="1">
            <a:off x="45720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AutoShape 30"/>
          <p:cNvCxnSpPr>
            <a:stCxn id="242" idx="0"/>
            <a:endCxn id="241" idx="0"/>
          </p:cNvCxnSpPr>
          <p:nvPr/>
        </p:nvCxnSpPr>
        <p:spPr>
          <a:xfrm flipV="1" rot="16200000">
            <a:off x="2933280" y="1256400"/>
            <a:ext cx="457920" cy="2820240"/>
          </a:xfrm>
          <a:prstGeom prst="curvedConnector5">
            <a:avLst>
              <a:gd name="adj1" fmla="val 49960"/>
              <a:gd name="adj2" fmla="val 49993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AutoShape 31"/>
          <p:cNvCxnSpPr>
            <a:stCxn id="242" idx="0"/>
            <a:endCxn id="239" idx="0"/>
          </p:cNvCxnSpPr>
          <p:nvPr/>
        </p:nvCxnSpPr>
        <p:spPr>
          <a:xfrm flipH="1" flipV="1" rot="5400000">
            <a:off x="5905440" y="1028160"/>
            <a:ext cx="533880" cy="3201120"/>
          </a:xfrm>
          <a:prstGeom prst="curvedConnector5">
            <a:avLst>
              <a:gd name="adj1" fmla="val 57085"/>
              <a:gd name="adj2" fmla="val 49994"/>
              <a:gd name="adj3" fmla="val 57085"/>
            </a:avLst>
          </a:prstGeom>
          <a:ln w="9360">
            <a:solidFill>
              <a:srgbClr val="000000"/>
            </a:solidFill>
            <a:miter/>
          </a:ln>
        </p:spPr>
      </p:cxn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219320" y="914400"/>
            <a:ext cx="670536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ОБЩЕНИЯ В СОВРЕМЕННОМ МИ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365760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505320" y="3657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886200" y="23623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ов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538440" y="3352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осредованно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276720" y="43434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276720" y="4724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200400" y="5105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296520" y="39909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иворечие меж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2971800" y="4419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ой, средствам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048120" y="48006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ем, глубино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3809880" y="5486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3963240" y="51814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2819520" y="5867280"/>
            <a:ext cx="3657600" cy="762120"/>
          </a:xfrm>
          <a:prstGeom prst="flowChartDecision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зиобщ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2"/>
          <p:cNvSpPr/>
          <p:nvPr/>
        </p:nvSpPr>
        <p:spPr>
          <a:xfrm flipH="1">
            <a:off x="6476760" y="1523880"/>
            <a:ext cx="1447560" cy="46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3"/>
          <p:cNvSpPr/>
          <p:nvPr/>
        </p:nvSpPr>
        <p:spPr>
          <a:xfrm>
            <a:off x="1219320" y="1523880"/>
            <a:ext cx="1600200" cy="472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1219320" y="1523880"/>
            <a:ext cx="190476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1219320" y="1523880"/>
            <a:ext cx="2286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219320" y="152388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27"/>
          <p:cNvSpPr/>
          <p:nvPr/>
        </p:nvSpPr>
        <p:spPr>
          <a:xfrm flipH="1">
            <a:off x="5943240" y="1523880"/>
            <a:ext cx="1981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8"/>
          <p:cNvSpPr/>
          <p:nvPr/>
        </p:nvSpPr>
        <p:spPr>
          <a:xfrm flipH="1">
            <a:off x="5638680" y="1523880"/>
            <a:ext cx="22860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9"/>
          <p:cNvSpPr/>
          <p:nvPr/>
        </p:nvSpPr>
        <p:spPr>
          <a:xfrm flipH="1">
            <a:off x="5257800" y="1523880"/>
            <a:ext cx="2666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3"/>
          <p:cNvSpPr/>
          <p:nvPr/>
        </p:nvSpPr>
        <p:spPr>
          <a:xfrm>
            <a:off x="3276720" y="2819520"/>
            <a:ext cx="2514600" cy="2666880"/>
          </a:xfrm>
          <a:prstGeom prst="triangle">
            <a:avLst>
              <a:gd name="adj" fmla="val 51134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И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1066680" y="60958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807732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7"/>
          <p:cNvSpPr/>
          <p:nvPr/>
        </p:nvSpPr>
        <p:spPr>
          <a:xfrm flipV="1">
            <a:off x="10666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1066320" y="762120"/>
            <a:ext cx="342900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4495680" y="762120"/>
            <a:ext cx="358164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477240" y="233856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итуально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1108440" y="561492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анипулятивное 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5133240" y="558324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уманистическое 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>
            <a:off x="2209680" y="495288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7"/>
          <p:cNvSpPr/>
          <p:nvPr/>
        </p:nvSpPr>
        <p:spPr>
          <a:xfrm>
            <a:off x="52578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8"/>
          <p:cNvSpPr/>
          <p:nvPr/>
        </p:nvSpPr>
        <p:spPr>
          <a:xfrm flipV="1">
            <a:off x="4572000" y="266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276720" y="22860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екающе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257800" y="99072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6172200" y="205740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71600" y="99072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80880" y="1981080"/>
            <a:ext cx="2514600" cy="38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пер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276720" y="1981080"/>
            <a:ext cx="2514600" cy="12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3276720" y="2590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3123360" y="2085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ЗАИМОДЕЙСТВ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449568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3476880" y="271944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4434120" y="27194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3276720" y="4648320"/>
            <a:ext cx="2514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1219320" y="51814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1219320" y="51814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3657600" y="5334120"/>
            <a:ext cx="1600200" cy="304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8"/>
          <p:cNvSpPr/>
          <p:nvPr/>
        </p:nvSpPr>
        <p:spPr>
          <a:xfrm>
            <a:off x="2209680" y="60958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тер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6172200" y="5257800"/>
            <a:ext cx="1600200" cy="30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24"/>
          <p:cNvSpPr/>
          <p:nvPr/>
        </p:nvSpPr>
        <p:spPr>
          <a:xfrm>
            <a:off x="2895480" y="2590920"/>
            <a:ext cx="38124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>
            <a:off x="3200400" y="464832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6"/>
          <p:cNvSpPr/>
          <p:nvPr/>
        </p:nvSpPr>
        <p:spPr>
          <a:xfrm flipV="1">
            <a:off x="3200400" y="2590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27"/>
          <p:cNvSpPr/>
          <p:nvPr/>
        </p:nvSpPr>
        <p:spPr>
          <a:xfrm flipH="1">
            <a:off x="5791320" y="2590920"/>
            <a:ext cx="457200" cy="2209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H="1">
            <a:off x="5790960" y="464832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 flipH="1" flipV="1">
            <a:off x="5790960" y="2590560"/>
            <a:ext cx="75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0"/>
          <p:cNvSpPr/>
          <p:nvPr/>
        </p:nvSpPr>
        <p:spPr>
          <a:xfrm flipH="1">
            <a:off x="1980720" y="502920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 flipH="1">
            <a:off x="2971440" y="5029200"/>
            <a:ext cx="6858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32"/>
          <p:cNvSpPr/>
          <p:nvPr/>
        </p:nvSpPr>
        <p:spPr>
          <a:xfrm>
            <a:off x="44197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33"/>
          <p:cNvSpPr/>
          <p:nvPr/>
        </p:nvSpPr>
        <p:spPr>
          <a:xfrm>
            <a:off x="5486400" y="502920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5486400" y="502920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5"/>
          <p:cNvSpPr/>
          <p:nvPr/>
        </p:nvSpPr>
        <p:spPr>
          <a:xfrm>
            <a:off x="57913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2895120" y="2209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38"/>
          <p:cNvSpPr/>
          <p:nvPr/>
        </p:nvSpPr>
        <p:spPr>
          <a:xfrm flipV="1">
            <a:off x="5334120" y="13712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40"/>
          <p:cNvSpPr/>
          <p:nvPr/>
        </p:nvSpPr>
        <p:spPr>
          <a:xfrm flipH="1" flipV="1">
            <a:off x="2895480" y="13712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41"/>
          <p:cNvSpPr/>
          <p:nvPr/>
        </p:nvSpPr>
        <p:spPr>
          <a:xfrm flipV="1">
            <a:off x="4495680" y="609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2"/>
          <p:cNvSpPr/>
          <p:nvPr/>
        </p:nvSpPr>
        <p:spPr>
          <a:xfrm rot="19518600">
            <a:off x="2973240" y="3504960"/>
            <a:ext cx="108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ербаль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речево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3"/>
          <p:cNvSpPr/>
          <p:nvPr/>
        </p:nvSpPr>
        <p:spPr>
          <a:xfrm rot="19500000">
            <a:off x="4953960" y="3504600"/>
            <a:ext cx="121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вербаль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еречевое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5"/>
          <p:cNvSpPr/>
          <p:nvPr/>
        </p:nvSpPr>
        <p:spPr>
          <a:xfrm>
            <a:off x="226080" y="760320"/>
            <a:ext cx="6916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йте характеристику понятия «взаимодействие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уровни взаимодействия  и раскройте его тип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определяется процесс общ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характеризуйте основные функции и виды общ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отличаются вербальные средства общения от невербаль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а психологическая структура общен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уровни отношения выделяются и в чем их отличие друг от друг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 чего зависит удовлетворенность общением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чем связаны особенности общения в современном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кройте содержание различных стилей общ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-211680" y="4280040"/>
            <a:ext cx="97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зменения, с вашей точки зрения, произошли в общении студентов 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они могут дальше поменяться? Почему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     Какие критерии удовлетворенности общением вы могли бы добавить к обозначенным в тем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WordArt 10"/>
          <p:cNvSpPr txBox="1"/>
          <p:nvPr/>
        </p:nvSpPr>
        <p:spPr>
          <a:xfrm>
            <a:off x="2286000" y="152280"/>
            <a:ext cx="42670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опросы для самоконтроля: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8" name="WordArt 11"/>
          <p:cNvSpPr txBox="1"/>
          <p:nvPr/>
        </p:nvSpPr>
        <p:spPr>
          <a:xfrm>
            <a:off x="2743200" y="3733920"/>
            <a:ext cx="35053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Вопросы для обсуждения: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609480"/>
            <a:ext cx="609840" cy="5562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57200" y="762120"/>
            <a:ext cx="455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800600" y="609480"/>
            <a:ext cx="2819520" cy="762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800600" y="2057400"/>
            <a:ext cx="2819520" cy="76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4800600" y="5410080"/>
            <a:ext cx="2819520" cy="7621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800600" y="3809880"/>
            <a:ext cx="281952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706640" y="647640"/>
            <a:ext cx="30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ание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4966200" y="2095560"/>
            <a:ext cx="24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иль взаимодейств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725720" y="386244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 стиля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808880" y="541512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терии понимания сти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 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685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685800" y="6477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257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8"/>
          <p:cNvSpPr/>
          <p:nvPr/>
        </p:nvSpPr>
        <p:spPr>
          <a:xfrm flipV="1">
            <a:off x="525780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0"/>
          <p:cNvSpPr/>
          <p:nvPr/>
        </p:nvSpPr>
        <p:spPr>
          <a:xfrm>
            <a:off x="685800" y="304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1"/>
          <p:cNvSpPr/>
          <p:nvPr/>
        </p:nvSpPr>
        <p:spPr>
          <a:xfrm>
            <a:off x="685800" y="304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2"/>
          <p:cNvSpPr/>
          <p:nvPr/>
        </p:nvSpPr>
        <p:spPr>
          <a:xfrm>
            <a:off x="5257800" y="304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3"/>
          <p:cNvSpPr/>
          <p:nvPr/>
        </p:nvSpPr>
        <p:spPr>
          <a:xfrm>
            <a:off x="7162920" y="1371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4"/>
          <p:cNvSpPr/>
          <p:nvPr/>
        </p:nvSpPr>
        <p:spPr>
          <a:xfrm>
            <a:off x="6095880" y="2819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5"/>
          <p:cNvSpPr/>
          <p:nvPr/>
        </p:nvSpPr>
        <p:spPr>
          <a:xfrm>
            <a:off x="609588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1371600" y="685800"/>
            <a:ext cx="2133720" cy="533520"/>
          </a:xfrm>
          <a:prstGeom prst="pi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8"/>
          <p:cNvSpPr/>
          <p:nvPr/>
        </p:nvSpPr>
        <p:spPr>
          <a:xfrm>
            <a:off x="1371600" y="2133720"/>
            <a:ext cx="2133720" cy="533160"/>
          </a:xfrm>
          <a:prstGeom prst="pi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666880" y="228600"/>
            <a:ext cx="381024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е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666880" y="5638680"/>
            <a:ext cx="381024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е люд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>
            <a:off x="4572000" y="11430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09480" y="16002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791320" y="16002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219320" y="2057400"/>
            <a:ext cx="1371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477120" y="2057400"/>
            <a:ext cx="137160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060560" y="16527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095880" y="167652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групп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26240" y="203364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745320" y="2033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09480" y="2438280"/>
            <a:ext cx="274320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ичие  це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ступ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флексивна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гозна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>
            <a:off x="7621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7621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8"/>
          <p:cNvSpPr/>
          <p:nvPr/>
        </p:nvSpPr>
        <p:spPr>
          <a:xfrm>
            <a:off x="76212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5791320" y="2438280"/>
            <a:ext cx="2743200" cy="1905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801400" y="2567160"/>
            <a:ext cx="195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и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и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зкий уров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2"/>
          <p:cNvSpPr/>
          <p:nvPr/>
        </p:nvSpPr>
        <p:spPr>
          <a:xfrm>
            <a:off x="784872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78487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4"/>
          <p:cNvSpPr/>
          <p:nvPr/>
        </p:nvSpPr>
        <p:spPr>
          <a:xfrm>
            <a:off x="78487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609480" y="4572000"/>
            <a:ext cx="274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609480" y="45720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1060560" y="46245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5791320" y="4572000"/>
            <a:ext cx="274320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5880" y="464832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групп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1"/>
          <p:cNvSpPr/>
          <p:nvPr/>
        </p:nvSpPr>
        <p:spPr>
          <a:xfrm flipH="1" flipV="1">
            <a:off x="1828800" y="5028840"/>
            <a:ext cx="27432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2"/>
          <p:cNvSpPr/>
          <p:nvPr/>
        </p:nvSpPr>
        <p:spPr>
          <a:xfrm flipH="1">
            <a:off x="1905120" y="114300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33"/>
          <p:cNvSpPr/>
          <p:nvPr/>
        </p:nvSpPr>
        <p:spPr>
          <a:xfrm>
            <a:off x="4572000" y="114300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34"/>
          <p:cNvSpPr/>
          <p:nvPr/>
        </p:nvSpPr>
        <p:spPr>
          <a:xfrm flipV="1">
            <a:off x="4572000" y="50288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2280" y="304920"/>
            <a:ext cx="685800" cy="6400800"/>
          </a:xfrm>
          <a:prstGeom prst="upArrow">
            <a:avLst>
              <a:gd name="adj1" fmla="val 50000"/>
              <a:gd name="adj2" fmla="val 233333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990720" y="380880"/>
            <a:ext cx="33526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ший уровень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90720" y="2590920"/>
            <a:ext cx="33526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едний уровень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90720" y="4724280"/>
            <a:ext cx="33526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ьный (низки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ровень 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867280" y="228600"/>
            <a:ext cx="243864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ное взаимопоним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867280" y="762120"/>
            <a:ext cx="2438640" cy="380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е со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5867280" y="1447920"/>
            <a:ext cx="243864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ое влия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ей друг на дру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867280" y="2209680"/>
            <a:ext cx="2438640" cy="457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ивная совместна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5867280" y="2971800"/>
            <a:ext cx="243864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участие и конгруэн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тнеров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взаимодейств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5867280" y="3962520"/>
            <a:ext cx="2438640" cy="685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или неприня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дьми друг дру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867280" y="4952880"/>
            <a:ext cx="2438640" cy="38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867280" y="5638680"/>
            <a:ext cx="2438640" cy="38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вичные контак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5"/>
          <p:cNvSpPr/>
          <p:nvPr/>
        </p:nvSpPr>
        <p:spPr>
          <a:xfrm flipH="1">
            <a:off x="5562720" y="380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55627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5562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55627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5562720" y="4343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55627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H="1">
            <a:off x="5562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2"/>
          <p:cNvSpPr/>
          <p:nvPr/>
        </p:nvSpPr>
        <p:spPr>
          <a:xfrm flipH="1">
            <a:off x="5562720" y="1676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 flipH="1">
            <a:off x="5562720" y="914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434340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5"/>
          <p:cNvSpPr/>
          <p:nvPr/>
        </p:nvSpPr>
        <p:spPr>
          <a:xfrm>
            <a:off x="4343400" y="3048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6"/>
          <p:cNvSpPr/>
          <p:nvPr/>
        </p:nvSpPr>
        <p:spPr>
          <a:xfrm>
            <a:off x="434340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7"/>
          <p:cNvSpPr/>
          <p:nvPr/>
        </p:nvSpPr>
        <p:spPr>
          <a:xfrm>
            <a:off x="304920" y="67057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2438280" y="63244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Динамика   социального   взаимо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0"/>
          <p:cNvSpPr/>
          <p:nvPr/>
        </p:nvSpPr>
        <p:spPr>
          <a:xfrm flipV="1">
            <a:off x="25146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1"/>
          <p:cNvSpPr/>
          <p:nvPr/>
        </p:nvSpPr>
        <p:spPr>
          <a:xfrm flipV="1">
            <a:off x="25146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>
            <a:off x="3276720" y="2666880"/>
            <a:ext cx="2590560" cy="1524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85800" y="1828800"/>
            <a:ext cx="7924680" cy="60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результатив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09480" y="4419720"/>
            <a:ext cx="7925040" cy="609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намерениям и действиям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2120" y="304920"/>
            <a:ext cx="220968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пер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095880" y="304920"/>
            <a:ext cx="221004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09480" y="5715000"/>
            <a:ext cx="221004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полн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581280" y="5715000"/>
            <a:ext cx="2210040" cy="8380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секающее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477120" y="5715000"/>
            <a:ext cx="2209680" cy="8380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1752480" y="5029200"/>
            <a:ext cx="2895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464832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4419720" y="5029200"/>
            <a:ext cx="3047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4"/>
          <p:cNvSpPr/>
          <p:nvPr/>
        </p:nvSpPr>
        <p:spPr>
          <a:xfrm flipH="1" flipV="1">
            <a:off x="1828800" y="114264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 flipV="1">
            <a:off x="4572000" y="114264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600200" y="2743200"/>
            <a:ext cx="380880" cy="1295280"/>
          </a:xfrm>
          <a:prstGeom prst="upDownArrow">
            <a:avLst>
              <a:gd name="adj1" fmla="val 50000"/>
              <a:gd name="adj2" fmla="val 67700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7086600" y="2743200"/>
            <a:ext cx="380880" cy="1295280"/>
          </a:xfrm>
          <a:prstGeom prst="upDownArrow">
            <a:avLst>
              <a:gd name="adj1" fmla="val 50000"/>
              <a:gd name="adj2" fmla="val 67700"/>
            </a:avLst>
          </a:prstGeom>
          <a:gradFill rotWithShape="0">
            <a:gsLst>
              <a:gs pos="0">
                <a:srgbClr val="ffebfa"/>
              </a:gs>
              <a:gs pos="100000">
                <a:srgbClr val="ffebf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905120" y="6858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НЯТИЕ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905120" y="34290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достижения измен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сихике участвующих в общении ли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905120" y="1523880"/>
            <a:ext cx="533376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взаимодействия 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1905120" y="25146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воздействия на люд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905120" y="4495680"/>
            <a:ext cx="5333760" cy="6098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сс обмена не только физическими действиями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 и мысл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905120" y="5486400"/>
            <a:ext cx="5333760" cy="609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ЩНОСТЬ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1371600" y="914400"/>
            <a:ext cx="533520" cy="4952880"/>
          </a:xfrm>
          <a:custGeom>
            <a:avLst/>
            <a:gdLst>
              <a:gd name="textAreaLeft" fmla="*/ 156600 w 533520"/>
              <a:gd name="textAreaRight" fmla="*/ 533880 w 533520"/>
              <a:gd name="textAreaTop" fmla="*/ 206280 h 4952880"/>
              <a:gd name="textAreaBottom" fmla="*/ 4746600 h 49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7238880" y="990720"/>
            <a:ext cx="457200" cy="4876560"/>
          </a:xfrm>
          <a:custGeom>
            <a:avLst/>
            <a:gdLst>
              <a:gd name="textAreaLeft" fmla="*/ 0 w 457200"/>
              <a:gd name="textAreaRight" fmla="*/ 320760 w 457200"/>
              <a:gd name="textAreaTop" fmla="*/ 203040 h 4876560"/>
              <a:gd name="textAreaBottom" fmla="*/ 467352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124080" y="2743200"/>
            <a:ext cx="2971800" cy="106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УНКЦИЯ ОБЩ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705720" y="2971800"/>
            <a:ext cx="213336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твер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09480" y="29718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лачива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219320" y="4343400"/>
            <a:ext cx="213336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гмат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5867280" y="43434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581280" y="563868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я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143000" y="11430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терминирующ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943600" y="114300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утриличност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581280" y="380880"/>
            <a:ext cx="2133720" cy="533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4572000" y="3809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4"/>
          <p:cNvSpPr/>
          <p:nvPr/>
        </p:nvSpPr>
        <p:spPr>
          <a:xfrm flipH="1">
            <a:off x="27432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60958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457200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0"/>
          <p:cNvSpPr/>
          <p:nvPr/>
        </p:nvSpPr>
        <p:spPr>
          <a:xfrm flipH="1">
            <a:off x="2209320" y="38098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5257800" y="380988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2"/>
          <p:cNvSpPr/>
          <p:nvPr/>
        </p:nvSpPr>
        <p:spPr>
          <a:xfrm flipV="1">
            <a:off x="5257800" y="167616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3"/>
          <p:cNvSpPr/>
          <p:nvPr/>
        </p:nvSpPr>
        <p:spPr>
          <a:xfrm flipH="1" flipV="1">
            <a:off x="2133720" y="167616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228600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ДЫ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2952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б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85800" y="17524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верб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638680" y="12952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5638680" y="175248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85800" y="25909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личнос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85800" y="30481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ссо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685800" y="38862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персона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85800" y="43434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лев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85800" y="52578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вер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85800" y="57150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5638680" y="25909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5638680" y="30481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осредова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5638680" y="39625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ч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5638680" y="441972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закончен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5638680" y="52578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тковременно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5638680" y="5715000"/>
            <a:ext cx="2743200" cy="4572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0"/>
          <p:cNvSpPr/>
          <p:nvPr/>
        </p:nvSpPr>
        <p:spPr>
          <a:xfrm flipH="1">
            <a:off x="205704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1"/>
          <p:cNvSpPr/>
          <p:nvPr/>
        </p:nvSpPr>
        <p:spPr>
          <a:xfrm>
            <a:off x="457200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20574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20574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20574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5"/>
          <p:cNvSpPr/>
          <p:nvPr/>
        </p:nvSpPr>
        <p:spPr>
          <a:xfrm>
            <a:off x="7086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6"/>
          <p:cNvSpPr/>
          <p:nvPr/>
        </p:nvSpPr>
        <p:spPr>
          <a:xfrm>
            <a:off x="7086600" y="3505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708660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3429000" y="5791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8600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РЕДСТВА ОБ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85800" y="129528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че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ербальны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685800" y="236232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е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чи 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5800" y="342900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а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85800" y="4572000"/>
            <a:ext cx="27432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ункции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9"/>
          <p:cNvSpPr/>
          <p:nvPr/>
        </p:nvSpPr>
        <p:spPr>
          <a:xfrm flipH="1">
            <a:off x="205704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0"/>
          <p:cNvSpPr/>
          <p:nvPr/>
        </p:nvSpPr>
        <p:spPr>
          <a:xfrm>
            <a:off x="4572000" y="9144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0574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20574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>
            <a:off x="20574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8"/>
          <p:cNvSpPr/>
          <p:nvPr/>
        </p:nvSpPr>
        <p:spPr>
          <a:xfrm>
            <a:off x="685800" y="5638680"/>
            <a:ext cx="27432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ы реч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язы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20574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9"/>
          <p:cNvSpPr/>
          <p:nvPr/>
        </p:nvSpPr>
        <p:spPr>
          <a:xfrm>
            <a:off x="5715000" y="129528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чев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евербальны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0"/>
          <p:cNvSpPr/>
          <p:nvPr/>
        </p:nvSpPr>
        <p:spPr>
          <a:xfrm>
            <a:off x="5715000" y="236232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зу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5715000" y="3429000"/>
            <a:ext cx="2743200" cy="6858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уст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2"/>
          <p:cNvSpPr/>
          <p:nvPr/>
        </p:nvSpPr>
        <p:spPr>
          <a:xfrm>
            <a:off x="5715000" y="4572000"/>
            <a:ext cx="2743200" cy="6094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тильно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нестез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3"/>
          <p:cNvSpPr/>
          <p:nvPr/>
        </p:nvSpPr>
        <p:spPr>
          <a:xfrm>
            <a:off x="7086600" y="1981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4"/>
          <p:cNvSpPr/>
          <p:nvPr/>
        </p:nvSpPr>
        <p:spPr>
          <a:xfrm>
            <a:off x="70866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5"/>
          <p:cNvSpPr/>
          <p:nvPr/>
        </p:nvSpPr>
        <p:spPr>
          <a:xfrm>
            <a:off x="70866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6"/>
          <p:cNvSpPr/>
          <p:nvPr/>
        </p:nvSpPr>
        <p:spPr>
          <a:xfrm>
            <a:off x="5715000" y="5638680"/>
            <a:ext cx="2743200" cy="6098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льфактор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7"/>
          <p:cNvSpPr/>
          <p:nvPr/>
        </p:nvSpPr>
        <p:spPr>
          <a:xfrm>
            <a:off x="70866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8"/>
          <p:cNvSpPr/>
          <p:nvPr/>
        </p:nvSpPr>
        <p:spPr>
          <a:xfrm>
            <a:off x="1299240" y="19810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характерис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9"/>
          <p:cNvSpPr/>
          <p:nvPr/>
        </p:nvSpPr>
        <p:spPr>
          <a:xfrm>
            <a:off x="6783840" y="198108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3:50Z</dcterms:modified>
  <cp:revision>10</cp:revision>
  <dc:subject/>
  <dc:title>PowerPoint Presentation</dc:title>
</cp:coreProperties>
</file>