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F7C0-44C8-444B-8F3B-EAD22D53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FC0-4168-4B30-A4DD-60AB12D1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8695-2A0A-41BB-A9B6-3E987AED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E68-AEE7-47D5-9EBF-5C54ACAB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195-ABA4-4709-B2FD-29E614F9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232-2C96-4ED9-BA26-8A224C18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2AA-7352-4382-9B92-01E07D61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4A8-984C-4777-8DB3-B62E61AE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144-EF1E-4E26-AEA8-6747641B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280-F5FA-484B-8539-2B5F2D59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D10-E353-470C-ADEF-95C688F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C7E-A7F7-4007-ACDD-880698DD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7B2A-A4C3-4677-BB0E-87F5DEBB48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Раздел 3. Социальная психология</a:t>
            </a:r>
            <a:br>
              <a:rPr sz="2800"/>
            </a:b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Swis721 Cn BT"/>
              </a:rPr>
              <a:t>Тема 3.3.  Лидерство как социально психологический феном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1523880"/>
            <a:ext cx="83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е о том, кто такой лидер, что характеризует процесс лидерства и в чём его отличие от руковод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33520" y="2666880"/>
            <a:ext cx="79246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4d4d4d"/>
                </a:solidFill>
                <a:uFillTx/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. Лидерство и руководство в малых групп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. Теории лидерств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3. Я-концепция лидера, его психологические потребности и мотив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4. Власть и авторитет лиде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5. Психологические типы лидеров, стили и приёмы поведения в групп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80880" y="4572000"/>
            <a:ext cx="85345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2895480"/>
            <a:ext cx="3200400" cy="8254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ия трактовки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457200"/>
            <a:ext cx="2590920" cy="429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телеолог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14600" y="1066680"/>
            <a:ext cx="2819520" cy="429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онфронтационн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29000" y="1752480"/>
            <a:ext cx="3048120" cy="429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бихевиорист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800600" y="2514600"/>
            <a:ext cx="2590920" cy="429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сихолог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952880" y="3733920"/>
            <a:ext cx="1828800" cy="4291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истемн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429000" y="4343400"/>
            <a:ext cx="2971800" cy="429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коммуникационн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057400" y="4952880"/>
            <a:ext cx="3657600" cy="764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структурно - функционалист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09480" y="6019920"/>
            <a:ext cx="3429000" cy="4291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реляционистическо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752480" y="3886200"/>
            <a:ext cx="3048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1752480" y="3886200"/>
            <a:ext cx="1600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1752480" y="3886200"/>
            <a:ext cx="6098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 flipH="1">
            <a:off x="1295280" y="3886200"/>
            <a:ext cx="4572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1828800" y="2743200"/>
            <a:ext cx="2819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 flipV="1">
            <a:off x="1828800" y="198072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1828800" y="159984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 flipH="1" flipV="1">
            <a:off x="1523520" y="990720"/>
            <a:ext cx="3049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685800"/>
          <a:ext cx="6172200" cy="564660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войства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ый харак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имметри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ая детерм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ресурсов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а исполните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ный характ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ff"/>
                        </a:gs>
                        <a:gs pos="50000">
                          <a:srgbClr val="99ccff"/>
                        </a:gs>
                        <a:gs pos="100000">
                          <a:srgbClr val="ccffff"/>
                        </a:gs>
                      </a:gsLst>
                      <a:lin ang="0"/>
                    </a:gra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ность властной детерминации повед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Line 80"/>
          <p:cNvSpPr/>
          <p:nvPr/>
        </p:nvSpPr>
        <p:spPr>
          <a:xfrm>
            <a:off x="380988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1"/>
          <p:cNvSpPr/>
          <p:nvPr/>
        </p:nvSpPr>
        <p:spPr>
          <a:xfrm>
            <a:off x="5257800" y="1143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352680" y="2666880"/>
            <a:ext cx="2133720" cy="8254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руктура в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58128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600200" y="65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562720" y="685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7339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60020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94360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124080" y="3733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419720" y="3733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ия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4"/>
          <p:cNvSpPr/>
          <p:nvPr/>
        </p:nvSpPr>
        <p:spPr>
          <a:xfrm rot="16200000">
            <a:off x="572760" y="293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 rot="5400000">
            <a:off x="6666120" y="2856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1371600" y="609480"/>
            <a:ext cx="640080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 flipH="1">
            <a:off x="373356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724280" y="3505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0"/>
          <p:cNvSpPr/>
          <p:nvPr/>
        </p:nvSpPr>
        <p:spPr>
          <a:xfrm flipV="1">
            <a:off x="449568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1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5"/>
          <p:cNvSpPr/>
          <p:nvPr/>
        </p:nvSpPr>
        <p:spPr>
          <a:xfrm>
            <a:off x="5334120" y="3505320"/>
            <a:ext cx="1218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6"/>
          <p:cNvSpPr/>
          <p:nvPr/>
        </p:nvSpPr>
        <p:spPr>
          <a:xfrm flipH="1">
            <a:off x="2285640" y="350532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2819520" y="4876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и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419720" y="35053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48640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182844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 flipV="1">
            <a:off x="5181480" y="10663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2"/>
          <p:cNvSpPr/>
          <p:nvPr/>
        </p:nvSpPr>
        <p:spPr>
          <a:xfrm flipH="1" flipV="1">
            <a:off x="2437920" y="9907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76720" y="533520"/>
            <a:ext cx="1981080" cy="42912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cc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 Л А С Т 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1676520"/>
            <a:ext cx="259092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и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029200" y="1676520"/>
            <a:ext cx="358128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сонифициров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895480" y="2971800"/>
            <a:ext cx="274320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ханиз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895480" y="3429000"/>
            <a:ext cx="2743200" cy="1557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ознагра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анк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авторитет лиде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форм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2743200" y="9907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191120" y="990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4267080" y="9907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276720" y="609480"/>
            <a:ext cx="1981080" cy="429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ccec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Л А С Т 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828800"/>
            <a:ext cx="2438280" cy="459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ccec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зицио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105520" y="1828800"/>
            <a:ext cx="350496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сонифициров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362320" y="3048120"/>
            <a:ext cx="411480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99cc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ханиз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3505320"/>
            <a:ext cx="4114800" cy="1922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легитимизац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б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дентификац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ивычка к подчинени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рганизационная эколог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4191120" y="1066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2666880" y="10666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4267080" y="10666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143000" y="129528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914400" y="838080"/>
            <a:ext cx="6934320" cy="825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ВТОРИТЕТ   ЛИДЕРА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лияние на основе каче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143000" y="2209680"/>
            <a:ext cx="160020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581280" y="2209680"/>
            <a:ext cx="160020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743440" y="2209680"/>
            <a:ext cx="198144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ус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990720" y="3352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чество уче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429000" y="335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тент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6095880" y="3352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209680" y="4038480"/>
            <a:ext cx="198144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ра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572000" y="4038480"/>
            <a:ext cx="220968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лигиоз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828800" y="4876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равственное кач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724280" y="48610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т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914400" y="17524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914400" y="16765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914400" y="57913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7848720" y="16765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8"/>
          <p:cNvSpPr/>
          <p:nvPr/>
        </p:nvSpPr>
        <p:spPr>
          <a:xfrm>
            <a:off x="190512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9"/>
          <p:cNvSpPr/>
          <p:nvPr/>
        </p:nvSpPr>
        <p:spPr>
          <a:xfrm flipV="1">
            <a:off x="190512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42670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 flipV="1">
            <a:off x="42670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678168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6781680" y="2742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5"/>
          <p:cNvSpPr/>
          <p:nvPr/>
        </p:nvSpPr>
        <p:spPr>
          <a:xfrm>
            <a:off x="3276720" y="1752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6"/>
          <p:cNvSpPr/>
          <p:nvPr/>
        </p:nvSpPr>
        <p:spPr>
          <a:xfrm>
            <a:off x="5638680" y="17524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8"/>
          <p:cNvSpPr/>
          <p:nvPr/>
        </p:nvSpPr>
        <p:spPr>
          <a:xfrm flipV="1">
            <a:off x="32767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9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2514600" y="457200"/>
            <a:ext cx="3581280" cy="4597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Типология  лид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80880" y="1828800"/>
            <a:ext cx="2971800" cy="13744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cec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олитич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лидеры прагмат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лидеры идеолог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етерминирова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486400" y="1828800"/>
            <a:ext cx="2666880" cy="1313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ccecff"/>
              </a:gs>
              <a:gs pos="100000">
                <a:srgbClr val="99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оциональ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делов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нформационны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200400" y="3429000"/>
            <a:ext cx="2590920" cy="31431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99ccff"/>
              </a:gs>
              <a:gs pos="100000">
                <a:srgbClr val="cc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вере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жа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тира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рганизато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соблазнител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гер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дурной прим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уми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зг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озел отпу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4343400" y="990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8"/>
          <p:cNvSpPr/>
          <p:nvPr/>
        </p:nvSpPr>
        <p:spPr>
          <a:xfrm flipH="1">
            <a:off x="2437920" y="99072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4495680" y="990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143000" y="1066680"/>
          <a:ext cx="6858000" cy="4496040"/>
        </p:xfrm>
        <a:graphic>
          <a:graphicData uri="http://schemas.openxmlformats.org/drawingml/2006/table">
            <a:tbl>
              <a:tblPr/>
              <a:tblGrid>
                <a:gridCol w="3314880"/>
                <a:gridCol w="3543120"/>
              </a:tblGrid>
              <a:tr h="642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ведение лидер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99ff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и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cc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  <a:tr h="33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авторитетный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емократический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тренерский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ибера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е убеждение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дохновляющий призыв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бращение за советом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бмен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ичный призыв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оалиционирование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егитимизация</a:t>
                      </a:r>
                      <a:br>
                        <a:rPr sz="2000"/>
                      </a:b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ину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ecff"/>
                        </a:gs>
                        <a:gs pos="100000">
                          <a:srgbClr val="cc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124080" y="228600"/>
            <a:ext cx="2514600" cy="100836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 и д е р с т в 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 влия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3716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ти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90720" y="1600200"/>
            <a:ext cx="2361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авторитарны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демократически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либеральны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ренер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57150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еории лидер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019920" y="1447920"/>
            <a:ext cx="2743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еория чер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итуационн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итуативно-личностн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жидания взаимодейств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гуманистическ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мотивационн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истемн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атрибутив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1295280" y="37940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ид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6002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3886200" y="3809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 о т р е б н о с т ь   в о   в л а с т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48006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038480" y="44197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 контрол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 достижен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аффили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70102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6400800" y="4419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ицион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4"/>
          <p:cNvSpPr/>
          <p:nvPr/>
        </p:nvSpPr>
        <p:spPr>
          <a:xfrm>
            <a:off x="70102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6019920" y="48006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29"/>
          <p:cNvSpPr/>
          <p:nvPr/>
        </p:nvSpPr>
        <p:spPr>
          <a:xfrm flipH="1">
            <a:off x="533520" y="685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5638680" y="6858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33520" y="6858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914400" y="4419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зкая самооцен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а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декват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3"/>
          <p:cNvSpPr/>
          <p:nvPr/>
        </p:nvSpPr>
        <p:spPr>
          <a:xfrm flipH="1">
            <a:off x="8380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83808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5"/>
          <p:cNvSpPr/>
          <p:nvPr/>
        </p:nvSpPr>
        <p:spPr>
          <a:xfrm>
            <a:off x="1752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6"/>
          <p:cNvSpPr/>
          <p:nvPr/>
        </p:nvSpPr>
        <p:spPr>
          <a:xfrm>
            <a:off x="27432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7"/>
          <p:cNvSpPr/>
          <p:nvPr/>
        </p:nvSpPr>
        <p:spPr>
          <a:xfrm>
            <a:off x="838080" y="5257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1066680" y="54864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ы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лов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формацио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40"/>
          <p:cNvSpPr/>
          <p:nvPr/>
        </p:nvSpPr>
        <p:spPr>
          <a:xfrm flipH="1">
            <a:off x="68544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41"/>
          <p:cNvSpPr/>
          <p:nvPr/>
        </p:nvSpPr>
        <p:spPr>
          <a:xfrm>
            <a:off x="685800" y="4038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42"/>
          <p:cNvSpPr/>
          <p:nvPr/>
        </p:nvSpPr>
        <p:spPr>
          <a:xfrm>
            <a:off x="68580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43"/>
          <p:cNvSpPr/>
          <p:nvPr/>
        </p:nvSpPr>
        <p:spPr>
          <a:xfrm>
            <a:off x="28195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4"/>
          <p:cNvSpPr/>
          <p:nvPr/>
        </p:nvSpPr>
        <p:spPr>
          <a:xfrm>
            <a:off x="533520" y="1523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5"/>
          <p:cNvSpPr/>
          <p:nvPr/>
        </p:nvSpPr>
        <p:spPr>
          <a:xfrm>
            <a:off x="6858000" y="685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AutoShape 46"/>
          <p:cNvCxnSpPr/>
          <p:nvPr/>
        </p:nvCxnSpPr>
        <p:spPr>
          <a:xfrm flipH="1" rot="16200000">
            <a:off x="3878280" y="1836360"/>
            <a:ext cx="16560" cy="3962880"/>
          </a:xfrm>
          <a:prstGeom prst="curvedConnector5">
            <a:avLst>
              <a:gd name="adj1" fmla="val -2808888"/>
              <a:gd name="adj2" fmla="val 49995"/>
              <a:gd name="adj3" fmla="val -280888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7"/>
          <p:cNvSpPr/>
          <p:nvPr/>
        </p:nvSpPr>
        <p:spPr>
          <a:xfrm>
            <a:off x="3048120" y="3429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 в т о р и т е 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312408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лая 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9"/>
          <p:cNvSpPr/>
          <p:nvPr/>
        </p:nvSpPr>
        <p:spPr>
          <a:xfrm>
            <a:off x="8686800" y="685800"/>
            <a:ext cx="0" cy="563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0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51"/>
          <p:cNvSpPr/>
          <p:nvPr/>
        </p:nvSpPr>
        <p:spPr>
          <a:xfrm>
            <a:off x="868680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опросы для самоконтрол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457200" y="762120"/>
            <a:ext cx="624852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Times New Roman"/>
              </a:rPr>
              <a:t>Каковы основные различия между лидерством и руководство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Times New Roman"/>
              </a:rPr>
              <a:t>Охарактеризуйте теории лидерст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Times New Roman"/>
              </a:rPr>
              <a:t>Опишите лидеров с различной самооценк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d4d4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Times New Roman"/>
              </a:rPr>
              <a:t>Какие потребности мотивируют поведение лидер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Times New Roman"/>
              </a:rPr>
              <a:t>Раскройте содержание понятия «власть лидера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Times New Roman"/>
              </a:rPr>
              <a:t>Что значит «механизм власти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Times New Roman"/>
              </a:rPr>
              <a:t>Раскройте содержание понятия «авторитет лидера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5f5f5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Times New Roman"/>
              </a:rPr>
              <a:t>Охарактеризуйте психологические типы лидеров и стили лидерского поведения</a:t>
            </a:r>
            <a:r>
              <a:rPr b="0" lang="ru-RU" sz="16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43434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Вопросы для обсужд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57200" y="4800600"/>
            <a:ext cx="7162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м образом можно использовать теории лидерства для анализа конкретной управленческой деятельност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о из выдающихся деятелей прошлого и настоящего вы могли бы назвать харизматическими личностями? Почему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2"/>
          <p:cNvSpPr/>
          <p:nvPr/>
        </p:nvSpPr>
        <p:spPr>
          <a:xfrm>
            <a:off x="3124080" y="304920"/>
            <a:ext cx="243864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33"/>
          <p:cNvSpPr/>
          <p:nvPr/>
        </p:nvSpPr>
        <p:spPr>
          <a:xfrm>
            <a:off x="3124080" y="2590920"/>
            <a:ext cx="2514600" cy="1676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4"/>
          <p:cNvSpPr/>
          <p:nvPr/>
        </p:nvSpPr>
        <p:spPr>
          <a:xfrm>
            <a:off x="3581280" y="29718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МАЛАЯ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5"/>
          <p:cNvSpPr/>
          <p:nvPr/>
        </p:nvSpPr>
        <p:spPr>
          <a:xfrm>
            <a:off x="3276720" y="1098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правление неформальными отношени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36"/>
          <p:cNvSpPr/>
          <p:nvPr/>
        </p:nvSpPr>
        <p:spPr>
          <a:xfrm>
            <a:off x="4343400" y="76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7"/>
          <p:cNvSpPr/>
          <p:nvPr/>
        </p:nvSpPr>
        <p:spPr>
          <a:xfrm>
            <a:off x="3200400" y="6095880"/>
            <a:ext cx="243828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8"/>
          <p:cNvSpPr/>
          <p:nvPr/>
        </p:nvSpPr>
        <p:spPr>
          <a:xfrm>
            <a:off x="3657600" y="510552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правление формальными отношения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9"/>
          <p:cNvSpPr/>
          <p:nvPr/>
        </p:nvSpPr>
        <p:spPr>
          <a:xfrm flipV="1">
            <a:off x="4419720" y="586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0"/>
          <p:cNvSpPr/>
          <p:nvPr/>
        </p:nvSpPr>
        <p:spPr>
          <a:xfrm>
            <a:off x="3505320" y="47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41"/>
          <p:cNvSpPr/>
          <p:nvPr/>
        </p:nvSpPr>
        <p:spPr>
          <a:xfrm flipV="1">
            <a:off x="440064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2"/>
          <p:cNvSpPr/>
          <p:nvPr/>
        </p:nvSpPr>
        <p:spPr>
          <a:xfrm>
            <a:off x="3886200" y="1828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43"/>
          <p:cNvSpPr/>
          <p:nvPr/>
        </p:nvSpPr>
        <p:spPr>
          <a:xfrm>
            <a:off x="4343400" y="21528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 Unicode MS"/>
              </a:rPr>
              <a:t>Р а з л и ч и 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егулирует межличностные отношения, внутригрупп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лемент микросре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ий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формальные са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ие решений непосредстве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егулирует внегрупповые 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лемент макросре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еленаправле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ормальные и неформальные са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нятие решений опосредова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9480" y="1447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8006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5"/>
          <p:cNvSpPr/>
          <p:nvPr/>
        </p:nvSpPr>
        <p:spPr>
          <a:xfrm>
            <a:off x="2895480" y="685800"/>
            <a:ext cx="2971800" cy="4597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. Галь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048120" y="1676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наследственность</a:t>
            </a: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895480" y="2514600"/>
            <a:ext cx="2971800" cy="4597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ория че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429000" y="3581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х а р и з м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819520" y="4495680"/>
            <a:ext cx="3200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т греч. «милость», «благодать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0"/>
          <p:cNvSpPr/>
          <p:nvPr/>
        </p:nvSpPr>
        <p:spPr>
          <a:xfrm flipV="1"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2"/>
          <p:cNvSpPr/>
          <p:nvPr/>
        </p:nvSpPr>
        <p:spPr>
          <a:xfrm>
            <a:off x="5867280" y="685800"/>
            <a:ext cx="914400" cy="2286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99960 h 2286000"/>
              <a:gd name="textAreaBottom" fmla="*/ 1657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3"/>
          <p:cNvSpPr/>
          <p:nvPr/>
        </p:nvSpPr>
        <p:spPr>
          <a:xfrm>
            <a:off x="1905120" y="685800"/>
            <a:ext cx="990360" cy="2286000"/>
          </a:xfrm>
          <a:custGeom>
            <a:avLst/>
            <a:gdLst>
              <a:gd name="textAreaLeft" fmla="*/ 132480 w 990360"/>
              <a:gd name="textAreaRight" fmla="*/ 857880 w 990360"/>
              <a:gd name="textAreaTop" fmla="*/ 399960 h 2286000"/>
              <a:gd name="textAreaBottom" fmla="*/ 16574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 flipV="1">
            <a:off x="4343400" y="3962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Теории   лиде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езапные критические ситу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ческие повторяющиеся предсказуемые ситу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ичные повторяющиеся ситу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ичные повторяющиеся конвенцион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овые ритуа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ты лид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ы лид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цы лиде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ные характеристики лидера как социальной ро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итуциональный кон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30640" y="838080"/>
            <a:ext cx="2084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ситуативна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724280" y="838080"/>
            <a:ext cx="4114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ситуативно – личностная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13372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дерство – функция ситу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>
            <a:off x="1447920" y="12952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7086600" y="12952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828800" y="19810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905120" y="1981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1905120" y="19810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1981080" y="198108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2743200" y="2666880"/>
            <a:ext cx="335268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еор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дер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3"/>
          <p:cNvSpPr/>
          <p:nvPr/>
        </p:nvSpPr>
        <p:spPr>
          <a:xfrm rot="20031000">
            <a:off x="380880" y="129492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 ожидания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5"/>
          <p:cNvSpPr/>
          <p:nvPr/>
        </p:nvSpPr>
        <p:spPr>
          <a:xfrm rot="342000">
            <a:off x="3504960" y="685800"/>
            <a:ext cx="2286000" cy="1295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манистическ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8"/>
          <p:cNvSpPr/>
          <p:nvPr/>
        </p:nvSpPr>
        <p:spPr>
          <a:xfrm rot="1341000">
            <a:off x="685800" y="4419720"/>
            <a:ext cx="2286000" cy="129528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рибутив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9"/>
          <p:cNvSpPr/>
          <p:nvPr/>
        </p:nvSpPr>
        <p:spPr>
          <a:xfrm rot="20588400">
            <a:off x="5029200" y="472392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ная те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0"/>
          <p:cNvSpPr/>
          <p:nvPr/>
        </p:nvSpPr>
        <p:spPr>
          <a:xfrm rot="2253000">
            <a:off x="6400440" y="1752480"/>
            <a:ext cx="2286000" cy="1295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тивационн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6172200" y="27432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0"/>
          <p:cNvSpPr/>
          <p:nvPr/>
        </p:nvSpPr>
        <p:spPr>
          <a:xfrm flipV="1">
            <a:off x="45720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1"/>
          <p:cNvSpPr/>
          <p:nvPr/>
        </p:nvSpPr>
        <p:spPr>
          <a:xfrm flipH="1" flipV="1">
            <a:off x="2209320" y="24382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2"/>
          <p:cNvSpPr/>
          <p:nvPr/>
        </p:nvSpPr>
        <p:spPr>
          <a:xfrm flipH="1">
            <a:off x="2438280" y="4038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3"/>
          <p:cNvSpPr/>
          <p:nvPr/>
        </p:nvSpPr>
        <p:spPr>
          <a:xfrm>
            <a:off x="5410080" y="41911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5"/>
          <p:cNvGrpSpPr/>
          <p:nvPr/>
        </p:nvGrpSpPr>
        <p:grpSpPr>
          <a:xfrm>
            <a:off x="1828800" y="380880"/>
            <a:ext cx="5866920" cy="5867280"/>
            <a:chOff x="1828800" y="380880"/>
            <a:chExt cx="5866920" cy="5867280"/>
          </a:xfrm>
        </p:grpSpPr>
        <p:sp>
          <p:nvSpPr>
            <p:cNvPr id="95" name="AutoShape 2"/>
            <p:cNvSpPr/>
            <p:nvPr/>
          </p:nvSpPr>
          <p:spPr>
            <a:xfrm>
              <a:off x="3760200" y="380880"/>
              <a:ext cx="1990800" cy="201168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3"/>
            <p:cNvSpPr/>
            <p:nvPr/>
          </p:nvSpPr>
          <p:spPr>
            <a:xfrm flipV="1">
              <a:off x="2758320" y="2391480"/>
              <a:ext cx="3981600" cy="19278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4"/>
            <p:cNvSpPr/>
            <p:nvPr/>
          </p:nvSpPr>
          <p:spPr>
            <a:xfrm flipV="1">
              <a:off x="1828800" y="4320360"/>
              <a:ext cx="5866920" cy="19274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6"/>
          <p:cNvSpPr/>
          <p:nvPr/>
        </p:nvSpPr>
        <p:spPr>
          <a:xfrm>
            <a:off x="4039560" y="1295280"/>
            <a:ext cx="145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дер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мооценк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4026600" y="2716200"/>
            <a:ext cx="159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дер 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екват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оце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652560" y="4849920"/>
            <a:ext cx="241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дер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ой самооце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80880" y="533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2400" spc="-1" strike="noStrike" u="sng">
                <a:solidFill>
                  <a:srgbClr val="993366"/>
                </a:solidFill>
                <a:uFillTx/>
                <a:latin typeface="Arial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цепция  лид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2590920" y="1143000"/>
            <a:ext cx="1371600" cy="152280"/>
          </a:xfrm>
          <a:prstGeom prst="pie">
            <a:avLst/>
          </a:prstGeom>
          <a:gradFill rotWithShape="0">
            <a:gsLst>
              <a:gs pos="0">
                <a:srgbClr val="66006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609480"/>
            <a:ext cx="5715000" cy="106704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» -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онцепция лиде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 rot="16200000">
            <a:off x="2323800" y="1181160"/>
            <a:ext cx="4724280" cy="571500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зическое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ейное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ое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ое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одолевающи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конфликты 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4"/>
          <p:cNvSpPr/>
          <p:nvPr/>
        </p:nvSpPr>
        <p:spPr>
          <a:xfrm flipH="1">
            <a:off x="6171840" y="1676520"/>
            <a:ext cx="60948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5257440" y="1676520"/>
            <a:ext cx="152388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4266720" y="1676520"/>
            <a:ext cx="2514600" cy="2133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3504960" y="1676520"/>
            <a:ext cx="3276360" cy="23619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2590560" y="1676520"/>
            <a:ext cx="4190760" cy="228600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 rot="19986600">
            <a:off x="3113640" y="253836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ключ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886120" y="2362320"/>
            <a:ext cx="3124080" cy="15721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треб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тивирующ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ведение лид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86120" y="990720"/>
            <a:ext cx="312408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контро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973240" y="4724280"/>
            <a:ext cx="29718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аффили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781680" y="2971800"/>
            <a:ext cx="1905120" cy="4597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движ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92040" y="2959200"/>
            <a:ext cx="1676520" cy="4442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во власти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4343400" y="39625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2133720" y="304812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gradFill rotWithShape="0">
            <a:gsLst>
              <a:gs pos="0">
                <a:srgbClr val="33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6095880" y="31240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4343400" y="160020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48:24Z</dcterms:modified>
  <cp:revision>15</cp:revision>
  <dc:subject/>
  <dc:title>PowerPoint Presentation</dc:title>
</cp:coreProperties>
</file>