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836-3188-47A8-A299-AA9BF5D4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208-1CBA-4503-81F8-BD9C4360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9E0-F693-45D6-BB66-001A64AE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DEC-F8A5-49F8-BDBC-5484A309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79A8-9910-49E1-8306-FB44EFE9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F30-2FF2-4C06-8F09-7599E7B6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B79-7434-4122-A382-F5145B0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1C3-0436-4C25-A9F3-9CC18170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220-EEE7-413E-BB16-9A1B03AF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F09-5386-453C-BF92-4123F5C2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325-5B47-4602-AAD6-3A86871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400-AA53-43A1-BB69-96EFAF59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ff99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5B17-9E93-4B84-8B59-7CC6E718E5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0B66-897F-43D0-AE7C-67B0817DEA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ма 1.1. Становление и развитие социальной психологии  как на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6760" y="2286000"/>
            <a:ext cx="8029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результате изучения 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будете иметь представление о социальной психологии как науки и ее месте в жизни и современном образова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теме будут рассмотрены вопро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Возникновение и развитие социальной  псих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Структура социальной психолог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Андреева Г.М. Социальная психология : учебник / Г.М. Андреева. - 5-е изд.,испр. и доп. - М. : Аспект - Пресс.- 2009. - 36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ая  психология /под ред. Дружинина В. Н.- М.: Инфра – М.,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80880" y="3049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дел 1. Социальная психология как нау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F1DF-2BCA-491A-A0B9-4BB5E525A7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286000" y="533520"/>
            <a:ext cx="547560" cy="4334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286000" y="1447920"/>
            <a:ext cx="547560" cy="5032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219320" y="1066680"/>
            <a:ext cx="302400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ООБЩЕСТВО ЛЮДЕ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057400" y="152280"/>
            <a:ext cx="5257800" cy="289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БЪЕКТ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914400" y="1981080"/>
            <a:ext cx="741672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ЕДМЕТ СОЦИАЛЬНОЙ ПСИХОЛОГ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324000" y="2997360"/>
            <a:ext cx="3528720" cy="223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ономерности возникнов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функционирования общественно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ологических явлений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словленные принадлежность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 к различны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м общностя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356000" y="2971800"/>
            <a:ext cx="4464000" cy="2286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2286000" y="2438280"/>
            <a:ext cx="576360" cy="505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5867280" y="2362320"/>
            <a:ext cx="533520" cy="4316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1371600" y="6248520"/>
            <a:ext cx="6481800" cy="28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адачи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2411280" y="537372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5410080" y="5410080"/>
            <a:ext cx="609840" cy="505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4267080" y="2971800"/>
            <a:ext cx="4496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Изучение и осмысление социально психологических явлений и процессо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явление закономерностей появления социально-психологических явлений и процессов в различных условиях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гнозирование политических, национальных и других процессов в развитии государства и общества    на основе учета социально-психологических закономерност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3103-0C32-47B0-9F9F-FC45A3222B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расли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1565280" y="1346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ническа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5"/>
          <p:cNvSpPr/>
          <p:nvPr/>
        </p:nvSpPr>
        <p:spPr>
          <a:xfrm>
            <a:off x="988920" y="5018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701640" y="2857680"/>
            <a:ext cx="136836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7"/>
          <p:cNvSpPr/>
          <p:nvPr/>
        </p:nvSpPr>
        <p:spPr>
          <a:xfrm>
            <a:off x="6461280" y="487368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фликт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6966000" y="3002040"/>
            <a:ext cx="136836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ейств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9"/>
          <p:cNvSpPr/>
          <p:nvPr/>
        </p:nvSpPr>
        <p:spPr>
          <a:xfrm>
            <a:off x="6605640" y="1130400"/>
            <a:ext cx="136836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3941640" y="1273320"/>
            <a:ext cx="1368720" cy="136656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лиг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11"/>
          <p:cNvSpPr/>
          <p:nvPr/>
        </p:nvSpPr>
        <p:spPr>
          <a:xfrm>
            <a:off x="3868560" y="5018040"/>
            <a:ext cx="1368720" cy="136692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2"/>
          <p:cNvSpPr/>
          <p:nvPr/>
        </p:nvSpPr>
        <p:spPr>
          <a:xfrm>
            <a:off x="3505320" y="3429000"/>
            <a:ext cx="2232000" cy="1081080"/>
          </a:xfrm>
          <a:prstGeom prst="cloudCallout">
            <a:avLst>
              <a:gd name="adj1" fmla="val 30652"/>
              <a:gd name="adj2" fmla="val 7555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4589640" y="2641680"/>
            <a:ext cx="71280" cy="93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444920" y="451332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141640" y="3578400"/>
            <a:ext cx="1511280" cy="57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 flipH="1">
            <a:off x="5813280" y="3505320"/>
            <a:ext cx="1152720" cy="504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789280" y="2496960"/>
            <a:ext cx="1512720" cy="1152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5525640" y="2281320"/>
            <a:ext cx="1368360" cy="1297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0"/>
          <p:cNvSpPr/>
          <p:nvPr/>
        </p:nvSpPr>
        <p:spPr>
          <a:xfrm flipH="1">
            <a:off x="2212560" y="4370400"/>
            <a:ext cx="1513080" cy="93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1"/>
          <p:cNvSpPr/>
          <p:nvPr/>
        </p:nvSpPr>
        <p:spPr>
          <a:xfrm flipH="1">
            <a:off x="2285640" y="5305320"/>
            <a:ext cx="1429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4"/>
          <p:cNvSpPr/>
          <p:nvPr/>
        </p:nvSpPr>
        <p:spPr>
          <a:xfrm>
            <a:off x="5526000" y="4370400"/>
            <a:ext cx="1079640" cy="792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905-5790-4A88-BB27-8710893E41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Функции Социальной психологии, как нау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332000" y="3429000"/>
            <a:ext cx="6553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СНОВНЫЕ ФУНКЦИИ СОЦИАЛЬНОЙ ПСИХОЛОГИ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1413000"/>
            <a:ext cx="2232000" cy="107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ОЛОГ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492360" y="1484280"/>
            <a:ext cx="1800360" cy="93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ЕТИК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940360" y="1413000"/>
            <a:ext cx="2232000" cy="93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ОВОЗЗРЕН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900000" y="5229360"/>
            <a:ext cx="180036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ГУЛЯТИВ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3132000" y="5229360"/>
            <a:ext cx="223200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НОЗТ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6012000" y="5229360"/>
            <a:ext cx="2160360" cy="792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КСИОЛОГИЧЕСК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 flipV="1">
            <a:off x="1979640" y="2492280"/>
            <a:ext cx="0" cy="936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 flipV="1">
            <a:off x="4284720" y="2421000"/>
            <a:ext cx="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7308720" y="234900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1908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4356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7236000" y="4149720"/>
            <a:ext cx="0" cy="1079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CFAA-99B4-4D42-9762-BF3BC7E3D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ВЯЗЬ СОЦИАЛЬНОЙ ПСИХОЛОГИИ С ДРУГИМИ НАУ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4"/>
          <p:cNvSpPr/>
          <p:nvPr/>
        </p:nvSpPr>
        <p:spPr>
          <a:xfrm>
            <a:off x="2209680" y="2057400"/>
            <a:ext cx="4176720" cy="410544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189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700360" y="5805360"/>
            <a:ext cx="3240000" cy="576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щая 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2411280" y="1700280"/>
            <a:ext cx="3889440" cy="504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24000" y="2565360"/>
            <a:ext cx="252072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250920" y="3645000"/>
            <a:ext cx="2520720" cy="7189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4724280"/>
            <a:ext cx="2520720" cy="7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льтур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нолог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5724360" y="4581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5724360" y="3573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ном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5580000" y="2565360"/>
            <a:ext cx="2521080" cy="7192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BBE-BD33-4E47-BFC2-E64C4A50C6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Социально-психологических я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4360" y="1125360"/>
            <a:ext cx="7488000" cy="287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реальност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24000" y="1916280"/>
            <a:ext cx="1726920" cy="136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форм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еств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факт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закономер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19640" y="1844640"/>
            <a:ext cx="2017440" cy="151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носител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о-групп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6516720" y="2060640"/>
            <a:ext cx="1944720" cy="1441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функциональным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тнош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547640" y="3500280"/>
            <a:ext cx="1944720" cy="1729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структур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чески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обенностя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процесс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состоя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образ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стереотипы, свойства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611280" y="5805360"/>
            <a:ext cx="6985080" cy="577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распространен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Индивидуальные СП                                                 -Массов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4859280" y="3789360"/>
            <a:ext cx="2160720" cy="13683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уровню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мыслен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созн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самосозн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овое подсознан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4356000" y="141300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284720" y="3429000"/>
            <a:ext cx="0" cy="23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>
            <a:off x="6012000" y="1413000"/>
            <a:ext cx="0" cy="23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>
            <a:off x="2484360" y="1413000"/>
            <a:ext cx="0" cy="2087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7"/>
          <p:cNvSpPr/>
          <p:nvPr/>
        </p:nvSpPr>
        <p:spPr>
          <a:xfrm flipH="1">
            <a:off x="1186920" y="1413000"/>
            <a:ext cx="1297080" cy="503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8"/>
          <p:cNvSpPr/>
          <p:nvPr/>
        </p:nvSpPr>
        <p:spPr>
          <a:xfrm>
            <a:off x="6012000" y="1413000"/>
            <a:ext cx="1439640" cy="647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9"/>
          <p:cNvSpPr/>
          <p:nvPr/>
        </p:nvSpPr>
        <p:spPr>
          <a:xfrm>
            <a:off x="2556000" y="5229360"/>
            <a:ext cx="1728720" cy="57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0"/>
          <p:cNvSpPr/>
          <p:nvPr/>
        </p:nvSpPr>
        <p:spPr>
          <a:xfrm flipV="1">
            <a:off x="4284720" y="5157360"/>
            <a:ext cx="1582560" cy="647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10DB-BA5D-42BB-98F0-2AE75D66A7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 по форме существ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57200" y="2057400"/>
            <a:ext cx="2057400" cy="396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771640" y="2057400"/>
            <a:ext cx="2028960" cy="3965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ОНОМЕР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ЧИ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ЕДСТВЕН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ВИСИМ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НИКНОВ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ЯВЛЕН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ГРУППАХ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5003640" y="2060640"/>
            <a:ext cx="3816360" cy="4032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СОЦИАЛЬНОГО ВОСПРИЯТ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ЗАРАЖ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ВНУШ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УБЕЖД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РЕФЕРЕНТНОСТ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ИДЕНТИФИКА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ХАНИЗМ ПОДРАЖ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КОНФОРМИЗМ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ГРУППОВОГО ДАВ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МЕХАНИЗМ МАССОВОЙ СИЛ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1371600" y="3657600"/>
            <a:ext cx="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3733920" y="3352680"/>
            <a:ext cx="0" cy="711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0"/>
          <p:cNvSpPr/>
          <p:nvPr/>
        </p:nvSpPr>
        <p:spPr>
          <a:xfrm>
            <a:off x="3352680" y="1219320"/>
            <a:ext cx="719280" cy="717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2"/>
          <p:cNvSpPr/>
          <p:nvPr/>
        </p:nvSpPr>
        <p:spPr>
          <a:xfrm>
            <a:off x="971640" y="1268280"/>
            <a:ext cx="718920" cy="717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3"/>
          <p:cNvSpPr/>
          <p:nvPr/>
        </p:nvSpPr>
        <p:spPr>
          <a:xfrm>
            <a:off x="6516720" y="1268280"/>
            <a:ext cx="719280" cy="717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6019920" y="3200400"/>
            <a:ext cx="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5"/>
          <p:cNvSpPr/>
          <p:nvPr/>
        </p:nvSpPr>
        <p:spPr>
          <a:xfrm>
            <a:off x="380880" y="2743200"/>
            <a:ext cx="2210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АКТ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6"/>
          <p:cNvSpPr/>
          <p:nvPr/>
        </p:nvSpPr>
        <p:spPr>
          <a:xfrm>
            <a:off x="609480" y="4343400"/>
            <a:ext cx="1676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ОСТНЫ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Ь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1DD7-5B35-496C-B805-9E0CA673D6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функциональным особенност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324000" y="1484280"/>
            <a:ext cx="8569080" cy="289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заимоотношения                       Обще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324000" y="1773360"/>
            <a:ext cx="273672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атус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3059280" y="1773360"/>
            <a:ext cx="309708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зуется психологическим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вления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муника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рак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центивны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6156360" y="1773360"/>
            <a:ext cx="2736720" cy="136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изуется действия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руж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жен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фликтным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1"/>
          <p:cNvSpPr/>
          <p:nvPr/>
        </p:nvSpPr>
        <p:spPr>
          <a:xfrm flipV="1">
            <a:off x="305928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2"/>
          <p:cNvSpPr/>
          <p:nvPr/>
        </p:nvSpPr>
        <p:spPr>
          <a:xfrm flipV="1">
            <a:off x="615636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611280" y="31417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 по носител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24000" y="3789360"/>
          <a:ext cx="8496000" cy="216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ые 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групп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рогрупп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- отношения в них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жгрупповые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рогруппы, макрогруппы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- отношения между ними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Личностно-групповые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, группа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 отношения между ни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жличностные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, личность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отношения между ним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Личностные   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ь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- отношения к себ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322" name="Line 44"/>
          <p:cNvSpPr/>
          <p:nvPr/>
        </p:nvSpPr>
        <p:spPr>
          <a:xfrm>
            <a:off x="1619280" y="400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45"/>
          <p:cNvSpPr/>
          <p:nvPr/>
        </p:nvSpPr>
        <p:spPr>
          <a:xfrm>
            <a:off x="2050920" y="4365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2050920" y="530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1763640" y="5734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F4E6-B0A1-4919-8BC5-4FC99EA90E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38080" y="3885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- Групповое 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состояния                                                            - Группов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П образования                                                        - Группов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11280" y="1989000"/>
            <a:ext cx="2376360" cy="1368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труктурно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ческим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стя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5867280" y="1981080"/>
            <a:ext cx="2376720" cy="1368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уровню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мыслен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1523880" y="3581280"/>
            <a:ext cx="505080" cy="720720"/>
          </a:xfrm>
          <a:prstGeom prst="downArrow">
            <a:avLst>
              <a:gd name="adj1" fmla="val 50000"/>
              <a:gd name="adj2" fmla="val 35674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7"/>
          <p:cNvSpPr/>
          <p:nvPr/>
        </p:nvSpPr>
        <p:spPr>
          <a:xfrm>
            <a:off x="6858000" y="358128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8"/>
          <p:cNvSpPr/>
          <p:nvPr/>
        </p:nvSpPr>
        <p:spPr>
          <a:xfrm>
            <a:off x="1619280" y="1268280"/>
            <a:ext cx="504720" cy="649440"/>
          </a:xfrm>
          <a:prstGeom prst="downArrow">
            <a:avLst>
              <a:gd name="adj1" fmla="val 50000"/>
              <a:gd name="adj2" fmla="val 32168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9"/>
          <p:cNvSpPr/>
          <p:nvPr/>
        </p:nvSpPr>
        <p:spPr>
          <a:xfrm>
            <a:off x="6934320" y="121932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826920" y="404640"/>
            <a:ext cx="7417080" cy="7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явл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BF5D-7877-48C0-9BAA-D6EC677DDE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468360" y="476280"/>
            <a:ext cx="81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СИХОЛОГИЯ КАК НАУ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1619280" y="907920"/>
            <a:ext cx="59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 9 0 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1042920" y="1268280"/>
            <a:ext cx="7201080" cy="72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ТОД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457200" y="3048120"/>
            <a:ext cx="8153280" cy="36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ия Социальной психолог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68360" y="3429000"/>
            <a:ext cx="2663640" cy="431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личности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мал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32000" y="3429000"/>
            <a:ext cx="2880000" cy="431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больших общност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6012000" y="3429000"/>
            <a:ext cx="2592360" cy="431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П общносте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468360" y="3860640"/>
            <a:ext cx="2663640" cy="2664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изац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механизм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отношения, общение,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ссовые СП яв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мал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личности в групп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азных видов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коллект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2"/>
          <p:cNvSpPr/>
          <p:nvPr/>
        </p:nvSpPr>
        <p:spPr>
          <a:xfrm>
            <a:off x="3132000" y="3860640"/>
            <a:ext cx="2880000" cy="2664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 особенности больши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классов 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мущественных групп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общественных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ижени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возрастная 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 гендерная 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тно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елиг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социальная пат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криминальна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3"/>
          <p:cNvSpPr/>
          <p:nvPr/>
        </p:nvSpPr>
        <p:spPr>
          <a:xfrm>
            <a:off x="6012000" y="3860640"/>
            <a:ext cx="2592360" cy="2664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социально-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х сист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власти и 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современног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ивилизованного 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правовог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общественных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ризи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ия российского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ро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1763640" y="21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4427640" y="220500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6948360" y="2133720"/>
            <a:ext cx="360360" cy="863640"/>
          </a:xfrm>
          <a:prstGeom prst="downArrow">
            <a:avLst>
              <a:gd name="adj1" fmla="val 50000"/>
              <a:gd name="adj2" fmla="val 59915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CD52-2010-453B-9528-0E0B9D7D5A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753920" y="38088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245520" y="858960"/>
            <a:ext cx="8643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произошло возникновение социальной психологии как наук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хронологические и содержательные особенности развития социальной психологи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о содержание понятий объект и предмет социальной психологии как науки?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задачи и функции социальной психологии как наук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отрасли социальной психоло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характеристику социально-психологических явлен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830240" y="32767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6960" y="3754440"/>
            <a:ext cx="860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ли ненаучно социально-психологическое знание? Обоснуйте ответ. Приведите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мер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-194040" y="4226040"/>
            <a:ext cx="79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Раскройте роль социально-психологических знаний для вашей професс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FF31-9241-4B58-B2E5-51A8E7D9D5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новление и выделение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1"/>
          <p:cNvSpPr/>
          <p:nvPr/>
        </p:nvSpPr>
        <p:spPr>
          <a:xfrm>
            <a:off x="442764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2"/>
          <p:cNvSpPr/>
          <p:nvPr/>
        </p:nvSpPr>
        <p:spPr>
          <a:xfrm>
            <a:off x="4427640" y="220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4"/>
          <p:cNvSpPr/>
          <p:nvPr/>
        </p:nvSpPr>
        <p:spPr>
          <a:xfrm flipV="1">
            <a:off x="4427640" y="1628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9"/>
          <p:cNvSpPr/>
          <p:nvPr/>
        </p:nvSpPr>
        <p:spPr>
          <a:xfrm>
            <a:off x="1752480" y="2286000"/>
            <a:ext cx="5400720" cy="1224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99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дение в социальную психологи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ы: У.Мак-Дугал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Рос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83"/>
          <p:cNvSpPr txBox="1"/>
          <p:nvPr/>
        </p:nvSpPr>
        <p:spPr>
          <a:xfrm>
            <a:off x="3733920" y="106668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908 год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Rectangle 105"/>
          <p:cNvSpPr/>
          <p:nvPr/>
        </p:nvSpPr>
        <p:spPr>
          <a:xfrm>
            <a:off x="685800" y="3809880"/>
            <a:ext cx="990720" cy="228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 начал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6"/>
          <p:cNvSpPr/>
          <p:nvPr/>
        </p:nvSpPr>
        <p:spPr>
          <a:xfrm>
            <a:off x="2209680" y="4191120"/>
            <a:ext cx="121932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7"/>
          <p:cNvSpPr/>
          <p:nvPr/>
        </p:nvSpPr>
        <p:spPr>
          <a:xfrm>
            <a:off x="2362320" y="5181480"/>
            <a:ext cx="91440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95280" y="5181480"/>
            <a:ext cx="8384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9"/>
          <p:cNvSpPr/>
          <p:nvPr/>
        </p:nvSpPr>
        <p:spPr>
          <a:xfrm>
            <a:off x="3429000" y="5181480"/>
            <a:ext cx="91440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лософ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0"/>
          <p:cNvSpPr/>
          <p:nvPr/>
        </p:nvSpPr>
        <p:spPr>
          <a:xfrm>
            <a:off x="2133720" y="5867280"/>
            <a:ext cx="121896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1"/>
          <p:cNvSpPr/>
          <p:nvPr/>
        </p:nvSpPr>
        <p:spPr>
          <a:xfrm>
            <a:off x="1143000" y="4038480"/>
            <a:ext cx="0" cy="2133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2"/>
          <p:cNvSpPr/>
          <p:nvPr/>
        </p:nvSpPr>
        <p:spPr>
          <a:xfrm>
            <a:off x="1143000" y="6172200"/>
            <a:ext cx="990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3"/>
          <p:cNvSpPr/>
          <p:nvPr/>
        </p:nvSpPr>
        <p:spPr>
          <a:xfrm>
            <a:off x="1143000" y="4419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4"/>
          <p:cNvSpPr/>
          <p:nvPr/>
        </p:nvSpPr>
        <p:spPr>
          <a:xfrm>
            <a:off x="2819520" y="472428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5"/>
          <p:cNvSpPr/>
          <p:nvPr/>
        </p:nvSpPr>
        <p:spPr>
          <a:xfrm flipV="1">
            <a:off x="175248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6"/>
          <p:cNvSpPr/>
          <p:nvPr/>
        </p:nvSpPr>
        <p:spPr>
          <a:xfrm>
            <a:off x="1752480" y="5029200"/>
            <a:ext cx="2133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7"/>
          <p:cNvSpPr/>
          <p:nvPr/>
        </p:nvSpPr>
        <p:spPr>
          <a:xfrm flipV="1">
            <a:off x="388620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8"/>
          <p:cNvSpPr/>
          <p:nvPr/>
        </p:nvSpPr>
        <p:spPr>
          <a:xfrm>
            <a:off x="28195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9"/>
          <p:cNvSpPr/>
          <p:nvPr/>
        </p:nvSpPr>
        <p:spPr>
          <a:xfrm>
            <a:off x="5562720" y="3886200"/>
            <a:ext cx="990360" cy="2286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0"/>
          <p:cNvSpPr/>
          <p:nvPr/>
        </p:nvSpPr>
        <p:spPr>
          <a:xfrm>
            <a:off x="6248520" y="4419720"/>
            <a:ext cx="121896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21"/>
          <p:cNvSpPr/>
          <p:nvPr/>
        </p:nvSpPr>
        <p:spPr>
          <a:xfrm>
            <a:off x="7467480" y="5105520"/>
            <a:ext cx="8384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олог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3"/>
          <p:cNvSpPr/>
          <p:nvPr/>
        </p:nvSpPr>
        <p:spPr>
          <a:xfrm>
            <a:off x="6248520" y="5791320"/>
            <a:ext cx="1218960" cy="5331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99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4"/>
          <p:cNvSpPr/>
          <p:nvPr/>
        </p:nvSpPr>
        <p:spPr>
          <a:xfrm>
            <a:off x="5867280" y="4114800"/>
            <a:ext cx="0" cy="533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5"/>
          <p:cNvSpPr/>
          <p:nvPr/>
        </p:nvSpPr>
        <p:spPr>
          <a:xfrm>
            <a:off x="5867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6"/>
          <p:cNvSpPr/>
          <p:nvPr/>
        </p:nvSpPr>
        <p:spPr>
          <a:xfrm>
            <a:off x="7467480" y="46483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27"/>
          <p:cNvSpPr/>
          <p:nvPr/>
        </p:nvSpPr>
        <p:spPr>
          <a:xfrm>
            <a:off x="7924680" y="4648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8"/>
          <p:cNvSpPr/>
          <p:nvPr/>
        </p:nvSpPr>
        <p:spPr>
          <a:xfrm>
            <a:off x="7924680" y="55627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9"/>
          <p:cNvSpPr/>
          <p:nvPr/>
        </p:nvSpPr>
        <p:spPr>
          <a:xfrm>
            <a:off x="7467480" y="60199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810B-F407-4AF7-9DC2-D4014BD367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апы развития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211640" y="1557360"/>
          <a:ext cx="3809880" cy="45133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ращение и окончательное оформление СП в экспериментальную науку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2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аботка СП-теорий, превращающие СП в самостоятельную отрасль знаний и зарождение СП школ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701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следование и обобщение представлений о влиянии общества и государства на взаимодействие и общение людей, как представителей различных социальных групп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копление начальных знаний о происхождении и сущности СП особенностей человека, психологических механизмах социального поведения люде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900000" y="4076640"/>
          <a:ext cx="2448000" cy="576360"/>
        </p:xfrm>
        <a:graphic>
          <a:graphicData uri="http://schemas.openxmlformats.org/drawingml/2006/table">
            <a:tbl>
              <a:tblPr/>
              <a:tblGrid>
                <a:gridCol w="839880"/>
                <a:gridCol w="160812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ина 15 в. –середина 19 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Line 190"/>
          <p:cNvSpPr/>
          <p:nvPr/>
        </p:nvSpPr>
        <p:spPr>
          <a:xfrm>
            <a:off x="3348000" y="206064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91"/>
          <p:cNvSpPr/>
          <p:nvPr/>
        </p:nvSpPr>
        <p:spPr>
          <a:xfrm>
            <a:off x="3348000" y="3357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92"/>
          <p:cNvSpPr/>
          <p:nvPr/>
        </p:nvSpPr>
        <p:spPr>
          <a:xfrm>
            <a:off x="3348000" y="4581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3"/>
          <p:cNvSpPr/>
          <p:nvPr/>
        </p:nvSpPr>
        <p:spPr>
          <a:xfrm>
            <a:off x="3348000" y="58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3068640"/>
          <a:ext cx="2446560" cy="647640"/>
        </p:xfrm>
        <a:graphic>
          <a:graphicData uri="http://schemas.openxmlformats.org/drawingml/2006/table">
            <a:tbl>
              <a:tblPr/>
              <a:tblGrid>
                <a:gridCol w="866880"/>
                <a:gridCol w="157968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19 в. –середина 20 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 этап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914400" y="5445000"/>
          <a:ext cx="2433600" cy="576360"/>
        </p:xfrm>
        <a:graphic>
          <a:graphicData uri="http://schemas.openxmlformats.org/drawingml/2006/table">
            <a:tbl>
              <a:tblPr/>
              <a:tblGrid>
                <a:gridCol w="851040"/>
                <a:gridCol w="158256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в. до н.э.- середина 15 в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628640"/>
          <a:ext cx="2446560" cy="731880"/>
        </p:xfrm>
        <a:graphic>
          <a:graphicData uri="http://schemas.openxmlformats.org/drawingml/2006/table">
            <a:tbl>
              <a:tblPr/>
              <a:tblGrid>
                <a:gridCol w="866880"/>
                <a:gridCol w="1579680"/>
              </a:tblGrid>
              <a:tr h="122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середины 20 в. по настоящее врем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й этап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0DB1-786F-44C8-9811-8030650CD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апы развития в Ро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427640" y="1773360"/>
          <a:ext cx="3809880" cy="446400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92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ыстория связана с именами российских демократ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ожд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тский пери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рождение Социальной псих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5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од демократических реформ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90" name="Line 80"/>
          <p:cNvSpPr/>
          <p:nvPr/>
        </p:nvSpPr>
        <p:spPr>
          <a:xfrm flipH="1">
            <a:off x="3563640" y="2133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1"/>
          <p:cNvSpPr/>
          <p:nvPr/>
        </p:nvSpPr>
        <p:spPr>
          <a:xfrm flipH="1">
            <a:off x="3563640" y="306864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42920" y="3573360"/>
          <a:ext cx="2521080" cy="576360"/>
        </p:xfrm>
        <a:graphic>
          <a:graphicData uri="http://schemas.openxmlformats.org/drawingml/2006/table">
            <a:tbl>
              <a:tblPr/>
              <a:tblGrid>
                <a:gridCol w="865080"/>
                <a:gridCol w="165600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е годы 20 ве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3" name="Line 82"/>
          <p:cNvSpPr/>
          <p:nvPr/>
        </p:nvSpPr>
        <p:spPr>
          <a:xfrm flipH="1">
            <a:off x="3563640" y="40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3"/>
          <p:cNvSpPr/>
          <p:nvPr/>
        </p:nvSpPr>
        <p:spPr>
          <a:xfrm flipH="1">
            <a:off x="3563640" y="494172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3"/>
          <p:cNvSpPr/>
          <p:nvPr/>
        </p:nvSpPr>
        <p:spPr>
          <a:xfrm flipH="1">
            <a:off x="3563640" y="5805360"/>
            <a:ext cx="8636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2666880"/>
          <a:ext cx="2482920" cy="720720"/>
        </p:xfrm>
        <a:graphic>
          <a:graphicData uri="http://schemas.openxmlformats.org/drawingml/2006/table">
            <a:tbl>
              <a:tblPr/>
              <a:tblGrid>
                <a:gridCol w="887400"/>
                <a:gridCol w="159552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ец 19 в. –начало 20 в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й  этап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066680" y="4495680"/>
          <a:ext cx="2521080" cy="576360"/>
        </p:xfrm>
        <a:graphic>
          <a:graphicData uri="http://schemas.openxmlformats.org/drawingml/2006/table">
            <a:tbl>
              <a:tblPr/>
              <a:tblGrid>
                <a:gridCol w="838440"/>
                <a:gridCol w="168264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-80-е г. 20 ве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042920" y="1844640"/>
          <a:ext cx="2519280" cy="552600"/>
        </p:xfrm>
        <a:graphic>
          <a:graphicData uri="http://schemas.openxmlformats.org/drawingml/2006/table">
            <a:tbl>
              <a:tblPr/>
              <a:tblGrid>
                <a:gridCol w="862200"/>
                <a:gridCol w="1657080"/>
              </a:tblGrid>
              <a:tr h="12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век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066680" y="5432400"/>
          <a:ext cx="2521080" cy="576360"/>
        </p:xfrm>
        <a:graphic>
          <a:graphicData uri="http://schemas.openxmlformats.org/drawingml/2006/table">
            <a:tbl>
              <a:tblPr/>
              <a:tblGrid>
                <a:gridCol w="890640"/>
                <a:gridCol w="1630440"/>
              </a:tblGrid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row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 90-х. годов 20 века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й эта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ffff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89FF-5E66-493D-9FA8-B362B3D08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87280" y="3141720"/>
          <a:ext cx="1441800" cy="1066680"/>
        </p:xfrm>
        <a:graphic>
          <a:graphicData uri="http://schemas.openxmlformats.org/drawingml/2006/table">
            <a:tbl>
              <a:tblPr/>
              <a:tblGrid>
                <a:gridCol w="14418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ичия в тео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66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03" name="Rectangle 21"/>
          <p:cNvSpPr/>
          <p:nvPr/>
        </p:nvSpPr>
        <p:spPr>
          <a:xfrm>
            <a:off x="3635280" y="3141720"/>
            <a:ext cx="2232000" cy="1295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о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3"/>
          <p:cNvSpPr/>
          <p:nvPr/>
        </p:nvSpPr>
        <p:spPr>
          <a:xfrm>
            <a:off x="1116000" y="501336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ЕШТАЛЬТ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6"/>
          <p:cNvSpPr/>
          <p:nvPr/>
        </p:nvSpPr>
        <p:spPr>
          <a:xfrm>
            <a:off x="3924360" y="5373720"/>
            <a:ext cx="194292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РАКЦИО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6659640" y="4797360"/>
            <a:ext cx="194292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ОНАЛ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8"/>
          <p:cNvSpPr/>
          <p:nvPr/>
        </p:nvSpPr>
        <p:spPr>
          <a:xfrm>
            <a:off x="6443640" y="170028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ХЕВИОР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3995640" y="1628640"/>
            <a:ext cx="1943280" cy="648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манистическа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042920" y="1700280"/>
            <a:ext cx="1943280" cy="64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СИХОАНАЛИ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1"/>
          <p:cNvSpPr/>
          <p:nvPr/>
        </p:nvSpPr>
        <p:spPr>
          <a:xfrm flipV="1">
            <a:off x="2411280" y="4436640"/>
            <a:ext cx="2089440" cy="576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4500720" y="4437000"/>
            <a:ext cx="215640" cy="93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3"/>
          <p:cNvSpPr/>
          <p:nvPr/>
        </p:nvSpPr>
        <p:spPr>
          <a:xfrm>
            <a:off x="4500720" y="4437000"/>
            <a:ext cx="2663640" cy="360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54"/>
          <p:cNvSpPr/>
          <p:nvPr/>
        </p:nvSpPr>
        <p:spPr>
          <a:xfrm flipH="1">
            <a:off x="4787640" y="2276640"/>
            <a:ext cx="215640" cy="865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5"/>
          <p:cNvSpPr/>
          <p:nvPr/>
        </p:nvSpPr>
        <p:spPr>
          <a:xfrm flipH="1">
            <a:off x="4858920" y="2349360"/>
            <a:ext cx="2089080" cy="792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6"/>
          <p:cNvSpPr/>
          <p:nvPr/>
        </p:nvSpPr>
        <p:spPr>
          <a:xfrm>
            <a:off x="2340000" y="2349360"/>
            <a:ext cx="2448000" cy="792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16720" y="3141720"/>
          <a:ext cx="1511280" cy="934920"/>
        </p:xfrm>
        <a:graphic>
          <a:graphicData uri="http://schemas.openxmlformats.org/drawingml/2006/table">
            <a:tbl>
              <a:tblPr/>
              <a:tblGrid>
                <a:gridCol w="151128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ичия в практик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66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5C90-74DA-4BCF-8C14-9A85910D1E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4384800" y="4076640"/>
            <a:ext cx="429084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сточников социальной активности человек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685800" y="4076640"/>
            <a:ext cx="369900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конфликта человека и общества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сточников социальной активности лич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85800" y="3710160"/>
            <a:ext cx="7989840" cy="366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494320" y="2349360"/>
            <a:ext cx="3181320" cy="1360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УМАНИСТИЧЕСК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А.Маслоу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5800" y="2349360"/>
            <a:ext cx="2664000" cy="1360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АНАЛИЗ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З.Фрей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685800" y="2349360"/>
            <a:ext cx="266400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3"/>
          <p:cNvSpPr/>
          <p:nvPr/>
        </p:nvSpPr>
        <p:spPr>
          <a:xfrm>
            <a:off x="685800" y="3710160"/>
            <a:ext cx="79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685800" y="4076640"/>
            <a:ext cx="7989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685800" y="6091200"/>
            <a:ext cx="798984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685800" y="2349360"/>
            <a:ext cx="0" cy="374184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8675640" y="2349360"/>
            <a:ext cx="0" cy="374184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3"/>
          <p:cNvSpPr/>
          <p:nvPr/>
        </p:nvSpPr>
        <p:spPr>
          <a:xfrm>
            <a:off x="4384800" y="4076640"/>
            <a:ext cx="0" cy="2014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6"/>
          <p:cNvSpPr/>
          <p:nvPr/>
        </p:nvSpPr>
        <p:spPr>
          <a:xfrm>
            <a:off x="4384800" y="2349360"/>
            <a:ext cx="110952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7"/>
          <p:cNvSpPr/>
          <p:nvPr/>
        </p:nvSpPr>
        <p:spPr>
          <a:xfrm>
            <a:off x="3349800" y="2349360"/>
            <a:ext cx="103500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9"/>
          <p:cNvSpPr/>
          <p:nvPr/>
        </p:nvSpPr>
        <p:spPr>
          <a:xfrm>
            <a:off x="5494320" y="2349360"/>
            <a:ext cx="3181320" cy="0"/>
          </a:xfrm>
          <a:prstGeom prst="line">
            <a:avLst/>
          </a:prstGeom>
          <a:ln cap="sq"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5"/>
          <p:cNvSpPr/>
          <p:nvPr/>
        </p:nvSpPr>
        <p:spPr>
          <a:xfrm>
            <a:off x="3349800" y="2349360"/>
            <a:ext cx="0" cy="1360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7"/>
          <p:cNvSpPr/>
          <p:nvPr/>
        </p:nvSpPr>
        <p:spPr>
          <a:xfrm>
            <a:off x="5494320" y="2349360"/>
            <a:ext cx="0" cy="1360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4"/>
          <p:cNvSpPr/>
          <p:nvPr/>
        </p:nvSpPr>
        <p:spPr>
          <a:xfrm>
            <a:off x="2268360" y="414972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5"/>
          <p:cNvSpPr/>
          <p:nvPr/>
        </p:nvSpPr>
        <p:spPr>
          <a:xfrm>
            <a:off x="6156360" y="4149720"/>
            <a:ext cx="0" cy="5763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2"/>
          <p:cNvSpPr/>
          <p:nvPr/>
        </p:nvSpPr>
        <p:spPr>
          <a:xfrm flipH="1">
            <a:off x="2057400" y="1143000"/>
            <a:ext cx="12952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3"/>
          <p:cNvSpPr/>
          <p:nvPr/>
        </p:nvSpPr>
        <p:spPr>
          <a:xfrm>
            <a:off x="5638680" y="114300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8FE0-5005-442E-AFDE-36A14961F6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238640" y="4148280"/>
            <a:ext cx="429084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принятия решений человеко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39640" y="4148280"/>
            <a:ext cx="3699000" cy="20145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изучения, т.е. приобретения индивидуального опыта посредством проб и ошибок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39640" y="3781440"/>
            <a:ext cx="7989840" cy="3668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5348160" y="2421000"/>
            <a:ext cx="3181320" cy="1360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ЕШТАЛЬТИ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НГВИ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К.Лев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.Хайд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539640" y="2421000"/>
            <a:ext cx="2660760" cy="13604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ИХЕВИОР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К.Халл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. Скинт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539640" y="2421000"/>
            <a:ext cx="266076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539640" y="378144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539640" y="414828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539640" y="6162840"/>
            <a:ext cx="79898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539640" y="2421000"/>
            <a:ext cx="0" cy="37418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8529480" y="2421000"/>
            <a:ext cx="0" cy="37418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238640" y="4148280"/>
            <a:ext cx="0" cy="20145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238640" y="2421000"/>
            <a:ext cx="1109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3200400" y="2421000"/>
            <a:ext cx="10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5348160" y="2421000"/>
            <a:ext cx="31813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3200400" y="2421000"/>
            <a:ext cx="0" cy="1360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5348160" y="2421000"/>
            <a:ext cx="0" cy="13604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484360" y="4221000"/>
            <a:ext cx="0" cy="648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6372360" y="4365720"/>
            <a:ext cx="0" cy="576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7"/>
          <p:cNvSpPr/>
          <p:nvPr/>
        </p:nvSpPr>
        <p:spPr>
          <a:xfrm flipH="1">
            <a:off x="2133720" y="1219320"/>
            <a:ext cx="121896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15000" y="1219320"/>
            <a:ext cx="137160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1E86-43C0-40E7-88C2-C919390A6A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 зарубежной Социальной Псих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4454640" y="4259160"/>
            <a:ext cx="4290840" cy="1860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социального аспекта взаимодействия между людьми в процессе деятельности и отнош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755640" y="4259160"/>
            <a:ext cx="3699000" cy="1860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наиболее оптимальных условий социальной адаптации субъектов общественной жизн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55640" y="3894120"/>
            <a:ext cx="7989840" cy="3650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 проблем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564160" y="2637000"/>
            <a:ext cx="3181320" cy="125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ТЕРАКЦИОН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Г. Хайма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. Мерто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55640" y="2637000"/>
            <a:ext cx="2664000" cy="1257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99"/>
              </a:gs>
            </a:gsLst>
            <a:lin ang="189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ОНАЛИЗ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атель Г. Спенсер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. Дьюи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755640" y="2637000"/>
            <a:ext cx="266400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755640" y="389412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755640" y="4259160"/>
            <a:ext cx="79898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755640" y="6119640"/>
            <a:ext cx="79898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755640" y="2637000"/>
            <a:ext cx="0" cy="348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8"/>
          <p:cNvSpPr/>
          <p:nvPr/>
        </p:nvSpPr>
        <p:spPr>
          <a:xfrm>
            <a:off x="8745480" y="2637000"/>
            <a:ext cx="0" cy="348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4454640" y="4259160"/>
            <a:ext cx="0" cy="18604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4454640" y="2637000"/>
            <a:ext cx="1109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>
            <a:off x="3419640" y="2637000"/>
            <a:ext cx="1035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2"/>
          <p:cNvSpPr/>
          <p:nvPr/>
        </p:nvSpPr>
        <p:spPr>
          <a:xfrm>
            <a:off x="5564160" y="2637000"/>
            <a:ext cx="31813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3"/>
          <p:cNvSpPr/>
          <p:nvPr/>
        </p:nvSpPr>
        <p:spPr>
          <a:xfrm>
            <a:off x="3419640" y="2637000"/>
            <a:ext cx="0" cy="125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5564160" y="2637000"/>
            <a:ext cx="0" cy="12571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5"/>
          <p:cNvSpPr/>
          <p:nvPr/>
        </p:nvSpPr>
        <p:spPr>
          <a:xfrm>
            <a:off x="2700360" y="4365720"/>
            <a:ext cx="0" cy="6476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6659640" y="4365720"/>
            <a:ext cx="0" cy="5760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 flipH="1">
            <a:off x="2133720" y="1219320"/>
            <a:ext cx="132552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8"/>
          <p:cNvSpPr/>
          <p:nvPr/>
        </p:nvSpPr>
        <p:spPr>
          <a:xfrm>
            <a:off x="5715000" y="1219320"/>
            <a:ext cx="1371600" cy="1371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41E5-1DBF-4666-BA7E-C854F2838D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7"/>
          <p:cNvSpPr/>
          <p:nvPr/>
        </p:nvSpPr>
        <p:spPr>
          <a:xfrm>
            <a:off x="468360" y="1955880"/>
            <a:ext cx="7848720" cy="914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дел психологической науки, изучающий психологические связи между людьми и разрабатывающий пути их совершенствования в процессе жизни и деятель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8"/>
          <p:cNvSpPr/>
          <p:nvPr/>
        </p:nvSpPr>
        <p:spPr>
          <a:xfrm>
            <a:off x="468360" y="1316160"/>
            <a:ext cx="7848720" cy="63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ка о закономерностях  возникновения и функционирования общественно-психологических явлен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0"/>
          <p:cNvSpPr/>
          <p:nvPr/>
        </p:nvSpPr>
        <p:spPr>
          <a:xfrm>
            <a:off x="2195640" y="620640"/>
            <a:ext cx="4897440" cy="695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ОЦИАЛЬНАЯ ПСИХОЛОГ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08 ГОД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2"/>
          <p:cNvSpPr/>
          <p:nvPr/>
        </p:nvSpPr>
        <p:spPr>
          <a:xfrm>
            <a:off x="468360" y="620640"/>
            <a:ext cx="172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3"/>
          <p:cNvSpPr/>
          <p:nvPr/>
        </p:nvSpPr>
        <p:spPr>
          <a:xfrm>
            <a:off x="468360" y="1955880"/>
            <a:ext cx="7848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4"/>
          <p:cNvSpPr/>
          <p:nvPr/>
        </p:nvSpPr>
        <p:spPr>
          <a:xfrm>
            <a:off x="468360" y="2870280"/>
            <a:ext cx="784872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15"/>
          <p:cNvSpPr/>
          <p:nvPr/>
        </p:nvSpPr>
        <p:spPr>
          <a:xfrm>
            <a:off x="468360" y="620640"/>
            <a:ext cx="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6"/>
          <p:cNvSpPr/>
          <p:nvPr/>
        </p:nvSpPr>
        <p:spPr>
          <a:xfrm>
            <a:off x="8317080" y="620640"/>
            <a:ext cx="0" cy="69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7"/>
          <p:cNvSpPr/>
          <p:nvPr/>
        </p:nvSpPr>
        <p:spPr>
          <a:xfrm>
            <a:off x="468360" y="1316160"/>
            <a:ext cx="0" cy="155412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8"/>
          <p:cNvSpPr/>
          <p:nvPr/>
        </p:nvSpPr>
        <p:spPr>
          <a:xfrm>
            <a:off x="7093080" y="620640"/>
            <a:ext cx="1224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9"/>
          <p:cNvSpPr/>
          <p:nvPr/>
        </p:nvSpPr>
        <p:spPr>
          <a:xfrm>
            <a:off x="8317080" y="1316160"/>
            <a:ext cx="0" cy="155412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0"/>
          <p:cNvSpPr/>
          <p:nvPr/>
        </p:nvSpPr>
        <p:spPr>
          <a:xfrm>
            <a:off x="7093080" y="620640"/>
            <a:ext cx="0" cy="69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21"/>
          <p:cNvSpPr/>
          <p:nvPr/>
        </p:nvSpPr>
        <p:spPr>
          <a:xfrm>
            <a:off x="2195640" y="620640"/>
            <a:ext cx="489744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2"/>
          <p:cNvSpPr/>
          <p:nvPr/>
        </p:nvSpPr>
        <p:spPr>
          <a:xfrm>
            <a:off x="468360" y="1316160"/>
            <a:ext cx="7848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3"/>
          <p:cNvSpPr/>
          <p:nvPr/>
        </p:nvSpPr>
        <p:spPr>
          <a:xfrm>
            <a:off x="2195640" y="620640"/>
            <a:ext cx="0" cy="6955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6"/>
          <p:cNvSpPr/>
          <p:nvPr/>
        </p:nvSpPr>
        <p:spPr>
          <a:xfrm>
            <a:off x="826920" y="3357720"/>
            <a:ext cx="727416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СТРУКТУРНЫЕ ЭЛЕМЕНТЫ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Й ПСИХОЛОГИИ КАК НАУК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57"/>
          <p:cNvSpPr/>
          <p:nvPr/>
        </p:nvSpPr>
        <p:spPr>
          <a:xfrm>
            <a:off x="395280" y="4724280"/>
            <a:ext cx="1584360" cy="43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59"/>
          <p:cNvSpPr/>
          <p:nvPr/>
        </p:nvSpPr>
        <p:spPr>
          <a:xfrm>
            <a:off x="2556000" y="479736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60"/>
          <p:cNvSpPr/>
          <p:nvPr/>
        </p:nvSpPr>
        <p:spPr>
          <a:xfrm>
            <a:off x="684360" y="5877000"/>
            <a:ext cx="223200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ЕТИЧЕСКИЕ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1"/>
          <p:cNvSpPr/>
          <p:nvPr/>
        </p:nvSpPr>
        <p:spPr>
          <a:xfrm>
            <a:off x="3635280" y="587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62"/>
          <p:cNvSpPr/>
          <p:nvPr/>
        </p:nvSpPr>
        <p:spPr>
          <a:xfrm>
            <a:off x="6156360" y="587700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3"/>
          <p:cNvSpPr/>
          <p:nvPr/>
        </p:nvSpPr>
        <p:spPr>
          <a:xfrm>
            <a:off x="4643280" y="4797360"/>
            <a:ext cx="1584360" cy="360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4"/>
          <p:cNvSpPr/>
          <p:nvPr/>
        </p:nvSpPr>
        <p:spPr>
          <a:xfrm>
            <a:off x="6659640" y="4869000"/>
            <a:ext cx="1584360" cy="287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65"/>
          <p:cNvSpPr/>
          <p:nvPr/>
        </p:nvSpPr>
        <p:spPr>
          <a:xfrm>
            <a:off x="4500720" y="2924280"/>
            <a:ext cx="0" cy="4334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66"/>
          <p:cNvSpPr/>
          <p:nvPr/>
        </p:nvSpPr>
        <p:spPr>
          <a:xfrm>
            <a:off x="4427640" y="3789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69"/>
          <p:cNvSpPr/>
          <p:nvPr/>
        </p:nvSpPr>
        <p:spPr>
          <a:xfrm>
            <a:off x="1258920" y="4292640"/>
            <a:ext cx="640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6"/>
          <p:cNvSpPr/>
          <p:nvPr/>
        </p:nvSpPr>
        <p:spPr>
          <a:xfrm>
            <a:off x="1258920" y="5445000"/>
            <a:ext cx="5761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7"/>
          <p:cNvSpPr/>
          <p:nvPr/>
        </p:nvSpPr>
        <p:spPr>
          <a:xfrm>
            <a:off x="1258920" y="5445000"/>
            <a:ext cx="0" cy="3603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8"/>
          <p:cNvSpPr/>
          <p:nvPr/>
        </p:nvSpPr>
        <p:spPr>
          <a:xfrm>
            <a:off x="4427640" y="5300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79"/>
          <p:cNvSpPr/>
          <p:nvPr/>
        </p:nvSpPr>
        <p:spPr>
          <a:xfrm>
            <a:off x="7020000" y="5445000"/>
            <a:ext cx="0" cy="432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80"/>
          <p:cNvSpPr/>
          <p:nvPr/>
        </p:nvSpPr>
        <p:spPr>
          <a:xfrm>
            <a:off x="1258920" y="429264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1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2"/>
          <p:cNvSpPr/>
          <p:nvPr/>
        </p:nvSpPr>
        <p:spPr>
          <a:xfrm>
            <a:off x="3564000" y="4292640"/>
            <a:ext cx="0" cy="504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83"/>
          <p:cNvSpPr/>
          <p:nvPr/>
        </p:nvSpPr>
        <p:spPr>
          <a:xfrm>
            <a:off x="5435640" y="4292640"/>
            <a:ext cx="0" cy="431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84"/>
          <p:cNvSpPr/>
          <p:nvPr/>
        </p:nvSpPr>
        <p:spPr>
          <a:xfrm>
            <a:off x="4427640" y="4365720"/>
            <a:ext cx="1440" cy="1008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9:13Z</dcterms:modified>
  <cp:revision>75</cp:revision>
  <dc:subject/>
  <dc:title>PowerPoint Presentation</dc:title>
</cp:coreProperties>
</file>