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7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D930-0F96-4177-A8DE-D77E6455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8E9C-E2F8-4665-A066-997BB07E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023F-B55B-48A9-9C07-69BF374E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8F70-B894-41DC-9092-AD25F253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8811-31F8-4E97-B734-2DED5B39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529-BC35-46DD-8A8B-E9641519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405F-4F84-4F43-9C2D-8C727E3A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E49-C23E-447C-9731-5E7030B9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C8BF-6FB8-4926-8A10-1027B883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E3B2-5889-4985-A17C-65701374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AB89-0863-48B7-80DD-9F85F6EB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3AF9-3460-43EA-9407-59389871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3598-A018-428D-A2D7-99ED1F6248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image" Target="../media/image43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6.png"/><Relationship Id="rId19" Type="http://schemas.openxmlformats.org/officeDocument/2006/relationships/image" Target="../media/image47.pn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6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259056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теме будут  рассмотрены вопрос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ущность конфликта и его структур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лассификация конфликтов и причины их возникнов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инамика конфлик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хнология управления конфликт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ория поведения личности в конфлик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09480" y="380880"/>
            <a:ext cx="7896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eda1"/>
                </a:solidFill>
                <a:latin typeface="Arial"/>
              </a:rPr>
              <a:t>Раздел  3.   Социальная    психология малых    групп.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eda1"/>
              </a:solidFill>
              <a:latin typeface="Arial"/>
              <a:ea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28600" y="1295280"/>
            <a:ext cx="830592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e2eba"/>
                </a:solidFill>
                <a:uFillTx/>
                <a:latin typeface="Times New Roman"/>
              </a:rPr>
              <a:t>Тема</a:t>
            </a:r>
            <a:r>
              <a:rPr b="0" lang="ru-RU" sz="4400" spc="-1" strike="noStrike" u="sng">
                <a:solidFill>
                  <a:srgbClr val="2e2eba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 u="sng">
                <a:solidFill>
                  <a:srgbClr val="2e2eba"/>
                </a:solidFill>
                <a:uFillTx/>
                <a:latin typeface="Times New Roman"/>
              </a:rPr>
              <a:t>3.4</a:t>
            </a:r>
            <a:r>
              <a:rPr b="0" lang="ru-RU" sz="2800" spc="-1" strike="noStrike" u="sng">
                <a:solidFill>
                  <a:srgbClr val="2e2eba"/>
                </a:solidFill>
                <a:uFillTx/>
                <a:latin typeface="Times New Roman"/>
              </a:rPr>
              <a:t> Общая теория конфлик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езультате изучения темы вы будете иметь представление о конфликте как о социальном феномене происходящем в жизни люд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80880" y="4952880"/>
            <a:ext cx="7239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Соснин В.А. Социальная психология: учебник для спо / В.А. Соснин, Е.А. Красникова. - М.: ФОРУМ: ИНФРА-М.- 2009. - 336 с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Социальная психология: учебник для спо / С.А. Сущенко, Т.В. Плотникова, Н.И. Сидоркин. - 2-е изд. - Ростов н/Д: Феникс.- 2009. - 345 с. - (Среднее проф. образование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олнительная литерату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Крысько В.Г.    Социальная психология / В.Г. Крысько. - 2-е изд. - М. [и др.]: Питер.- 2010. - 431 с. - (Учебник для вузов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Морозов,А.В.    Социальная психология : учебник для вузов / Морозов,А.В. - 2-е изд. - М. : Академический проект: Логос.- 2010. - 336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2666880" y="457200"/>
            <a:ext cx="3657600" cy="429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вершение конфликт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295280"/>
            <a:ext cx="2895840" cy="5806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остоятельно конфликтующими сторон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5791320" y="1295280"/>
            <a:ext cx="2438280" cy="8240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редством вмешательства третьих ли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04920" y="2209680"/>
            <a:ext cx="1981080" cy="5806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тухание 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04920" y="2895480"/>
            <a:ext cx="1981080" cy="5806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теря мотива в борьб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304920" y="3581280"/>
            <a:ext cx="1981080" cy="58068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ориентация моти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04920" y="4267080"/>
            <a:ext cx="1981080" cy="5806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тощение ресурсов, си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3200400" y="2209680"/>
            <a:ext cx="1447920" cy="58068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ешение 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743200" y="3200400"/>
            <a:ext cx="1066680" cy="3373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4191120" y="3200400"/>
            <a:ext cx="1066680" cy="33732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пол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5257800" y="2514600"/>
            <a:ext cx="1676520" cy="58068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егулирование 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7162920" y="2514600"/>
            <a:ext cx="1295280" cy="58068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странение 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4191120" y="3962520"/>
            <a:ext cx="1600200" cy="33732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трудниче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4191120" y="4419720"/>
            <a:ext cx="1600200" cy="33732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мпромис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4191120" y="4876920"/>
            <a:ext cx="1600200" cy="58068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ступки одной из сторо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6248520" y="3581280"/>
            <a:ext cx="2286000" cy="1067400"/>
          </a:xfrm>
          <a:prstGeom prst="rect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вод одного или обоих оппонентов на другое место работы (увольнение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6248520" y="4800600"/>
            <a:ext cx="2286000" cy="580680"/>
          </a:xfrm>
          <a:prstGeom prst="rect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ъятие объекта 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6248520" y="5562720"/>
            <a:ext cx="2286000" cy="580680"/>
          </a:xfrm>
          <a:prstGeom prst="rect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странение условий 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2743200" y="5867280"/>
            <a:ext cx="2743200" cy="580680"/>
          </a:xfrm>
          <a:prstGeom prst="rect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растание в другой конфлик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AutoShape 22"/>
          <p:cNvCxnSpPr/>
          <p:nvPr/>
        </p:nvCxnSpPr>
        <p:spPr>
          <a:xfrm>
            <a:off x="6324120" y="609480"/>
            <a:ext cx="686520" cy="619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23"/>
          <p:cNvCxnSpPr/>
          <p:nvPr/>
        </p:nvCxnSpPr>
        <p:spPr>
          <a:xfrm flipV="1" rot="10800000">
            <a:off x="1980360" y="608400"/>
            <a:ext cx="686520" cy="639000"/>
          </a:xfrm>
          <a:prstGeom prst="bentConnector3">
            <a:avLst>
              <a:gd name="adj1" fmla="val 1002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AutoShape 26"/>
          <p:cNvCxnSpPr>
            <a:endCxn id="233" idx="1"/>
          </p:cNvCxnSpPr>
          <p:nvPr/>
        </p:nvCxnSpPr>
        <p:spPr>
          <a:xfrm flipH="1" rot="16200000">
            <a:off x="460800" y="3881160"/>
            <a:ext cx="425844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AutoShape 27"/>
          <p:cNvCxnSpPr>
            <a:stCxn id="218" idx="0"/>
            <a:endCxn id="222" idx="0"/>
          </p:cNvCxnSpPr>
          <p:nvPr/>
        </p:nvCxnSpPr>
        <p:spPr>
          <a:xfrm flipH="1" rot="16200000">
            <a:off x="2608560" y="894960"/>
            <a:ext cx="2520" cy="2629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8" name="Line 28"/>
          <p:cNvSpPr/>
          <p:nvPr/>
        </p:nvSpPr>
        <p:spPr>
          <a:xfrm flipH="1">
            <a:off x="3352320" y="28195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29"/>
          <p:cNvSpPr/>
          <p:nvPr/>
        </p:nvSpPr>
        <p:spPr>
          <a:xfrm>
            <a:off x="4114800" y="28195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AutoShape 30"/>
          <p:cNvCxnSpPr>
            <a:stCxn id="222" idx="2"/>
            <a:endCxn id="229" idx="1"/>
          </p:cNvCxnSpPr>
          <p:nvPr/>
        </p:nvCxnSpPr>
        <p:spPr>
          <a:xfrm flipH="1" rot="16200000">
            <a:off x="2870640" y="3852720"/>
            <a:ext cx="237240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Line 31"/>
          <p:cNvSpPr/>
          <p:nvPr/>
        </p:nvSpPr>
        <p:spPr>
          <a:xfrm>
            <a:off x="39625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AutoShape 33"/>
          <p:cNvCxnSpPr>
            <a:endCxn id="229" idx="3"/>
          </p:cNvCxnSpPr>
          <p:nvPr/>
        </p:nvCxnSpPr>
        <p:spPr>
          <a:xfrm rot="5400000">
            <a:off x="4880880" y="4033440"/>
            <a:ext cx="204876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Line 34"/>
          <p:cNvSpPr/>
          <p:nvPr/>
        </p:nvSpPr>
        <p:spPr>
          <a:xfrm flipH="1">
            <a:off x="579096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35"/>
          <p:cNvSpPr/>
          <p:nvPr/>
        </p:nvSpPr>
        <p:spPr>
          <a:xfrm flipH="1">
            <a:off x="579096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36"/>
          <p:cNvSpPr/>
          <p:nvPr/>
        </p:nvSpPr>
        <p:spPr>
          <a:xfrm>
            <a:off x="39625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AutoShape 37"/>
          <p:cNvCxnSpPr/>
          <p:nvPr/>
        </p:nvCxnSpPr>
        <p:spPr>
          <a:xfrm>
            <a:off x="8458200" y="2819520"/>
            <a:ext cx="2160" cy="304848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Line 38"/>
          <p:cNvSpPr/>
          <p:nvPr/>
        </p:nvSpPr>
        <p:spPr>
          <a:xfrm flipH="1">
            <a:off x="8534160" y="4114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39"/>
          <p:cNvSpPr/>
          <p:nvPr/>
        </p:nvSpPr>
        <p:spPr>
          <a:xfrm flipH="1">
            <a:off x="853416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AutoShape 40"/>
          <p:cNvCxnSpPr>
            <a:stCxn id="225" idx="0"/>
            <a:endCxn id="226" idx="0"/>
          </p:cNvCxnSpPr>
          <p:nvPr/>
        </p:nvCxnSpPr>
        <p:spPr>
          <a:xfrm flipH="1" rot="16200000">
            <a:off x="6952320" y="1657800"/>
            <a:ext cx="2160" cy="1715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0" name="AutoShape 44"/>
          <p:cNvCxnSpPr/>
          <p:nvPr/>
        </p:nvCxnSpPr>
        <p:spPr>
          <a:xfrm flipH="1">
            <a:off x="5486040" y="1828800"/>
            <a:ext cx="2743920" cy="4450320"/>
          </a:xfrm>
          <a:prstGeom prst="bentConnector3">
            <a:avLst>
              <a:gd name="adj1" fmla="val -243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1676520" y="380880"/>
            <a:ext cx="5638680" cy="459720"/>
          </a:xfrm>
          <a:prstGeom prst="rect">
            <a:avLst/>
          </a:prstGeom>
          <a:gradFill rotWithShape="0">
            <a:gsLst>
              <a:gs pos="0">
                <a:srgbClr val="fff2bd"/>
              </a:gs>
              <a:gs pos="100000">
                <a:srgbClr val="82d4e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ы разре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533520" y="1219320"/>
            <a:ext cx="3504960" cy="1620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дминистративны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вольн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ение су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евод на другую работ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5410080" y="1219320"/>
            <a:ext cx="2971800" cy="20372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ическ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се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бежд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ьб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ъясн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2666880" y="3505320"/>
            <a:ext cx="3810240" cy="3988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лгоритм упра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2743200" y="4191120"/>
            <a:ext cx="3657600" cy="19353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учение причин возникновения 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граничение числа участни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полнительный анализ конфликта с помощью экспер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нятие реш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1"/>
          <p:cNvSpPr/>
          <p:nvPr/>
        </p:nvSpPr>
        <p:spPr>
          <a:xfrm>
            <a:off x="449568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2"/>
          <p:cNvSpPr/>
          <p:nvPr/>
        </p:nvSpPr>
        <p:spPr>
          <a:xfrm>
            <a:off x="449568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3"/>
          <p:cNvSpPr/>
          <p:nvPr/>
        </p:nvSpPr>
        <p:spPr>
          <a:xfrm>
            <a:off x="449568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4"/>
          <p:cNvSpPr/>
          <p:nvPr/>
        </p:nvSpPr>
        <p:spPr>
          <a:xfrm>
            <a:off x="449568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5"/>
          <p:cNvSpPr/>
          <p:nvPr/>
        </p:nvSpPr>
        <p:spPr>
          <a:xfrm>
            <a:off x="3048120" y="838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5943600" y="838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AutoShape 22"/>
          <p:cNvCxnSpPr>
            <a:stCxn id="253" idx="2"/>
            <a:endCxn id="254" idx="3"/>
          </p:cNvCxnSpPr>
          <p:nvPr/>
        </p:nvCxnSpPr>
        <p:spPr>
          <a:xfrm rot="5400000">
            <a:off x="6455160" y="3267720"/>
            <a:ext cx="46260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23"/>
          <p:cNvCxnSpPr>
            <a:stCxn id="252" idx="2"/>
            <a:endCxn id="254" idx="1"/>
          </p:cNvCxnSpPr>
          <p:nvPr/>
        </p:nvCxnSpPr>
        <p:spPr>
          <a:xfrm flipH="1" rot="16200000">
            <a:off x="2039040" y="3080160"/>
            <a:ext cx="87552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Oval 2"/>
          <p:cNvSpPr/>
          <p:nvPr/>
        </p:nvSpPr>
        <p:spPr>
          <a:xfrm>
            <a:off x="1219320" y="609480"/>
            <a:ext cx="6248160" cy="5715000"/>
          </a:xfrm>
          <a:prstGeom prst="ellipse">
            <a:avLst/>
          </a:prstGeom>
          <a:gradFill rotWithShape="0">
            <a:gsLst>
              <a:gs pos="0">
                <a:srgbClr val="ffeda1"/>
              </a:gs>
              <a:gs pos="100000">
                <a:srgbClr val="cce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3"/>
          <p:cNvSpPr/>
          <p:nvPr/>
        </p:nvSpPr>
        <p:spPr>
          <a:xfrm>
            <a:off x="2286000" y="2438280"/>
            <a:ext cx="4419720" cy="1447920"/>
          </a:xfrm>
          <a:prstGeom prst="ellipse">
            <a:avLst/>
          </a:prstGeom>
          <a:gradFill rotWithShape="0">
            <a:gsLst>
              <a:gs pos="0">
                <a:srgbClr val="e3f5ff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ели повед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и в конфлик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WordArt 5"/>
          <p:cNvSpPr txBox="1"/>
          <p:nvPr/>
        </p:nvSpPr>
        <p:spPr>
          <a:xfrm>
            <a:off x="3200400" y="838080"/>
            <a:ext cx="2286000" cy="609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нструктивна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67" name="WordArt 6"/>
          <p:cNvSpPr txBox="1"/>
          <p:nvPr/>
        </p:nvSpPr>
        <p:spPr>
          <a:xfrm rot="1234800">
            <a:off x="1676520" y="4495680"/>
            <a:ext cx="2438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662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еструктивна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68" name="WordArt 7"/>
          <p:cNvSpPr txBox="1"/>
          <p:nvPr/>
        </p:nvSpPr>
        <p:spPr>
          <a:xfrm rot="20047800">
            <a:off x="4800600" y="4267080"/>
            <a:ext cx="2351160" cy="8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223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нформистска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69" name="AutoShape 8"/>
          <p:cNvSpPr/>
          <p:nvPr/>
        </p:nvSpPr>
        <p:spPr>
          <a:xfrm>
            <a:off x="4114800" y="1371600"/>
            <a:ext cx="609480" cy="914400"/>
          </a:xfrm>
          <a:prstGeom prst="upArrow">
            <a:avLst>
              <a:gd name="adj1" fmla="val 50000"/>
              <a:gd name="adj2" fmla="val 37507"/>
            </a:avLst>
          </a:prstGeom>
          <a:gradFill rotWithShape="0">
            <a:gsLst>
              <a:gs pos="0">
                <a:srgbClr val="2e2eba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2819520" y="38098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gradFill rotWithShape="0">
            <a:gsLst>
              <a:gs pos="0">
                <a:srgbClr val="ccec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11"/>
          <p:cNvSpPr/>
          <p:nvPr/>
        </p:nvSpPr>
        <p:spPr>
          <a:xfrm>
            <a:off x="5486400" y="388620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gradFill rotWithShape="0">
            <a:gsLst>
              <a:gs pos="0">
                <a:srgbClr val="ccecff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914400" y="1447920"/>
            <a:ext cx="7010280" cy="1236960"/>
          </a:xfrm>
          <a:prstGeom prst="rect">
            <a:avLst/>
          </a:prstGeom>
          <a:gradFill rotWithShape="0">
            <a:gsLst>
              <a:gs pos="0">
                <a:srgbClr val="7fd8ed"/>
              </a:gs>
              <a:gs pos="100000">
                <a:srgbClr val="fff4c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ратегии поведения ли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3"/>
          <p:cNvSpPr/>
          <p:nvPr/>
        </p:nvSpPr>
        <p:spPr>
          <a:xfrm>
            <a:off x="685800" y="3276720"/>
            <a:ext cx="2133720" cy="1143000"/>
          </a:xfrm>
          <a:prstGeom prst="flowChartAlternateProcess">
            <a:avLst/>
          </a:prstGeom>
          <a:gradFill rotWithShape="0">
            <a:gsLst>
              <a:gs pos="0">
                <a:srgbClr val="83deed"/>
              </a:gs>
              <a:gs pos="50000">
                <a:srgbClr val="fff2bd"/>
              </a:gs>
              <a:gs pos="100000">
                <a:srgbClr val="83de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нуж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6172200" y="3276720"/>
            <a:ext cx="2133720" cy="1143000"/>
          </a:xfrm>
          <a:prstGeom prst="flowChartAlternateProcess">
            <a:avLst/>
          </a:prstGeom>
          <a:gradFill rotWithShape="0">
            <a:gsLst>
              <a:gs pos="0">
                <a:srgbClr val="83deed"/>
              </a:gs>
              <a:gs pos="50000">
                <a:srgbClr val="fff2bd"/>
              </a:gs>
              <a:gs pos="100000">
                <a:srgbClr val="83de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уп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429000" y="3809880"/>
            <a:ext cx="2133720" cy="1143000"/>
          </a:xfrm>
          <a:prstGeom prst="flowChartAlternateProcess">
            <a:avLst/>
          </a:prstGeom>
          <a:gradFill rotWithShape="0">
            <a:gsLst>
              <a:gs pos="0">
                <a:srgbClr val="83deed"/>
              </a:gs>
              <a:gs pos="50000">
                <a:srgbClr val="fff2bd"/>
              </a:gs>
              <a:gs pos="100000">
                <a:srgbClr val="83dee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х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6"/>
          <p:cNvSpPr/>
          <p:nvPr/>
        </p:nvSpPr>
        <p:spPr>
          <a:xfrm rot="2239800">
            <a:off x="1371240" y="251424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ccce6"/>
              </a:gs>
              <a:gs pos="100000">
                <a:srgbClr val="ddc9c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191120" y="2514600"/>
            <a:ext cx="609480" cy="1143000"/>
          </a:xfrm>
          <a:prstGeom prst="downArrow">
            <a:avLst>
              <a:gd name="adj1" fmla="val 50000"/>
              <a:gd name="adj2" fmla="val 46884"/>
            </a:avLst>
          </a:prstGeom>
          <a:gradFill rotWithShape="0">
            <a:gsLst>
              <a:gs pos="0">
                <a:srgbClr val="4ccce6"/>
              </a:gs>
              <a:gs pos="100000">
                <a:srgbClr val="ddc9c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8"/>
          <p:cNvSpPr/>
          <p:nvPr/>
        </p:nvSpPr>
        <p:spPr>
          <a:xfrm rot="20058000">
            <a:off x="6858000" y="2514600"/>
            <a:ext cx="609480" cy="6094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ccce6"/>
              </a:gs>
              <a:gs pos="100000">
                <a:srgbClr val="ddc9c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762120" y="1523880"/>
            <a:ext cx="7467480" cy="459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4c5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тегии поведения ли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3"/>
          <p:cNvSpPr/>
          <p:nvPr/>
        </p:nvSpPr>
        <p:spPr>
          <a:xfrm>
            <a:off x="762120" y="3124080"/>
            <a:ext cx="281916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4c5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проми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5334120" y="3124080"/>
            <a:ext cx="281916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4c5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труднич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5"/>
          <p:cNvSpPr/>
          <p:nvPr/>
        </p:nvSpPr>
        <p:spPr>
          <a:xfrm rot="1957800">
            <a:off x="1676160" y="2133360"/>
            <a:ext cx="838080" cy="8380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8dc"/>
              </a:gs>
              <a:gs pos="50000">
                <a:srgbClr val="ffeda1"/>
              </a:gs>
              <a:gs pos="100000">
                <a:srgbClr val="0088d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6"/>
          <p:cNvSpPr/>
          <p:nvPr/>
        </p:nvSpPr>
        <p:spPr>
          <a:xfrm rot="19938600">
            <a:off x="6400440" y="2133360"/>
            <a:ext cx="838080" cy="8380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8dc"/>
              </a:gs>
              <a:gs pos="50000">
                <a:srgbClr val="ffeda1"/>
              </a:gs>
              <a:gs pos="100000">
                <a:srgbClr val="0088d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Oval 2"/>
          <p:cNvSpPr/>
          <p:nvPr/>
        </p:nvSpPr>
        <p:spPr>
          <a:xfrm>
            <a:off x="2819520" y="2514600"/>
            <a:ext cx="3733560" cy="1371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пы конфликтных личнос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5"/>
          <p:cNvSpPr/>
          <p:nvPr/>
        </p:nvSpPr>
        <p:spPr>
          <a:xfrm>
            <a:off x="457200" y="3048120"/>
            <a:ext cx="2057400" cy="533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управляем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12"/>
          <p:cNvSpPr/>
          <p:nvPr/>
        </p:nvSpPr>
        <p:spPr>
          <a:xfrm>
            <a:off x="1219320" y="1828800"/>
            <a:ext cx="1981080" cy="5335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монстратив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13"/>
          <p:cNvSpPr/>
          <p:nvPr/>
        </p:nvSpPr>
        <p:spPr>
          <a:xfrm>
            <a:off x="3657600" y="5105520"/>
            <a:ext cx="2057400" cy="533160"/>
          </a:xfrm>
          <a:prstGeom prst="ellipse">
            <a:avLst/>
          </a:prstGeom>
          <a:gradFill rotWithShape="0">
            <a:gsLst>
              <a:gs pos="0">
                <a:srgbClr val="ffeda1"/>
              </a:gs>
              <a:gs pos="100000">
                <a:srgbClr val="c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бесконфликтный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14"/>
          <p:cNvSpPr/>
          <p:nvPr/>
        </p:nvSpPr>
        <p:spPr>
          <a:xfrm>
            <a:off x="5943600" y="1828800"/>
            <a:ext cx="2057400" cy="5335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гид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15"/>
          <p:cNvSpPr/>
          <p:nvPr/>
        </p:nvSpPr>
        <p:spPr>
          <a:xfrm>
            <a:off x="6781680" y="3124080"/>
            <a:ext cx="2057400" cy="5335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верхточ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25"/>
          <p:cNvSpPr/>
          <p:nvPr/>
        </p:nvSpPr>
        <p:spPr>
          <a:xfrm>
            <a:off x="5791320" y="3886200"/>
            <a:ext cx="1981080" cy="68580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26"/>
          <p:cNvSpPr/>
          <p:nvPr/>
        </p:nvSpPr>
        <p:spPr>
          <a:xfrm flipH="1">
            <a:off x="1447200" y="3733920"/>
            <a:ext cx="1904760" cy="838080"/>
          </a:xfrm>
          <a:custGeom>
            <a:avLst/>
            <a:gdLst>
              <a:gd name="textAreaLeft" fmla="*/ 333000 w 1904760"/>
              <a:gd name="textAreaRight" fmla="*/ 1380600 w 190476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35"/>
          <p:cNvSpPr/>
          <p:nvPr/>
        </p:nvSpPr>
        <p:spPr>
          <a:xfrm rot="5398800">
            <a:off x="4228560" y="4228920"/>
            <a:ext cx="914400" cy="533160"/>
          </a:xfrm>
          <a:prstGeom prst="pie">
            <a:avLst/>
          </a:prstGeom>
          <a:gradFill rotWithShape="0">
            <a:gsLst>
              <a:gs pos="0">
                <a:srgbClr val="ffeda1"/>
              </a:gs>
              <a:gs pos="100000">
                <a:srgbClr val="c7c7f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45"/>
          <p:cNvSpPr/>
          <p:nvPr/>
        </p:nvSpPr>
        <p:spPr>
          <a:xfrm flipH="1" flipV="1" rot="3783000">
            <a:off x="5276880" y="208440"/>
            <a:ext cx="990720" cy="2248200"/>
          </a:xfrm>
          <a:custGeom>
            <a:avLst/>
            <a:gdLst>
              <a:gd name="textAreaLeft" fmla="*/ 132480 w 990720"/>
              <a:gd name="textAreaRight" fmla="*/ 858240 w 990720"/>
              <a:gd name="textAreaTop" fmla="*/ 393480 h 2248200"/>
              <a:gd name="textAreaBottom" fmla="*/ 1630080 h 224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eda1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48"/>
          <p:cNvSpPr/>
          <p:nvPr/>
        </p:nvSpPr>
        <p:spPr>
          <a:xfrm flipV="1" rot="17394600">
            <a:off x="2960280" y="335880"/>
            <a:ext cx="1295640" cy="19810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eda1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657600" y="533520"/>
            <a:ext cx="1447920" cy="58068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онфликт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зи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523880" y="533520"/>
            <a:ext cx="1143000" cy="58068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торон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едм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638680" y="533520"/>
            <a:ext cx="914400" cy="58068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мотив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3276720" y="2362320"/>
            <a:ext cx="205740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чины 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3505320" y="3124080"/>
            <a:ext cx="160020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кономическ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52280" y="2438280"/>
            <a:ext cx="2514600" cy="82404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циально-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сихологическ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оциально-политическ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095880" y="2362320"/>
            <a:ext cx="2743200" cy="82404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ьно-демографическ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индивидуально-психологическ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990720" y="76320"/>
            <a:ext cx="167616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последствия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5638680" y="76320"/>
            <a:ext cx="137160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предмет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3429000" y="1447920"/>
            <a:ext cx="175248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длитель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5638680" y="1447920"/>
            <a:ext cx="160020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субъект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990720" y="1447920"/>
            <a:ext cx="1676160" cy="58068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сфере проя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304920" y="3581280"/>
            <a:ext cx="861048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инамика  конфликт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304920" y="3962520"/>
            <a:ext cx="1676160" cy="58068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зникновение и развит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2362320" y="4114800"/>
            <a:ext cx="129528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озн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4038480" y="3962520"/>
            <a:ext cx="1828800" cy="58068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чало открытого 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7696080" y="4114800"/>
            <a:ext cx="121932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9"/>
          <p:cNvSpPr/>
          <p:nvPr/>
        </p:nvSpPr>
        <p:spPr>
          <a:xfrm>
            <a:off x="6324480" y="4114800"/>
            <a:ext cx="99072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т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1295280" y="4724280"/>
            <a:ext cx="182880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чальная фаз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4114800" y="4724280"/>
            <a:ext cx="160020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аза подъё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6553080" y="4724280"/>
            <a:ext cx="53352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3"/>
          <p:cNvSpPr/>
          <p:nvPr/>
        </p:nvSpPr>
        <p:spPr>
          <a:xfrm>
            <a:off x="7543800" y="4724280"/>
            <a:ext cx="144792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аза спа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1143000" y="5867280"/>
            <a:ext cx="7010280" cy="33732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b5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пра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5"/>
          <p:cNvSpPr/>
          <p:nvPr/>
        </p:nvSpPr>
        <p:spPr>
          <a:xfrm>
            <a:off x="609480" y="53341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нозир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6"/>
          <p:cNvSpPr/>
          <p:nvPr/>
        </p:nvSpPr>
        <p:spPr>
          <a:xfrm>
            <a:off x="3733920" y="5257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упрежд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7"/>
          <p:cNvSpPr/>
          <p:nvPr/>
        </p:nvSpPr>
        <p:spPr>
          <a:xfrm>
            <a:off x="6705720" y="53341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имулир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8"/>
          <p:cNvSpPr/>
          <p:nvPr/>
        </p:nvSpPr>
        <p:spPr>
          <a:xfrm>
            <a:off x="1523880" y="64008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гулир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5943600" y="64008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еш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30"/>
          <p:cNvSpPr/>
          <p:nvPr/>
        </p:nvSpPr>
        <p:spPr>
          <a:xfrm flipH="1" flipV="1">
            <a:off x="2743200" y="2286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31"/>
          <p:cNvSpPr/>
          <p:nvPr/>
        </p:nvSpPr>
        <p:spPr>
          <a:xfrm flipV="1">
            <a:off x="5181480" y="3049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32"/>
          <p:cNvSpPr/>
          <p:nvPr/>
        </p:nvSpPr>
        <p:spPr>
          <a:xfrm flipH="1">
            <a:off x="5181480" y="838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33"/>
          <p:cNvSpPr/>
          <p:nvPr/>
        </p:nvSpPr>
        <p:spPr>
          <a:xfrm>
            <a:off x="2666880" y="838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34"/>
          <p:cNvSpPr/>
          <p:nvPr/>
        </p:nvSpPr>
        <p:spPr>
          <a:xfrm flipH="1">
            <a:off x="2743200" y="990720"/>
            <a:ext cx="8380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35"/>
          <p:cNvSpPr/>
          <p:nvPr/>
        </p:nvSpPr>
        <p:spPr>
          <a:xfrm>
            <a:off x="5181480" y="10666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36"/>
          <p:cNvSpPr/>
          <p:nvPr/>
        </p:nvSpPr>
        <p:spPr>
          <a:xfrm>
            <a:off x="434340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AutoShape 37"/>
          <p:cNvCxnSpPr/>
          <p:nvPr/>
        </p:nvCxnSpPr>
        <p:spPr>
          <a:xfrm flipV="1" rot="16200000">
            <a:off x="3175920" y="1242360"/>
            <a:ext cx="1610280" cy="648360"/>
          </a:xfrm>
          <a:prstGeom prst="bentConnector4">
            <a:avLst>
              <a:gd name="adj1" fmla="val 16659"/>
              <a:gd name="adj2" fmla="val 1649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AutoShape 39"/>
          <p:cNvCxnSpPr>
            <a:endCxn id="295" idx="3"/>
          </p:cNvCxnSpPr>
          <p:nvPr/>
        </p:nvCxnSpPr>
        <p:spPr>
          <a:xfrm flipH="1" flipV="1" rot="5400000">
            <a:off x="3995280" y="1252080"/>
            <a:ext cx="1534320" cy="686520"/>
          </a:xfrm>
          <a:prstGeom prst="bentConnector4">
            <a:avLst>
              <a:gd name="adj1" fmla="val 16756"/>
              <a:gd name="adj2" fmla="val 14674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AutoShape 40"/>
          <p:cNvCxnSpPr>
            <a:stCxn id="300" idx="3"/>
            <a:endCxn id="298" idx="1"/>
          </p:cNvCxnSpPr>
          <p:nvPr/>
        </p:nvCxnSpPr>
        <p:spPr>
          <a:xfrm flipV="1">
            <a:off x="2666880" y="2534400"/>
            <a:ext cx="610560" cy="321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3" name="AutoShape 41"/>
          <p:cNvCxnSpPr>
            <a:stCxn id="301" idx="1"/>
            <a:endCxn id="298" idx="3"/>
          </p:cNvCxnSpPr>
          <p:nvPr/>
        </p:nvCxnSpPr>
        <p:spPr>
          <a:xfrm rot="10800000">
            <a:off x="5333400" y="2534400"/>
            <a:ext cx="762480" cy="2448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4" name="AutoShape 42"/>
          <p:cNvCxnSpPr>
            <a:stCxn id="299" idx="0"/>
            <a:endCxn id="298" idx="2"/>
          </p:cNvCxnSpPr>
          <p:nvPr/>
        </p:nvCxnSpPr>
        <p:spPr>
          <a:xfrm flipV="1">
            <a:off x="4304880" y="2707560"/>
            <a:ext cx="1080" cy="41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5" name="Line 43"/>
          <p:cNvSpPr/>
          <p:nvPr/>
        </p:nvSpPr>
        <p:spPr>
          <a:xfrm>
            <a:off x="205740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44"/>
          <p:cNvSpPr/>
          <p:nvPr/>
        </p:nvSpPr>
        <p:spPr>
          <a:xfrm>
            <a:off x="64771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45"/>
          <p:cNvSpPr/>
          <p:nvPr/>
        </p:nvSpPr>
        <p:spPr>
          <a:xfrm>
            <a:off x="198108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46"/>
          <p:cNvSpPr/>
          <p:nvPr/>
        </p:nvSpPr>
        <p:spPr>
          <a:xfrm>
            <a:off x="365760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47"/>
          <p:cNvSpPr/>
          <p:nvPr/>
        </p:nvSpPr>
        <p:spPr>
          <a:xfrm>
            <a:off x="58672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48"/>
          <p:cNvSpPr/>
          <p:nvPr/>
        </p:nvSpPr>
        <p:spPr>
          <a:xfrm>
            <a:off x="731520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49"/>
          <p:cNvSpPr/>
          <p:nvPr/>
        </p:nvSpPr>
        <p:spPr>
          <a:xfrm>
            <a:off x="1371600" y="4572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50"/>
          <p:cNvSpPr/>
          <p:nvPr/>
        </p:nvSpPr>
        <p:spPr>
          <a:xfrm>
            <a:off x="281952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51"/>
          <p:cNvSpPr/>
          <p:nvPr/>
        </p:nvSpPr>
        <p:spPr>
          <a:xfrm>
            <a:off x="4876920" y="4572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52"/>
          <p:cNvSpPr/>
          <p:nvPr/>
        </p:nvSpPr>
        <p:spPr>
          <a:xfrm>
            <a:off x="6781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53"/>
          <p:cNvSpPr/>
          <p:nvPr/>
        </p:nvSpPr>
        <p:spPr>
          <a:xfrm>
            <a:off x="82296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54"/>
          <p:cNvSpPr/>
          <p:nvPr/>
        </p:nvSpPr>
        <p:spPr>
          <a:xfrm flipV="1">
            <a:off x="1600200" y="563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55"/>
          <p:cNvSpPr/>
          <p:nvPr/>
        </p:nvSpPr>
        <p:spPr>
          <a:xfrm flipV="1">
            <a:off x="45720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56"/>
          <p:cNvSpPr/>
          <p:nvPr/>
        </p:nvSpPr>
        <p:spPr>
          <a:xfrm flipV="1">
            <a:off x="7543800" y="563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57"/>
          <p:cNvSpPr/>
          <p:nvPr/>
        </p:nvSpPr>
        <p:spPr>
          <a:xfrm>
            <a:off x="236232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58"/>
          <p:cNvSpPr/>
          <p:nvPr/>
        </p:nvSpPr>
        <p:spPr>
          <a:xfrm>
            <a:off x="662940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b8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2362320" y="22860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просы для самоконтро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228600" y="685800"/>
            <a:ext cx="548640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айте определение конфликт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зовите и дайте определение основным структурным элементам конфликт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 каким причинам возникают конфликты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ведите классификацию конфликт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к соотносятся фазы и этапы конфликта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то значит управление конфликтом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кие виды деятельности субъекта управления включают в своё содержание процесс управления конфликтом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зовите основные формы завершения конфликта и охарактеризуйте и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зовите основные модели поведения в конфликтном взаимодейств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скройте основные стратегии поведения в конфликт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еречислите основные типы конфликтных личносте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352680" y="51814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опросы для обсу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228600" y="5562720"/>
            <a:ext cx="6858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зложите основные пути и условия профилактики и предупреждения конфликтов в малых группа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думайте и определите каким образом следует действовать находящимся в конфликте, чтобы разумно разрешить его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5" name="Object 6"/>
          <p:cNvGraphicFramePr/>
          <p:nvPr/>
        </p:nvGraphicFramePr>
        <p:xfrm>
          <a:off x="6705720" y="4114800"/>
          <a:ext cx="1904760" cy="18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114800"/>
                    <a:ext cx="190476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3"/>
          <p:cNvSpPr/>
          <p:nvPr/>
        </p:nvSpPr>
        <p:spPr>
          <a:xfrm>
            <a:off x="4495680" y="914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971800" y="3352680"/>
            <a:ext cx="2971800" cy="5335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толкнов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8"/>
          <p:cNvSpPr/>
          <p:nvPr/>
        </p:nvSpPr>
        <p:spPr>
          <a:xfrm flipH="1">
            <a:off x="2742840" y="388620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5257800" y="388620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4572000" y="4724280"/>
            <a:ext cx="3505320" cy="137160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a9ffe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борство субъектов социального взаимодействия в виде ущерб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914400" y="4724280"/>
            <a:ext cx="3124080" cy="1371600"/>
          </a:xfrm>
          <a:prstGeom prst="rect">
            <a:avLst/>
          </a:prstGeom>
          <a:gradFill rotWithShape="0">
            <a:gsLst>
              <a:gs pos="0">
                <a:srgbClr val="ffeda1"/>
              </a:gs>
              <a:gs pos="100000">
                <a:srgbClr val="a9ffe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противоположно направленных мотив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5"/>
          <p:cNvSpPr/>
          <p:nvPr/>
        </p:nvSpPr>
        <p:spPr>
          <a:xfrm>
            <a:off x="3124080" y="1447920"/>
            <a:ext cx="2971800" cy="1371600"/>
          </a:xfrm>
          <a:prstGeom prst="irregularSeal2">
            <a:avLst/>
          </a:prstGeom>
          <a:gradFill rotWithShape="0">
            <a:gsLst>
              <a:gs pos="0">
                <a:srgbClr val="ffeda1"/>
              </a:gs>
              <a:gs pos="100000">
                <a:srgbClr val="ccecff"/>
              </a:gs>
            </a:gsLst>
            <a:lin ang="5400000"/>
          </a:gradFill>
          <a:ln w="19080">
            <a:solidFill>
              <a:srgbClr val="ff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лик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457200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8"/>
          <p:cNvSpPr/>
          <p:nvPr/>
        </p:nvSpPr>
        <p:spPr>
          <a:xfrm>
            <a:off x="1752480" y="152280"/>
            <a:ext cx="5715000" cy="838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eda1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латинског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447920" y="1143000"/>
            <a:ext cx="5943600" cy="457200"/>
          </a:xfrm>
          <a:prstGeom prst="rect">
            <a:avLst/>
          </a:prstGeom>
          <a:gradFill rotWithShape="0">
            <a:gsLst>
              <a:gs pos="0">
                <a:srgbClr val="fff5c9"/>
              </a:gs>
              <a:gs pos="100000">
                <a:srgbClr val="4fb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уктурные элементы конфли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1600200" y="2362320"/>
            <a:ext cx="1828800" cy="914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личия конфликтующ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оро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5943600" y="2286000"/>
            <a:ext cx="1752480" cy="914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зиц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фликтующ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оро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1600200" y="3657600"/>
            <a:ext cx="1828800" cy="5335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азы предм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6095880" y="3657600"/>
            <a:ext cx="1600200" cy="5335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азы предм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1600200" y="4572000"/>
            <a:ext cx="1371600" cy="5335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оро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6"/>
          <p:cNvSpPr/>
          <p:nvPr/>
        </p:nvSpPr>
        <p:spPr>
          <a:xfrm>
            <a:off x="3962520" y="4572000"/>
            <a:ext cx="1447560" cy="6858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м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6400800" y="4572000"/>
            <a:ext cx="1295280" cy="53352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орон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0"/>
          <p:cNvSpPr/>
          <p:nvPr/>
        </p:nvSpPr>
        <p:spPr>
          <a:xfrm>
            <a:off x="2819520" y="5486400"/>
            <a:ext cx="990360" cy="38088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тив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1"/>
          <p:cNvSpPr/>
          <p:nvPr/>
        </p:nvSpPr>
        <p:spPr>
          <a:xfrm>
            <a:off x="5715000" y="5486400"/>
            <a:ext cx="990720" cy="38088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тив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9"/>
          <p:cNvSpPr/>
          <p:nvPr/>
        </p:nvSpPr>
        <p:spPr>
          <a:xfrm>
            <a:off x="3429000" y="41911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40"/>
          <p:cNvSpPr/>
          <p:nvPr/>
        </p:nvSpPr>
        <p:spPr>
          <a:xfrm>
            <a:off x="2971800" y="4800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41"/>
          <p:cNvSpPr/>
          <p:nvPr/>
        </p:nvSpPr>
        <p:spPr>
          <a:xfrm flipH="1">
            <a:off x="3429000" y="51055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2"/>
          <p:cNvSpPr/>
          <p:nvPr/>
        </p:nvSpPr>
        <p:spPr>
          <a:xfrm flipV="1">
            <a:off x="5410080" y="4191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3"/>
          <p:cNvSpPr/>
          <p:nvPr/>
        </p:nvSpPr>
        <p:spPr>
          <a:xfrm>
            <a:off x="5410080" y="4800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4"/>
          <p:cNvSpPr/>
          <p:nvPr/>
        </p:nvSpPr>
        <p:spPr>
          <a:xfrm>
            <a:off x="5410080" y="51055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45"/>
          <p:cNvSpPr/>
          <p:nvPr/>
        </p:nvSpPr>
        <p:spPr>
          <a:xfrm>
            <a:off x="24382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46"/>
          <p:cNvSpPr/>
          <p:nvPr/>
        </p:nvSpPr>
        <p:spPr>
          <a:xfrm>
            <a:off x="243828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47"/>
          <p:cNvSpPr/>
          <p:nvPr/>
        </p:nvSpPr>
        <p:spPr>
          <a:xfrm>
            <a:off x="2895480" y="1600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48"/>
          <p:cNvSpPr/>
          <p:nvPr/>
        </p:nvSpPr>
        <p:spPr>
          <a:xfrm>
            <a:off x="3429000" y="38862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50"/>
          <p:cNvSpPr/>
          <p:nvPr/>
        </p:nvSpPr>
        <p:spPr>
          <a:xfrm>
            <a:off x="3429000" y="2819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51"/>
          <p:cNvSpPr/>
          <p:nvPr/>
        </p:nvSpPr>
        <p:spPr>
          <a:xfrm>
            <a:off x="624852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68580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53"/>
          <p:cNvSpPr/>
          <p:nvPr/>
        </p:nvSpPr>
        <p:spPr>
          <a:xfrm>
            <a:off x="69343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55"/>
          <p:cNvSpPr/>
          <p:nvPr/>
        </p:nvSpPr>
        <p:spPr>
          <a:xfrm>
            <a:off x="838080" y="27432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56"/>
          <p:cNvSpPr/>
          <p:nvPr/>
        </p:nvSpPr>
        <p:spPr>
          <a:xfrm>
            <a:off x="838080" y="2743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57"/>
          <p:cNvSpPr/>
          <p:nvPr/>
        </p:nvSpPr>
        <p:spPr>
          <a:xfrm>
            <a:off x="838080" y="56386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8"/>
          <p:cNvSpPr/>
          <p:nvPr/>
        </p:nvSpPr>
        <p:spPr>
          <a:xfrm>
            <a:off x="1219320" y="3962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59"/>
          <p:cNvSpPr/>
          <p:nvPr/>
        </p:nvSpPr>
        <p:spPr>
          <a:xfrm>
            <a:off x="121932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60"/>
          <p:cNvSpPr/>
          <p:nvPr/>
        </p:nvSpPr>
        <p:spPr>
          <a:xfrm>
            <a:off x="8153280" y="2666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61"/>
          <p:cNvSpPr/>
          <p:nvPr/>
        </p:nvSpPr>
        <p:spPr>
          <a:xfrm flipH="1">
            <a:off x="7696080" y="26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2"/>
          <p:cNvSpPr/>
          <p:nvPr/>
        </p:nvSpPr>
        <p:spPr>
          <a:xfrm flipH="1">
            <a:off x="6705360" y="56386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63"/>
          <p:cNvSpPr/>
          <p:nvPr/>
        </p:nvSpPr>
        <p:spPr>
          <a:xfrm>
            <a:off x="792468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64"/>
          <p:cNvSpPr/>
          <p:nvPr/>
        </p:nvSpPr>
        <p:spPr>
          <a:xfrm flipH="1">
            <a:off x="769572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AutoShape 65"/>
          <p:cNvCxnSpPr>
            <a:stCxn id="60" idx="2"/>
            <a:endCxn id="63" idx="0"/>
          </p:cNvCxnSpPr>
          <p:nvPr/>
        </p:nvCxnSpPr>
        <p:spPr>
          <a:xfrm flipH="1" rot="16200000">
            <a:off x="2610000" y="4781160"/>
            <a:ext cx="381600" cy="1029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AutoShape 66"/>
          <p:cNvCxnSpPr>
            <a:stCxn id="63" idx="3"/>
            <a:endCxn id="64" idx="1"/>
          </p:cNvCxnSpPr>
          <p:nvPr/>
        </p:nvCxnSpPr>
        <p:spPr>
          <a:xfrm>
            <a:off x="3809880" y="5676480"/>
            <a:ext cx="190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09480" y="228600"/>
            <a:ext cx="1676520" cy="3048120"/>
          </a:xfrm>
          <a:prstGeom prst="rect">
            <a:avLst/>
          </a:prstGeom>
          <a:gradFill rotWithShape="0">
            <a:gsLst>
              <a:gs pos="0">
                <a:srgbClr val="f6f5d8"/>
              </a:gs>
              <a:gs pos="100000">
                <a:srgbClr val="9dda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сфер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явл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>
            <a:off x="1371600" y="9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684360" y="1143000"/>
            <a:ext cx="13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деолог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371600" y="144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09480" y="16002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591480" y="1611360"/>
            <a:ext cx="16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о-быт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2"/>
          <p:cNvSpPr/>
          <p:nvPr/>
        </p:nvSpPr>
        <p:spPr>
          <a:xfrm>
            <a:off x="137160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84000" y="2133720"/>
            <a:ext cx="15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мейно-быт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609480" y="914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5"/>
          <p:cNvSpPr/>
          <p:nvPr/>
        </p:nvSpPr>
        <p:spPr>
          <a:xfrm>
            <a:off x="13716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760320" y="266688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оном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3581280" y="0"/>
            <a:ext cx="1676520" cy="3429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степен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литель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3655800" y="990720"/>
            <a:ext cx="137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ур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ыстротекущ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2"/>
          <p:cNvSpPr/>
          <p:nvPr/>
        </p:nvSpPr>
        <p:spPr>
          <a:xfrm>
            <a:off x="4343400" y="762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23"/>
          <p:cNvSpPr/>
          <p:nvPr/>
        </p:nvSpPr>
        <p:spPr>
          <a:xfrm>
            <a:off x="434340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3810600" y="1676520"/>
            <a:ext cx="107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тр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итель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6"/>
          <p:cNvSpPr/>
          <p:nvPr/>
        </p:nvSpPr>
        <p:spPr>
          <a:xfrm>
            <a:off x="43434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7"/>
          <p:cNvSpPr/>
          <p:nvPr/>
        </p:nvSpPr>
        <p:spPr>
          <a:xfrm>
            <a:off x="3655800" y="2286000"/>
            <a:ext cx="157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абовыраж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ялотянущ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9"/>
          <p:cNvSpPr/>
          <p:nvPr/>
        </p:nvSpPr>
        <p:spPr>
          <a:xfrm>
            <a:off x="434340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0"/>
          <p:cNvSpPr/>
          <p:nvPr/>
        </p:nvSpPr>
        <p:spPr>
          <a:xfrm>
            <a:off x="3655800" y="2895480"/>
            <a:ext cx="157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абовыраж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ыстро тянущ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1"/>
          <p:cNvSpPr/>
          <p:nvPr/>
        </p:nvSpPr>
        <p:spPr>
          <a:xfrm>
            <a:off x="3581280" y="685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2"/>
          <p:cNvSpPr/>
          <p:nvPr/>
        </p:nvSpPr>
        <p:spPr>
          <a:xfrm>
            <a:off x="6248520" y="228600"/>
            <a:ext cx="1981080" cy="30481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основе субъек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заимо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3"/>
          <p:cNvSpPr/>
          <p:nvPr/>
        </p:nvSpPr>
        <p:spPr>
          <a:xfrm>
            <a:off x="6248520" y="9144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34"/>
          <p:cNvSpPr/>
          <p:nvPr/>
        </p:nvSpPr>
        <p:spPr>
          <a:xfrm>
            <a:off x="7162920" y="990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5"/>
          <p:cNvSpPr/>
          <p:nvPr/>
        </p:nvSpPr>
        <p:spPr>
          <a:xfrm>
            <a:off x="6474960" y="1143000"/>
            <a:ext cx="162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нутриличност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6"/>
          <p:cNvSpPr/>
          <p:nvPr/>
        </p:nvSpPr>
        <p:spPr>
          <a:xfrm>
            <a:off x="7162920" y="144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7"/>
          <p:cNvSpPr/>
          <p:nvPr/>
        </p:nvSpPr>
        <p:spPr>
          <a:xfrm>
            <a:off x="6552000" y="160020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жличност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8"/>
          <p:cNvSpPr/>
          <p:nvPr/>
        </p:nvSpPr>
        <p:spPr>
          <a:xfrm>
            <a:off x="716292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9"/>
          <p:cNvSpPr/>
          <p:nvPr/>
        </p:nvSpPr>
        <p:spPr>
          <a:xfrm>
            <a:off x="6320880" y="2133720"/>
            <a:ext cx="186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чностно-групп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0"/>
          <p:cNvSpPr/>
          <p:nvPr/>
        </p:nvSpPr>
        <p:spPr>
          <a:xfrm>
            <a:off x="71629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1"/>
          <p:cNvSpPr/>
          <p:nvPr/>
        </p:nvSpPr>
        <p:spPr>
          <a:xfrm>
            <a:off x="6627600" y="2743200"/>
            <a:ext cx="13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жгрупп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2"/>
          <p:cNvSpPr/>
          <p:nvPr/>
        </p:nvSpPr>
        <p:spPr>
          <a:xfrm>
            <a:off x="2895480" y="3733920"/>
            <a:ext cx="3048120" cy="914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ФЛИК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3"/>
          <p:cNvSpPr/>
          <p:nvPr/>
        </p:nvSpPr>
        <p:spPr>
          <a:xfrm>
            <a:off x="609480" y="4724280"/>
            <a:ext cx="1600200" cy="19814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социальны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дствия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45"/>
          <p:cNvSpPr/>
          <p:nvPr/>
        </p:nvSpPr>
        <p:spPr>
          <a:xfrm>
            <a:off x="13716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6"/>
          <p:cNvSpPr/>
          <p:nvPr/>
        </p:nvSpPr>
        <p:spPr>
          <a:xfrm>
            <a:off x="609480" y="5638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7"/>
          <p:cNvSpPr/>
          <p:nvPr/>
        </p:nvSpPr>
        <p:spPr>
          <a:xfrm>
            <a:off x="759960" y="563868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структив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8"/>
          <p:cNvSpPr/>
          <p:nvPr/>
        </p:nvSpPr>
        <p:spPr>
          <a:xfrm>
            <a:off x="137160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50"/>
          <p:cNvSpPr/>
          <p:nvPr/>
        </p:nvSpPr>
        <p:spPr>
          <a:xfrm>
            <a:off x="609480" y="6172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1"/>
          <p:cNvSpPr/>
          <p:nvPr/>
        </p:nvSpPr>
        <p:spPr>
          <a:xfrm>
            <a:off x="760680" y="624852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структив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2"/>
          <p:cNvSpPr/>
          <p:nvPr/>
        </p:nvSpPr>
        <p:spPr>
          <a:xfrm>
            <a:off x="6400800" y="4648320"/>
            <a:ext cx="1981080" cy="20574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основе предм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53"/>
          <p:cNvSpPr/>
          <p:nvPr/>
        </p:nvSpPr>
        <p:spPr>
          <a:xfrm>
            <a:off x="739152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55"/>
          <p:cNvSpPr/>
          <p:nvPr/>
        </p:nvSpPr>
        <p:spPr>
          <a:xfrm>
            <a:off x="6400800" y="5638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6"/>
          <p:cNvSpPr/>
          <p:nvPr/>
        </p:nvSpPr>
        <p:spPr>
          <a:xfrm>
            <a:off x="6781320" y="5638680"/>
            <a:ext cx="12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алистич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57"/>
          <p:cNvSpPr/>
          <p:nvPr/>
        </p:nvSpPr>
        <p:spPr>
          <a:xfrm>
            <a:off x="739152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58"/>
          <p:cNvSpPr/>
          <p:nvPr/>
        </p:nvSpPr>
        <p:spPr>
          <a:xfrm>
            <a:off x="6400800" y="61722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9"/>
          <p:cNvSpPr/>
          <p:nvPr/>
        </p:nvSpPr>
        <p:spPr>
          <a:xfrm>
            <a:off x="6705000" y="6248520"/>
            <a:ext cx="14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реалистич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AutoShape 67"/>
          <p:cNvCxnSpPr>
            <a:stCxn id="122" idx="1"/>
            <a:endCxn id="91" idx="2"/>
          </p:cNvCxnSpPr>
          <p:nvPr/>
        </p:nvCxnSpPr>
        <p:spPr>
          <a:xfrm rot="10800000">
            <a:off x="1447200" y="3276000"/>
            <a:ext cx="144828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AutoShape 69"/>
          <p:cNvCxnSpPr>
            <a:stCxn id="122" idx="0"/>
            <a:endCxn id="102" idx="2"/>
          </p:cNvCxnSpPr>
          <p:nvPr/>
        </p:nvCxnSpPr>
        <p:spPr>
          <a:xfrm flipV="1">
            <a:off x="4419360" y="34282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70"/>
          <p:cNvCxnSpPr>
            <a:stCxn id="122" idx="3"/>
            <a:endCxn id="112" idx="2"/>
          </p:cNvCxnSpPr>
          <p:nvPr/>
        </p:nvCxnSpPr>
        <p:spPr>
          <a:xfrm flipV="1">
            <a:off x="5943600" y="3276360"/>
            <a:ext cx="129600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AutoShape 71"/>
          <p:cNvCxnSpPr>
            <a:endCxn id="130" idx="1"/>
          </p:cNvCxnSpPr>
          <p:nvPr/>
        </p:nvCxnSpPr>
        <p:spPr>
          <a:xfrm>
            <a:off x="5029200" y="4647960"/>
            <a:ext cx="1372320" cy="102888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72"/>
          <p:cNvCxnSpPr>
            <a:endCxn id="123" idx="3"/>
          </p:cNvCxnSpPr>
          <p:nvPr/>
        </p:nvCxnSpPr>
        <p:spPr>
          <a:xfrm flipV="1" rot="10800000">
            <a:off x="2208960" y="4647240"/>
            <a:ext cx="1905840" cy="106740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838080" y="990720"/>
            <a:ext cx="2210040" cy="838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удовлетворен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словия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429000" y="990720"/>
            <a:ext cx="213372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удовлетворитель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ммуник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6248520" y="990720"/>
            <a:ext cx="175248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лич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целя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2362320" y="2209680"/>
            <a:ext cx="1828800" cy="6098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руш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лужебной э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876920" y="2209680"/>
            <a:ext cx="1523880" cy="6098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граничен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сурс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066680" y="3505320"/>
            <a:ext cx="6553440" cy="4572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roxy 1"/>
              </a:rPr>
              <a:t>ПРИЧИНЫ КОНФЛИК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685800" y="5029200"/>
            <a:ext cx="1523880" cy="5806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циально-политическ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2438280" y="5029200"/>
            <a:ext cx="1752840" cy="58068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циально-демографическ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4800600" y="5029200"/>
            <a:ext cx="1752480" cy="58068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дивидуально-психологическ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6858000" y="5029200"/>
            <a:ext cx="1752480" cy="58068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циально-психологическ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1294920" y="3962520"/>
            <a:ext cx="31244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3"/>
          <p:cNvSpPr/>
          <p:nvPr/>
        </p:nvSpPr>
        <p:spPr>
          <a:xfrm flipH="1">
            <a:off x="3123720" y="3962520"/>
            <a:ext cx="129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4419720" y="3962520"/>
            <a:ext cx="33526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5"/>
          <p:cNvSpPr/>
          <p:nvPr/>
        </p:nvSpPr>
        <p:spPr>
          <a:xfrm>
            <a:off x="4419720" y="3962520"/>
            <a:ext cx="7617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6"/>
          <p:cNvSpPr/>
          <p:nvPr/>
        </p:nvSpPr>
        <p:spPr>
          <a:xfrm flipV="1">
            <a:off x="3200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7"/>
          <p:cNvSpPr/>
          <p:nvPr/>
        </p:nvSpPr>
        <p:spPr>
          <a:xfrm flipV="1">
            <a:off x="57150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8"/>
          <p:cNvSpPr/>
          <p:nvPr/>
        </p:nvSpPr>
        <p:spPr>
          <a:xfrm flipV="1">
            <a:off x="4495680" y="18284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9"/>
          <p:cNvSpPr/>
          <p:nvPr/>
        </p:nvSpPr>
        <p:spPr>
          <a:xfrm flipV="1">
            <a:off x="1676520" y="18284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0"/>
          <p:cNvSpPr/>
          <p:nvPr/>
        </p:nvSpPr>
        <p:spPr>
          <a:xfrm flipV="1">
            <a:off x="7238880" y="18284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304920"/>
            <a:ext cx="8305920" cy="459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ь субъектов социального взаимодей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762120" y="1295280"/>
            <a:ext cx="2209680" cy="337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чина конфлик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715000" y="1295280"/>
            <a:ext cx="2209680" cy="33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фликтная ситу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581280" y="1295280"/>
            <a:ext cx="1676520" cy="33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флик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447920" y="2286000"/>
            <a:ext cx="6172200" cy="4597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ЛОВИЯ     И     ФАКТ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2438280" y="3352680"/>
            <a:ext cx="3962520" cy="7038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ИПЫ КОНФЛИКТНЫХ СИТУА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52280" y="4572000"/>
            <a:ext cx="2514600" cy="58068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добросовестное выполнение обязаннос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352680" y="4572000"/>
            <a:ext cx="2438640" cy="58068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удовлетворительный стиль упр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029200" y="5638680"/>
            <a:ext cx="3124080" cy="58068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дивидуально психологические особенности лич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6324480" y="4572000"/>
            <a:ext cx="2514600" cy="58068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зкая профессиональная подготов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838080" y="5638680"/>
            <a:ext cx="2971800" cy="58068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адекватное представление о конфликтных ситуация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4"/>
          <p:cNvSpPr/>
          <p:nvPr/>
        </p:nvSpPr>
        <p:spPr>
          <a:xfrm flipV="1">
            <a:off x="1905120" y="1676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5"/>
          <p:cNvSpPr/>
          <p:nvPr/>
        </p:nvSpPr>
        <p:spPr>
          <a:xfrm flipV="1">
            <a:off x="4495680" y="1676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6"/>
          <p:cNvSpPr/>
          <p:nvPr/>
        </p:nvSpPr>
        <p:spPr>
          <a:xfrm flipV="1">
            <a:off x="6934320" y="1676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1905120" y="762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4495680" y="762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6934320" y="762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2"/>
          <p:cNvSpPr/>
          <p:nvPr/>
        </p:nvSpPr>
        <p:spPr>
          <a:xfrm flipH="1">
            <a:off x="220932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3"/>
          <p:cNvSpPr/>
          <p:nvPr/>
        </p:nvSpPr>
        <p:spPr>
          <a:xfrm>
            <a:off x="6400800" y="4114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4"/>
          <p:cNvSpPr/>
          <p:nvPr/>
        </p:nvSpPr>
        <p:spPr>
          <a:xfrm>
            <a:off x="449568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5"/>
          <p:cNvSpPr/>
          <p:nvPr/>
        </p:nvSpPr>
        <p:spPr>
          <a:xfrm>
            <a:off x="297180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6"/>
          <p:cNvSpPr/>
          <p:nvPr/>
        </p:nvSpPr>
        <p:spPr>
          <a:xfrm>
            <a:off x="601992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33"/>
          <p:cNvCxnSpPr>
            <a:stCxn id="165" idx="3"/>
            <a:endCxn id="161" idx="3"/>
          </p:cNvCxnSpPr>
          <p:nvPr/>
        </p:nvCxnSpPr>
        <p:spPr>
          <a:xfrm flipV="1">
            <a:off x="7619760" y="537480"/>
            <a:ext cx="1143720" cy="1981800"/>
          </a:xfrm>
          <a:prstGeom prst="bentConnector3">
            <a:avLst>
              <a:gd name="adj1" fmla="val 11999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AutoShape 34"/>
          <p:cNvCxnSpPr>
            <a:stCxn id="165" idx="1"/>
            <a:endCxn id="161" idx="1"/>
          </p:cNvCxnSpPr>
          <p:nvPr/>
        </p:nvCxnSpPr>
        <p:spPr>
          <a:xfrm rot="10800000">
            <a:off x="456480" y="537480"/>
            <a:ext cx="991440" cy="1981800"/>
          </a:xfrm>
          <a:prstGeom prst="bentConnector3">
            <a:avLst>
              <a:gd name="adj1" fmla="val 12306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523880" y="1143000"/>
          <a:ext cx="6096240" cy="43639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31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отношение фаз и этапов конфли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1b8ff"/>
                        </a:gs>
                        <a:gs pos="100000">
                          <a:srgbClr val="e2e2e2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за конфли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1b8ff"/>
                        </a:gs>
                        <a:gs pos="100000">
                          <a:srgbClr val="e2e2e2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 конфли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1b8ff"/>
                        </a:gs>
                        <a:gs pos="100000">
                          <a:srgbClr val="e2e2e2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ф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1b8ff"/>
                        </a:gs>
                        <a:gs pos="100000">
                          <a:srgbClr val="e2e2e2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никновение и развитие конфликтной ситуации; осозн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1b8ff"/>
                        </a:gs>
                        <a:gs pos="100000">
                          <a:srgbClr val="e2e2e2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за подъё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1b8ff"/>
                        </a:gs>
                        <a:gs pos="100000">
                          <a:srgbClr val="e2e2e2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о открытого конфликтного взаимо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1b8ff"/>
                        </a:gs>
                        <a:gs pos="100000">
                          <a:srgbClr val="e2e2e2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к конфли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1b8ff"/>
                        </a:gs>
                        <a:gs pos="100000">
                          <a:srgbClr val="e2e2e2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открытого конфли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1b8ff"/>
                        </a:gs>
                        <a:gs pos="100000">
                          <a:srgbClr val="e2e2e2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7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за спа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1b8ff"/>
                        </a:gs>
                        <a:gs pos="100000">
                          <a:srgbClr val="e2e2e2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ешение конфли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1b8ff"/>
                        </a:gs>
                        <a:gs pos="100000">
                          <a:srgbClr val="e2e2e2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186" name="Line 71"/>
          <p:cNvSpPr/>
          <p:nvPr/>
        </p:nvSpPr>
        <p:spPr>
          <a:xfrm>
            <a:off x="1523880" y="1676520"/>
            <a:ext cx="6096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75"/>
          <p:cNvSpPr/>
          <p:nvPr/>
        </p:nvSpPr>
        <p:spPr>
          <a:xfrm>
            <a:off x="1523880" y="2133720"/>
            <a:ext cx="609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2590920" y="1447920"/>
            <a:ext cx="3657600" cy="581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р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066680" y="2438280"/>
            <a:ext cx="3200400" cy="3373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оорганизующихся систе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4876920" y="2438280"/>
            <a:ext cx="3200400" cy="3373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хническими систем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352680" y="3505320"/>
            <a:ext cx="2210040" cy="3373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ществ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819520" y="4419720"/>
            <a:ext cx="3352680" cy="3373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фликт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7"/>
          <p:cNvSpPr/>
          <p:nvPr/>
        </p:nvSpPr>
        <p:spPr>
          <a:xfrm flipH="1">
            <a:off x="2819160" y="20574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5410080" y="2057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4495680" y="2057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AutoShape 11"/>
          <p:cNvCxnSpPr>
            <a:stCxn id="188" idx="1"/>
            <a:endCxn id="192" idx="1"/>
          </p:cNvCxnSpPr>
          <p:nvPr/>
        </p:nvCxnSpPr>
        <p:spPr>
          <a:xfrm flipH="1" flipV="1" rot="10800000">
            <a:off x="2589840" y="1742040"/>
            <a:ext cx="229320" cy="2850120"/>
          </a:xfrm>
          <a:prstGeom prst="bentConnector3">
            <a:avLst>
              <a:gd name="adj1" fmla="val -9672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12"/>
          <p:cNvCxnSpPr>
            <a:stCxn id="188" idx="3"/>
            <a:endCxn id="192" idx="3"/>
          </p:cNvCxnSpPr>
          <p:nvPr/>
        </p:nvCxnSpPr>
        <p:spPr>
          <a:xfrm flipH="1">
            <a:off x="6172200" y="1742760"/>
            <a:ext cx="76680" cy="2850120"/>
          </a:xfrm>
          <a:prstGeom prst="bentConnector3">
            <a:avLst>
              <a:gd name="adj1" fmla="val -33905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Text Box 13"/>
          <p:cNvSpPr/>
          <p:nvPr/>
        </p:nvSpPr>
        <p:spPr>
          <a:xfrm>
            <a:off x="838080" y="42670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здейств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6708600" y="426708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здейств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609480" y="14479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стр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6858000" y="14479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стр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1981080" y="1447920"/>
          <a:ext cx="5105520" cy="4114800"/>
        </p:xfrm>
        <a:graphic>
          <a:graphicData uri="http://schemas.openxmlformats.org/drawingml/2006/table">
            <a:tbl>
              <a:tblPr/>
              <a:tblGrid>
                <a:gridCol w="510552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управления конфликт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Text Box 14"/>
          <p:cNvSpPr/>
          <p:nvPr/>
        </p:nvSpPr>
        <p:spPr>
          <a:xfrm>
            <a:off x="3505320" y="26668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358128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едупрежд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3505320" y="3733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тимул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24"/>
          <p:cNvSpPr/>
          <p:nvPr/>
        </p:nvSpPr>
        <p:spPr>
          <a:xfrm>
            <a:off x="4419720" y="24382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gradFill rotWithShape="0">
            <a:gsLst>
              <a:gs pos="0">
                <a:srgbClr val="ffeda1"/>
              </a:gs>
              <a:gs pos="100000">
                <a:srgbClr val="66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30"/>
          <p:cNvSpPr/>
          <p:nvPr/>
        </p:nvSpPr>
        <p:spPr>
          <a:xfrm>
            <a:off x="4419720" y="297180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gradFill rotWithShape="0">
            <a:gsLst>
              <a:gs pos="0">
                <a:srgbClr val="ffeda1"/>
              </a:gs>
              <a:gs pos="100000">
                <a:srgbClr val="66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31"/>
          <p:cNvSpPr/>
          <p:nvPr/>
        </p:nvSpPr>
        <p:spPr>
          <a:xfrm>
            <a:off x="4419720" y="3505320"/>
            <a:ext cx="152280" cy="3045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eda1"/>
              </a:gs>
              <a:gs pos="100000">
                <a:srgbClr val="66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32"/>
          <p:cNvSpPr/>
          <p:nvPr/>
        </p:nvSpPr>
        <p:spPr>
          <a:xfrm>
            <a:off x="4419720" y="472428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gradFill rotWithShape="0">
            <a:gsLst>
              <a:gs pos="0">
                <a:srgbClr val="ffeda1"/>
              </a:gs>
              <a:gs pos="100000">
                <a:srgbClr val="66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33"/>
          <p:cNvSpPr/>
          <p:nvPr/>
        </p:nvSpPr>
        <p:spPr>
          <a:xfrm>
            <a:off x="4419720" y="4114800"/>
            <a:ext cx="152280" cy="304920"/>
          </a:xfrm>
          <a:prstGeom prst="downArrow">
            <a:avLst>
              <a:gd name="adj1" fmla="val 50000"/>
              <a:gd name="adj2" fmla="val 50059"/>
            </a:avLst>
          </a:prstGeom>
          <a:gradFill rotWithShape="0">
            <a:gsLst>
              <a:gs pos="0">
                <a:srgbClr val="ffeda1"/>
              </a:gs>
              <a:gs pos="100000">
                <a:srgbClr val="66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5"/>
          <p:cNvSpPr/>
          <p:nvPr/>
        </p:nvSpPr>
        <p:spPr>
          <a:xfrm>
            <a:off x="36576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егул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6"/>
          <p:cNvSpPr/>
          <p:nvPr/>
        </p:nvSpPr>
        <p:spPr>
          <a:xfrm>
            <a:off x="3657600" y="4952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азреш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42"/>
          <p:cNvSpPr/>
          <p:nvPr/>
        </p:nvSpPr>
        <p:spPr>
          <a:xfrm>
            <a:off x="1981080" y="14479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43"/>
          <p:cNvSpPr/>
          <p:nvPr/>
        </p:nvSpPr>
        <p:spPr>
          <a:xfrm>
            <a:off x="1981080" y="2362320"/>
            <a:ext cx="510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федра</cp:lastModifiedBy>
  <dcterms:modified xsi:type="dcterms:W3CDTF">2014-04-07T06:50:57Z</dcterms:modified>
  <cp:revision>66</cp:revision>
  <dc:subject/>
  <dc:title>PowerPoint Presentation</dc:title>
</cp:coreProperties>
</file>