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4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BD0-4604-49C0-9F20-A9419C12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14E-F065-4876-9DFD-2ABC444E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44E-E3AE-41F3-BFBE-0831043E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84F-AF1C-4E5D-980C-7A638E71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77C7-A01E-4EFD-851E-9E9B477B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3CDE-5567-4F3D-B783-AFD97C17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C231-BCFF-49EB-AF66-5A4D8B03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9A07-2493-4CD1-90C3-63472AC1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D658-2174-483E-A090-3C3516C2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450D-CE8C-407C-AD24-8C292595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6CB4-5CEF-41E1-B20D-7F018F37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5E9-68A4-4360-BA99-28FA7C1C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89F8-FB9A-427F-8B83-47D497AB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C21F-E290-4641-9CB5-952B7E6C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C7D5-499B-4869-825C-0B3D3CB6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99DC-28A3-4F3B-B2AA-A6946C87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4DC4-45F9-47F7-BF0E-843F50EC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D17-28DD-40B0-BFDE-5E766A0A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8FF-2A15-4869-B63B-9516DF2C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C6C-ACF5-4418-9B0E-38C26991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CEB-12FA-4484-8D3E-8BBDDF65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251-D341-42A3-9DE4-F9D1859B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8F7-5A72-4862-BE47-C4146688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33C-C56C-4E20-A1D5-53E16143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5ce"/>
                  </a:gs>
                  <a:gs pos="100000">
                    <a:srgbClr val="aaacd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a9bc1"/>
                  </a:gs>
                  <a:gs pos="50000">
                    <a:srgbClr val="aaacd6"/>
                  </a:gs>
                  <a:gs pos="100000">
                    <a:srgbClr val="9a9b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257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7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257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7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257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1C2-2F7E-4278-8F57-02500FA89653}" type="slidenum">
              <a:rPr b="0" lang="en-US" sz="1000" spc="-1" strike="noStrike">
                <a:solidFill>
                  <a:srgbClr val="00257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257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257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7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257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aac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aa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5ce"/>
                  </a:gs>
                  <a:gs pos="100000">
                    <a:srgbClr val="aaacd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a9bc1"/>
                  </a:gs>
                  <a:gs pos="50000">
                    <a:srgbClr val="aaacd6"/>
                  </a:gs>
                  <a:gs pos="100000">
                    <a:srgbClr val="9a9b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57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257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7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257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7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257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40B4-36B8-4D7B-A423-1FD21603470E}" type="slidenum">
              <a:rPr b="0" lang="en-US" sz="1000" spc="-1" strike="noStrike">
                <a:solidFill>
                  <a:srgbClr val="00257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6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692360" y="26028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570"/>
                </a:solidFill>
                <a:latin typeface="Arial"/>
              </a:rPr>
              <a:t>Дождь  звёзд и синие  поля  послушны  числам.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57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2570"/>
                </a:solidFill>
                <a:latin typeface="Arial"/>
              </a:rPr>
              <a:t>Велимир  Хлебников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882880" y="2639880"/>
            <a:ext cx="6261120" cy="42181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979640" y="177336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570"/>
                </a:solidFill>
                <a:latin typeface="Arial"/>
              </a:rPr>
              <a:t>ИГРЫ   РАЗУМА</a:t>
            </a:r>
            <a:endParaRPr b="0" lang="en-US" sz="4800" spc="-1" strike="noStrike">
              <a:solidFill>
                <a:srgbClr val="00257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5734080"/>
            <a:ext cx="28432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7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2570"/>
                </a:solidFill>
                <a:latin typeface="Arial"/>
              </a:rPr>
              <a:t>Удовиченко Е.А.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570"/>
                </a:solidFill>
                <a:latin typeface="Arial"/>
              </a:rPr>
              <a:t>Гимназия им.Н.Г. Басова</a:t>
            </a:r>
            <a:endParaRPr b="0" lang="en-US" sz="17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570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002570"/>
                </a:solidFill>
                <a:latin typeface="Arial"/>
              </a:rPr>
              <a:t>г. Воронеж</a:t>
            </a:r>
            <a:endParaRPr b="0" lang="en-US" sz="1700" spc="-1" strike="noStrike">
              <a:solidFill>
                <a:srgbClr val="0025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105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6246720" y="3408480"/>
            <a:ext cx="2897280" cy="34495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0" y="3662280"/>
            <a:ext cx="4211640" cy="31957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4788000" y="0"/>
            <a:ext cx="4356000" cy="29113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3924360" y="1773360"/>
            <a:ext cx="246384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000680" cy="622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84360" y="54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70"/>
                </a:solidFill>
                <a:latin typeface="Arial"/>
              </a:rPr>
              <a:t>Загадочная  улыбка.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57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692360" y="476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70"/>
                </a:solidFill>
                <a:latin typeface="Arial"/>
              </a:rPr>
              <a:t>Лабиринты, лабиринты, лабиринты ...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1268280"/>
            <a:ext cx="691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7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570"/>
                </a:solidFill>
                <a:latin typeface="Arial"/>
              </a:rPr>
              <a:t>Классический  лабиринт – это замкнутая  фигура с концентрическим узором  линий, сходящихся  в  центральной  точке. Считается, что их  тугая  спираль  символизирует  трудности  земной  жизни, тогда  как центр  означает  смерть  и  возрождение. Этим  древним  символом  пользовалась  даже  христианская  церковь. </a:t>
            </a:r>
            <a:endParaRPr b="0" lang="en-US" sz="2000" spc="-1" strike="noStrike">
              <a:solidFill>
                <a:srgbClr val="00257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3524400" cy="27813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148360" y="3716280"/>
            <a:ext cx="37432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79280" y="765000"/>
            <a:ext cx="50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70"/>
                </a:solidFill>
                <a:latin typeface="Arial"/>
              </a:rPr>
              <a:t>Точно  так же, как  круг, крест  или  спираль, лабиринт – это  древний  символ, свойственный  разным  культурам. На  протяжении  столетий  он   приобретал  множество  разных  значений, но  происхождение  его  до  сих  пор   остаётся  загадкой.</a:t>
            </a:r>
            <a:endParaRPr b="0" lang="en-US" sz="2000" spc="-1" strike="noStrike">
              <a:solidFill>
                <a:srgbClr val="00257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1159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70"/>
                </a:solidFill>
                <a:latin typeface="Arial"/>
              </a:rPr>
              <a:t>Соловецкие  лабиринты.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3612960" cy="2706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867280" y="4587840"/>
            <a:ext cx="3149640" cy="2205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5651640" y="765000"/>
            <a:ext cx="3271680" cy="21909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250920" y="4365720"/>
            <a:ext cx="32781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700360" y="189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70"/>
                </a:solidFill>
                <a:latin typeface="Arial"/>
              </a:rPr>
              <a:t>Пещерные  лабиринты.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025880" cy="30193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300720" y="62064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570"/>
                </a:solidFill>
                <a:latin typeface="Tahoma"/>
              </a:rPr>
              <a:t>Испания. 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570"/>
                </a:solidFill>
                <a:latin typeface="Tahoma"/>
              </a:rPr>
              <a:t>Пещера Альтамира.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705480" cy="44640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1835280" y="3645000"/>
            <a:ext cx="37353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238720" cy="63817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3501720" cy="27781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50920" y="692280"/>
            <a:ext cx="33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570"/>
                </a:solidFill>
                <a:latin typeface="Arial"/>
              </a:rPr>
              <a:t>Кунгурская  ледяная  пещера  на  Урале.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71640" y="5229360"/>
            <a:ext cx="28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70"/>
                </a:solidFill>
                <a:latin typeface="Arial"/>
              </a:rPr>
              <a:t>Пещеры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70"/>
                </a:solidFill>
                <a:latin typeface="Arial"/>
              </a:rPr>
              <a:t>Бахчисарая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264360" cy="41972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42116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740040" cy="29304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3429000" y="3057480"/>
            <a:ext cx="5715000" cy="38005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4211640" y="1125360"/>
            <a:ext cx="2921040" cy="33418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500720" y="4046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70"/>
                </a:solidFill>
                <a:latin typeface="Arial"/>
              </a:rPr>
              <a:t>Киевские  пещеры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227640" y="191628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70"/>
                </a:solidFill>
                <a:latin typeface="Arial"/>
              </a:rPr>
              <a:t>Пещера  была  вскрыта в 1971 году.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716360" y="333360"/>
            <a:ext cx="5543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570"/>
                </a:solidFill>
                <a:latin typeface="Arial"/>
              </a:rPr>
              <a:t>Кустовые  лабиринты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570"/>
                </a:solidFill>
                <a:latin typeface="Arial"/>
              </a:rPr>
              <a:t>Хэмптон  Корт</a:t>
            </a:r>
            <a:endParaRPr b="0" lang="en-US" sz="2000" spc="-1" strike="noStrike">
              <a:solidFill>
                <a:srgbClr val="00257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168720" cy="21304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211640" y="4076640"/>
            <a:ext cx="4537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8244000" y="5229360"/>
            <a:ext cx="900000" cy="263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570"/>
                </a:solidFill>
                <a:latin typeface="Arial"/>
              </a:rPr>
              <a:t>О  сколько  нам  открытий чудных</a:t>
            </a:r>
            <a:endParaRPr b="0" lang="en-US" sz="2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570"/>
                </a:solidFill>
                <a:latin typeface="Arial"/>
              </a:rPr>
              <a:t>Готовят просвещенья дух</a:t>
            </a:r>
            <a:endParaRPr b="0" lang="en-US" sz="2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570"/>
                </a:solidFill>
                <a:latin typeface="Arial"/>
              </a:rPr>
              <a:t>И опыт, сын   ошибок  трудных,</a:t>
            </a:r>
            <a:endParaRPr b="0" lang="en-US" sz="2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570"/>
                </a:solidFill>
                <a:latin typeface="Arial"/>
              </a:rPr>
              <a:t>И гений, парадоксов друг,</a:t>
            </a:r>
            <a:endParaRPr b="0" lang="en-US" sz="2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570"/>
                </a:solidFill>
                <a:latin typeface="Arial"/>
              </a:rPr>
              <a:t>И случай, бог изобретатель …</a:t>
            </a:r>
            <a:endParaRPr b="0" lang="en-US" sz="2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570"/>
                </a:solidFill>
                <a:latin typeface="Arial"/>
              </a:rPr>
              <a:t>                      </a:t>
            </a:r>
            <a:r>
              <a:rPr b="1" i="1" lang="en-US" sz="2800" spc="-1" strike="noStrike">
                <a:solidFill>
                  <a:srgbClr val="002570"/>
                </a:solidFill>
                <a:latin typeface="Arial"/>
              </a:rPr>
              <a:t>А.С.Пушкин</a:t>
            </a:r>
            <a:endParaRPr b="0" lang="en-US" sz="2800" spc="-1" strike="noStrike">
              <a:solidFill>
                <a:srgbClr val="00257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-73080" y="-455760"/>
            <a:ext cx="9217080" cy="73137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790560" y="184464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  сколько  нам  открытий чудных</a:t>
            </a:r>
            <a:endParaRPr b="0" lang="en-US" sz="32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отовят просвещенья дух</a:t>
            </a:r>
            <a:endParaRPr b="0" lang="en-US" sz="32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 опыт, сын   ошибок  трудных,</a:t>
            </a:r>
            <a:endParaRPr b="0" lang="en-US" sz="32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 гений, парадоксов друг,</a:t>
            </a:r>
            <a:endParaRPr b="0" lang="en-US" sz="32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 случай, бог изобретатель …</a:t>
            </a:r>
            <a:endParaRPr b="0" lang="en-US" sz="32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А.С.Пушкин</a:t>
            </a:r>
            <a:endParaRPr b="0" lang="en-US" sz="3200" spc="-1" strike="noStrike">
              <a:solidFill>
                <a:srgbClr val="0025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333360"/>
            <a:ext cx="2521080" cy="2016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564000" y="47628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570"/>
                </a:solidFill>
                <a:latin typeface="Arial"/>
              </a:rPr>
              <a:t>Египетские  пирамиды</a:t>
            </a:r>
            <a:endParaRPr b="0" lang="en-US" sz="3200" spc="-1" strike="noStrike">
              <a:solidFill>
                <a:srgbClr val="00257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2708280"/>
            <a:ext cx="792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70"/>
                </a:solidFill>
                <a:latin typeface="Arial"/>
              </a:rPr>
              <a:t>Даже  спустя  5000 лет   после  завершения  строительства  пирамида  Хеопса в Египте  остаётся  техническим  шедевром. Её  создатели  не  оставили  чертежей , которые  объясняли бы  как  она  возводилась. Не  вполне  ясно  также, зачем  это  делалось. Такое  впечатление, что кто-то  нарочно  загадал   будущим  поколениям  неразрешимую  ЗАГАДКУ.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00360" cy="2664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7175520" y="0"/>
            <a:ext cx="1968480" cy="28195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2340000" y="333360"/>
            <a:ext cx="3155760" cy="41148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-396720" y="4005360"/>
            <a:ext cx="4768560" cy="3203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4716360" y="4029120"/>
            <a:ext cx="4427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600360" cy="2881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356000" y="1557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70"/>
                </a:solidFill>
                <a:latin typeface="Arial"/>
              </a:rPr>
              <a:t>Садовое  кольцо  в  Москве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3716280"/>
            <a:ext cx="3457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70"/>
                </a:solidFill>
                <a:latin typeface="Arial"/>
              </a:rPr>
              <a:t>Общий  вес  пирамиды  Хеопса  составляет          6 400 000 тонн. Это  больше, чем  весят  все  дома, церкви и  дворцы  Москвы в  пределах  Садового  кольца.</a:t>
            </a:r>
            <a:endParaRPr b="0" lang="en-US" sz="2000" spc="-1" strike="noStrike">
              <a:solidFill>
                <a:srgbClr val="00257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48258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7056720" cy="52927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0" y="3508200"/>
            <a:ext cx="5003640" cy="33498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327640" y="328464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бнаружили, что  расположение  трёх  крупнейших  пирамид  в  Гизе – Хеопса, Хефрена и Микерена – точно  такое  же, как  у  звёзд, известных  под  названием Пояс  Ориона.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215100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83720" cy="701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ча 1.  Куча, её  седьмая  часть, её целое : это составляет 19. Найди  это  неизвестное.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4365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ча 2. Если  тебе  сказано разделить 10 мер  зернового  хлеба  на  10  лиц. Разница  между  каждым  лицом и  следующим  за  ним  1\8  меры.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364000" y="0"/>
            <a:ext cx="7993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адцать  две  совы  скучали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больших  сухих  суках.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адцать  две  совы  мечтали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 семи  больших  мышах,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  мышах  довольно  юрких, 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 аккуратных серых  шкурках,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юнки  капали  с  усов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  огромных  серых  сов.</a:t>
            </a:r>
            <a:endParaRPr b="0" lang="en-US" sz="1800" spc="-1" strike="noStrike">
              <a:solidFill>
                <a:srgbClr val="0025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010880" y="490680"/>
            <a:ext cx="705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медово приближение чис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22/7</a:t>
            </a:r>
            <a:endParaRPr b="0" lang="en-US" sz="20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одна из важнейших математических констант</a:t>
            </a:r>
            <a:endParaRPr b="0" lang="en-US" sz="20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атематическом анализе.</a:t>
            </a:r>
            <a:endParaRPr b="0" lang="en-US" sz="20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ая пропор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также относится к разряду </a:t>
            </a:r>
            <a:endParaRPr b="0" lang="en-US" sz="20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даментальных и связана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042920" y="3213000"/>
                <a:ext cx="6985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3ec"/>
            </a:gs>
            <a:gs pos="100000">
              <a:srgbClr val="a4cd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000680" cy="6220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403280" y="3645000"/>
            <a:ext cx="2381400" cy="28382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84360" y="2997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70"/>
                </a:solidFill>
                <a:latin typeface="Arial"/>
              </a:rPr>
              <a:t>Париж. Лувр.</a:t>
            </a:r>
            <a:endParaRPr b="0" lang="en-US" sz="2400" spc="-1" strike="noStrike">
              <a:solidFill>
                <a:srgbClr val="0025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4:58:44Z</dcterms:created>
  <dc:creator>-</dc:creator>
  <dc:description/>
  <dc:language>en-US</dc:language>
  <cp:lastModifiedBy>topless</cp:lastModifiedBy>
  <dcterms:modified xsi:type="dcterms:W3CDTF">2007-12-25T09:48:55Z</dcterms:modified>
  <cp:revision>8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