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311-D3E1-46DC-9B08-EEB08D95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890-844F-4AF8-B949-D12B18AC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2D2-B5B9-4560-A553-DBA5FBC8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26D-986D-4EC3-9984-BDE0E375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4CF-9D49-4C93-A565-134701BC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675-AACC-4F4C-A690-E5A1947D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DDA-C7C1-4268-8CE2-5474FA8D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E92-2633-4FE1-B3C8-077E8BF7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98E-1864-4F9E-B73E-8C12CAAD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8CD-D70A-4502-AC97-FDB050A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996-40F5-44C0-9617-74CCDB99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E37-0072-4B90-AD8D-A4A65D5B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0A76-1324-4369-8B59-C67549300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9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9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9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9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"/>
          <p:cNvGrpSpPr/>
          <p:nvPr/>
        </p:nvGrpSpPr>
        <p:grpSpPr>
          <a:xfrm>
            <a:off x="0" y="503280"/>
            <a:ext cx="9144000" cy="3809880"/>
            <a:chOff x="0" y="503280"/>
            <a:chExt cx="9144000" cy="3809880"/>
          </a:xfrm>
        </p:grpSpPr>
        <p:pic>
          <p:nvPicPr>
            <p:cNvPr id="42" name="Picture 10" descr="118735"/>
            <p:cNvPicPr/>
            <p:nvPr/>
          </p:nvPicPr>
          <p:blipFill>
            <a:blip r:embed="rId2"/>
            <a:stretch/>
          </p:blipFill>
          <p:spPr>
            <a:xfrm>
              <a:off x="0" y="503280"/>
              <a:ext cx="91440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4"/>
            <p:cNvSpPr txBox="1"/>
            <p:nvPr/>
          </p:nvSpPr>
          <p:spPr>
            <a:xfrm>
              <a:off x="1243080" y="998640"/>
              <a:ext cx="688500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3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«Математическое кафе»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44" name="WordArt 11"/>
          <p:cNvSpPr txBox="1"/>
          <p:nvPr/>
        </p:nvSpPr>
        <p:spPr>
          <a:xfrm>
            <a:off x="880920" y="2349360"/>
            <a:ext cx="80107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“</a:t>
            </a: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Хорошо усваиваются только те знания, которые поглощаются с аппетитом”.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5" name="Начало фон для ведущих.mp3" descr=""/>
          <p:cNvPicPr/>
          <p:nvPr/>
        </p:nvPicPr>
        <p:blipFill>
          <a:blip r:embed="rId3"/>
          <a:stretch/>
        </p:blipFill>
        <p:spPr>
          <a:xfrm>
            <a:off x="866772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 flipH="1">
            <a:off x="6016680" y="5815080"/>
            <a:ext cx="265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олАПО    2016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ппы 511-т, 521-т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422360" y="2757240"/>
            <a:ext cx="7199280" cy="703440"/>
          </a:xfrm>
          <a:prstGeom prst="rect">
            <a:avLst/>
          </a:prstGeom>
          <a:solidFill>
            <a:srgbClr val="99cc00">
              <a:alpha val="42000"/>
            </a:srgbClr>
          </a:solidFill>
          <a:ln w="57240">
            <a:solidFill>
              <a:srgbClr val="422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61b00"/>
                </a:solidFill>
                <a:latin typeface="Times New Roman"/>
              </a:rPr>
              <a:t>Конкурс на глазомер</a:t>
            </a:r>
            <a:r>
              <a:rPr b="1" i="1" lang="ru-RU" sz="2800" spc="-1" strike="noStrike">
                <a:solidFill>
                  <a:srgbClr val="361b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189000"/>
            <a:ext cx="9144000" cy="1979640"/>
          </a:xfrm>
          <a:custGeom>
            <a:avLst/>
            <a:gdLst>
              <a:gd name="textAreaLeft" fmla="*/ 1143000 w 9144000"/>
              <a:gd name="textAreaRight" fmla="*/ 8001000 w 9144000"/>
              <a:gd name="textAreaTop" fmla="*/ 271440 h 1979640"/>
              <a:gd name="textAreaBottom" fmla="*/ 198000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741" stAng="16200000" swAng="5400000"/>
                <a:lnTo>
                  <a:pt x="5400" y="2965"/>
                </a:lnTo>
                <a:lnTo>
                  <a:pt x="16200" y="2965"/>
                </a:lnTo>
                <a:lnTo>
                  <a:pt x="16200" y="741"/>
                </a:lnTo>
                <a:arcTo wR="675" hR="741" stAng="10800000" swAng="5400000"/>
                <a:lnTo>
                  <a:pt x="21600" y="0"/>
                </a:lnTo>
                <a:lnTo>
                  <a:pt x="18900" y="9318"/>
                </a:lnTo>
                <a:lnTo>
                  <a:pt x="21600" y="18635"/>
                </a:lnTo>
                <a:lnTo>
                  <a:pt x="18900" y="18635"/>
                </a:lnTo>
                <a:lnTo>
                  <a:pt x="18900" y="20859"/>
                </a:lnTo>
                <a:arcTo wR="675" hR="741" stAng="0" swAng="5400000"/>
                <a:lnTo>
                  <a:pt x="3375" y="21600"/>
                </a:lnTo>
                <a:arcTo wR="675" hR="741" stAng="5400000" swAng="5400000"/>
                <a:lnTo>
                  <a:pt x="2700" y="18635"/>
                </a:lnTo>
                <a:lnTo>
                  <a:pt x="0" y="18635"/>
                </a:lnTo>
                <a:lnTo>
                  <a:pt x="2700" y="9318"/>
                </a:lnTo>
                <a:close/>
              </a:path>
              <a:path fill="none" w="21600" h="21600">
                <a:moveTo>
                  <a:pt x="5400" y="741"/>
                </a:moveTo>
                <a:arcTo wR="675" hR="741" stAng="0" swAng="5400000"/>
                <a:lnTo>
                  <a:pt x="3375" y="1483"/>
                </a:lnTo>
                <a:arcTo wR="675" hR="741" stAng="16200000" swAng="-5400000"/>
                <a:arcTo wR="675" hR="741" stAng="10800000" swAng="-5400000"/>
                <a:lnTo>
                  <a:pt x="5400" y="2965"/>
                </a:lnTo>
              </a:path>
              <a:path fill="none" w="21600" h="21600">
                <a:moveTo>
                  <a:pt x="16200" y="741"/>
                </a:moveTo>
                <a:arcTo wR="675" hR="741" stAng="10800000" swAng="-5400000"/>
                <a:lnTo>
                  <a:pt x="18225" y="1483"/>
                </a:lnTo>
                <a:arcTo wR="675" hR="741" stAng="16200000" swAng="5400000"/>
                <a:arcTo wR="675" hR="741" stAng="0" swAng="5400000"/>
                <a:lnTo>
                  <a:pt x="16200" y="2965"/>
                </a:lnTo>
              </a:path>
              <a:path fill="none" w="21600" h="21600">
                <a:moveTo>
                  <a:pt x="2700" y="2224"/>
                </a:moveTo>
                <a:lnTo>
                  <a:pt x="2700" y="18635"/>
                </a:lnTo>
              </a:path>
              <a:path fill="none" w="21600" h="21600">
                <a:moveTo>
                  <a:pt x="18900" y="2224"/>
                </a:moveTo>
                <a:lnTo>
                  <a:pt x="18900" y="18635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1b00"/>
                </a:solidFill>
                <a:latin typeface="Georgia"/>
              </a:rPr>
              <a:t>Напиток “ Острый глаз 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3564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0" y="387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j0234131"/>
          <p:cNvPicPr/>
          <p:nvPr/>
        </p:nvPicPr>
        <p:blipFill>
          <a:blip r:embed="rId3"/>
          <a:stretch/>
        </p:blipFill>
        <p:spPr>
          <a:xfrm>
            <a:off x="2997360" y="4869000"/>
            <a:ext cx="14317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0" y="4734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5"/>
          <a:stretch/>
        </p:blipFill>
        <p:spPr>
          <a:xfrm>
            <a:off x="0" y="5094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234131"/>
          <p:cNvPicPr/>
          <p:nvPr/>
        </p:nvPicPr>
        <p:blipFill>
          <a:blip r:embed="rId6"/>
          <a:stretch/>
        </p:blipFill>
        <p:spPr>
          <a:xfrm>
            <a:off x="3041640" y="4869000"/>
            <a:ext cx="143208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7"/>
          <a:stretch/>
        </p:blipFill>
        <p:spPr>
          <a:xfrm>
            <a:off x="0" y="585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8"/>
          <a:stretch/>
        </p:blipFill>
        <p:spPr>
          <a:xfrm>
            <a:off x="0" y="621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j0234131"/>
          <p:cNvPicPr/>
          <p:nvPr/>
        </p:nvPicPr>
        <p:blipFill>
          <a:blip r:embed="rId9"/>
          <a:stretch/>
        </p:blipFill>
        <p:spPr>
          <a:xfrm>
            <a:off x="2997360" y="4869000"/>
            <a:ext cx="143172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stock-vector-illustration-of-a-waiter-and-tray-65997433"/>
          <p:cNvPicPr/>
          <p:nvPr/>
        </p:nvPicPr>
        <p:blipFill>
          <a:blip r:embed="rId10"/>
          <a:srcRect l="12432" t="3297" r="7459" b="7238"/>
          <a:stretch/>
        </p:blipFill>
        <p:spPr>
          <a:xfrm>
            <a:off x="6880320" y="3564000"/>
            <a:ext cx="2146320" cy="3294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9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96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9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96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1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9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965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1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681280" y="2948400"/>
            <a:ext cx="6075360" cy="2531160"/>
          </a:xfrm>
          <a:prstGeom prst="rect">
            <a:avLst/>
          </a:prstGeom>
          <a:solidFill>
            <a:srgbClr val="99cc00">
              <a:alpha val="42000"/>
            </a:srgbClr>
          </a:solidFill>
          <a:ln w="57240">
            <a:solidFill>
              <a:srgbClr val="422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1b00"/>
                </a:solidFill>
                <a:latin typeface="Times New Roman"/>
              </a:rPr>
              <a:t>Самое «вкусное блюдо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1b00"/>
                </a:solidFill>
                <a:latin typeface="Times New Roman"/>
              </a:rPr>
              <a:t>Съел «блюдо» без особого удовольстви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1b00"/>
                </a:solidFill>
                <a:latin typeface="Times New Roman"/>
              </a:rPr>
              <a:t>Больше такое «блюдо» заказывать не буду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162000" y="189000"/>
            <a:ext cx="8829720" cy="1530360"/>
          </a:xfrm>
          <a:custGeom>
            <a:avLst/>
            <a:gdLst>
              <a:gd name="textAreaLeft" fmla="*/ 1103760 w 8829720"/>
              <a:gd name="textAreaRight" fmla="*/ 7726320 w 8829720"/>
              <a:gd name="textAreaTop" fmla="*/ 209880 h 1530360"/>
              <a:gd name="textAreaBottom" fmla="*/ 1530720 h 15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741" stAng="16200000" swAng="5400000"/>
                <a:lnTo>
                  <a:pt x="5400" y="2965"/>
                </a:lnTo>
                <a:lnTo>
                  <a:pt x="16200" y="2965"/>
                </a:lnTo>
                <a:lnTo>
                  <a:pt x="16200" y="741"/>
                </a:lnTo>
                <a:arcTo wR="675" hR="741" stAng="10800000" swAng="5400000"/>
                <a:lnTo>
                  <a:pt x="21600" y="0"/>
                </a:lnTo>
                <a:lnTo>
                  <a:pt x="18900" y="9318"/>
                </a:lnTo>
                <a:lnTo>
                  <a:pt x="21600" y="18635"/>
                </a:lnTo>
                <a:lnTo>
                  <a:pt x="18900" y="18635"/>
                </a:lnTo>
                <a:lnTo>
                  <a:pt x="18900" y="20859"/>
                </a:lnTo>
                <a:arcTo wR="675" hR="741" stAng="0" swAng="5400000"/>
                <a:lnTo>
                  <a:pt x="3375" y="21600"/>
                </a:lnTo>
                <a:arcTo wR="675" hR="741" stAng="5400000" swAng="5400000"/>
                <a:lnTo>
                  <a:pt x="2700" y="18635"/>
                </a:lnTo>
                <a:lnTo>
                  <a:pt x="0" y="18635"/>
                </a:lnTo>
                <a:lnTo>
                  <a:pt x="2700" y="9318"/>
                </a:lnTo>
                <a:close/>
              </a:path>
              <a:path fill="none" w="21600" h="21600">
                <a:moveTo>
                  <a:pt x="5400" y="741"/>
                </a:moveTo>
                <a:arcTo wR="675" hR="741" stAng="0" swAng="5400000"/>
                <a:lnTo>
                  <a:pt x="3375" y="1483"/>
                </a:lnTo>
                <a:arcTo wR="675" hR="741" stAng="16200000" swAng="-5400000"/>
                <a:arcTo wR="675" hR="741" stAng="10800000" swAng="-5400000"/>
                <a:lnTo>
                  <a:pt x="5400" y="2965"/>
                </a:lnTo>
              </a:path>
              <a:path fill="none" w="21600" h="21600">
                <a:moveTo>
                  <a:pt x="16200" y="741"/>
                </a:moveTo>
                <a:arcTo wR="675" hR="741" stAng="10800000" swAng="-5400000"/>
                <a:lnTo>
                  <a:pt x="18225" y="1483"/>
                </a:lnTo>
                <a:arcTo wR="675" hR="741" stAng="16200000" swAng="5400000"/>
                <a:arcTo wR="675" hR="741" stAng="0" swAng="5400000"/>
                <a:lnTo>
                  <a:pt x="16200" y="2965"/>
                </a:lnTo>
              </a:path>
              <a:path fill="none" w="21600" h="21600">
                <a:moveTo>
                  <a:pt x="2700" y="2224"/>
                </a:moveTo>
                <a:lnTo>
                  <a:pt x="2700" y="18635"/>
                </a:lnTo>
              </a:path>
              <a:path fill="none" w="21600" h="21600">
                <a:moveTo>
                  <a:pt x="18900" y="2224"/>
                </a:moveTo>
                <a:lnTo>
                  <a:pt x="18900" y="18635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1b00"/>
                </a:solidFill>
                <a:latin typeface="Georgia"/>
              </a:rPr>
              <a:t>Запись в книге отзы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1b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361b00"/>
                </a:solidFill>
                <a:latin typeface="Georgia"/>
              </a:rPr>
              <a:t>и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dessert-cake-vector-material_15-9214"/>
          <p:cNvPicPr/>
          <p:nvPr/>
        </p:nvPicPr>
        <p:blipFill>
          <a:blip r:embed="rId1"/>
          <a:srcRect l="0" t="0" r="49442" b="0"/>
          <a:stretch/>
        </p:blipFill>
        <p:spPr>
          <a:xfrm>
            <a:off x="-154080" y="1935000"/>
            <a:ext cx="3216240" cy="3699000"/>
          </a:xfrm>
          <a:prstGeom prst="rect">
            <a:avLst/>
          </a:prstGeom>
          <a:ln w="0">
            <a:noFill/>
          </a:ln>
        </p:spPr>
      </p:pic>
      <p:pic>
        <p:nvPicPr>
          <p:cNvPr id="101" name="Ученый кот БАСНЯ.mp3" descr=""/>
          <p:cNvPicPr/>
          <p:nvPr/>
        </p:nvPicPr>
        <p:blipFill>
          <a:blip r:embed="rId2"/>
          <a:stretch/>
        </p:blipFill>
        <p:spPr>
          <a:xfrm>
            <a:off x="162000" y="639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10"/>
          <p:cNvSpPr/>
          <p:nvPr/>
        </p:nvSpPr>
        <p:spPr>
          <a:xfrm>
            <a:off x="4976640" y="1763640"/>
            <a:ext cx="3376800" cy="395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sidebar-jidelnicek"/>
          <p:cNvPicPr/>
          <p:nvPr/>
        </p:nvPicPr>
        <p:blipFill>
          <a:blip r:embed="rId2"/>
          <a:stretch/>
        </p:blipFill>
        <p:spPr>
          <a:xfrm>
            <a:off x="5008680" y="1854360"/>
            <a:ext cx="3838320" cy="44672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11"/>
          <p:cNvSpPr txBox="1"/>
          <p:nvPr/>
        </p:nvSpPr>
        <p:spPr>
          <a:xfrm>
            <a:off x="250920" y="189000"/>
            <a:ext cx="630072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64b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До новых встреч !!!</a:t>
            </a:r>
            <a:endParaRPr b="1" lang="en-US" sz="1800" spc="1" strike="noStrike">
              <a:ln w="28440">
                <a:solidFill>
                  <a:srgbClr val="964b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64b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Спасибо за внимание !!!</a:t>
            </a:r>
            <a:endParaRPr b="1" lang="en-US" sz="1800" spc="1" strike="noStrike">
              <a:ln w="28440">
                <a:solidFill>
                  <a:srgbClr val="964b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503280"/>
            <a:ext cx="9144000" cy="3809880"/>
            <a:chOff x="0" y="503280"/>
            <a:chExt cx="9144000" cy="3809880"/>
          </a:xfrm>
        </p:grpSpPr>
        <p:pic>
          <p:nvPicPr>
            <p:cNvPr id="106" name="Picture 3" descr="118735"/>
            <p:cNvPicPr/>
            <p:nvPr/>
          </p:nvPicPr>
          <p:blipFill>
            <a:blip r:embed="rId2"/>
            <a:stretch/>
          </p:blipFill>
          <p:spPr>
            <a:xfrm>
              <a:off x="0" y="503280"/>
              <a:ext cx="91440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WordArt 4"/>
            <p:cNvSpPr txBox="1"/>
            <p:nvPr/>
          </p:nvSpPr>
          <p:spPr>
            <a:xfrm>
              <a:off x="1243080" y="998640"/>
              <a:ext cx="688500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3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«Математическое кафе»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08" name="WordArt 5"/>
          <p:cNvSpPr txBox="1"/>
          <p:nvPr/>
        </p:nvSpPr>
        <p:spPr>
          <a:xfrm>
            <a:off x="880920" y="2349360"/>
            <a:ext cx="80107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“</a:t>
            </a: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Хорошо усваиваются только те знания, которые поглощаются с аппетитом”.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9" name="Начало фон для ведущих.mp3" descr=""/>
          <p:cNvPicPr/>
          <p:nvPr/>
        </p:nvPicPr>
        <p:blipFill>
          <a:blip r:embed="rId3"/>
          <a:stretch/>
        </p:blipFill>
        <p:spPr>
          <a:xfrm>
            <a:off x="866772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artoon-menu-vector_34-50911"/>
          <p:cNvPicPr/>
          <p:nvPr/>
        </p:nvPicPr>
        <p:blipFill>
          <a:blip r:embed="rId2"/>
          <a:stretch/>
        </p:blipFill>
        <p:spPr>
          <a:xfrm>
            <a:off x="6462720" y="98280"/>
            <a:ext cx="2557440" cy="2745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162000" y="-4680"/>
            <a:ext cx="8731080" cy="6918120"/>
          </a:xfrm>
          <a:prstGeom prst="rect">
            <a:avLst/>
          </a:prstGeom>
          <a:solidFill>
            <a:srgbClr val="ccffff">
              <a:alpha val="54000"/>
            </a:srgbClr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SzPct val="150000"/>
              <a:buFont typeface="Web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Холодная закуска “Незабудка” под соусом из загад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50000"/>
              <a:buFont typeface="Web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Блюдо по-домашнему “ От нашего стола – вашему столу…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50000"/>
              <a:buFont typeface="Web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Борщ “Скороспел”  (кто запомнил, тот и съел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50000"/>
              <a:buFont typeface="Web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Рагу “Соответствие ” с острыми приправами из внимания и мыш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50000"/>
              <a:buFont typeface="Web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тематический рулет ” с начинкой из производных и интегр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50000"/>
              <a:buFont typeface="Web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Десерт “Геометрический ” с художественным вк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50000"/>
              <a:buFont typeface="Web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апиток “ Острый глаз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836640" y="1746720"/>
            <a:ext cx="8190000" cy="2043720"/>
          </a:xfrm>
          <a:prstGeom prst="rect">
            <a:avLst/>
          </a:prstGeom>
          <a:solidFill>
            <a:srgbClr val="99cc00">
              <a:alpha val="42000"/>
            </a:srgbClr>
          </a:solidFill>
          <a:ln w="57240">
            <a:solidFill>
              <a:srgbClr val="422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мандам по очереди задают  вопросы. Команды имеют возможность ответ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вопрос соперника в случае их неудачи. Вопрос оценивается в 1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71280" y="189000"/>
            <a:ext cx="8758440" cy="1439640"/>
          </a:xfrm>
          <a:custGeom>
            <a:avLst/>
            <a:gdLst>
              <a:gd name="textAreaLeft" fmla="*/ 1094760 w 8758440"/>
              <a:gd name="textAreaRight" fmla="*/ 7663680 w 8758440"/>
              <a:gd name="textAreaTop" fmla="*/ 19764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741" stAng="16200000" swAng="5400000"/>
                <a:lnTo>
                  <a:pt x="5400" y="2965"/>
                </a:lnTo>
                <a:lnTo>
                  <a:pt x="16200" y="2965"/>
                </a:lnTo>
                <a:lnTo>
                  <a:pt x="16200" y="741"/>
                </a:lnTo>
                <a:arcTo wR="675" hR="741" stAng="10800000" swAng="5400000"/>
                <a:lnTo>
                  <a:pt x="21600" y="0"/>
                </a:lnTo>
                <a:lnTo>
                  <a:pt x="18900" y="9318"/>
                </a:lnTo>
                <a:lnTo>
                  <a:pt x="21600" y="18635"/>
                </a:lnTo>
                <a:lnTo>
                  <a:pt x="18900" y="18635"/>
                </a:lnTo>
                <a:lnTo>
                  <a:pt x="18900" y="20859"/>
                </a:lnTo>
                <a:arcTo wR="675" hR="741" stAng="0" swAng="5400000"/>
                <a:lnTo>
                  <a:pt x="3375" y="21600"/>
                </a:lnTo>
                <a:arcTo wR="675" hR="741" stAng="5400000" swAng="5400000"/>
                <a:lnTo>
                  <a:pt x="2700" y="18635"/>
                </a:lnTo>
                <a:lnTo>
                  <a:pt x="0" y="18635"/>
                </a:lnTo>
                <a:lnTo>
                  <a:pt x="2700" y="9318"/>
                </a:lnTo>
                <a:close/>
              </a:path>
              <a:path fill="none" w="21600" h="21600">
                <a:moveTo>
                  <a:pt x="5400" y="741"/>
                </a:moveTo>
                <a:arcTo wR="675" hR="741" stAng="0" swAng="5400000"/>
                <a:lnTo>
                  <a:pt x="3375" y="1483"/>
                </a:lnTo>
                <a:arcTo wR="675" hR="741" stAng="16200000" swAng="-5400000"/>
                <a:arcTo wR="675" hR="741" stAng="10800000" swAng="-5400000"/>
                <a:lnTo>
                  <a:pt x="5400" y="2965"/>
                </a:lnTo>
              </a:path>
              <a:path fill="none" w="21600" h="21600">
                <a:moveTo>
                  <a:pt x="16200" y="741"/>
                </a:moveTo>
                <a:arcTo wR="675" hR="741" stAng="10800000" swAng="-5400000"/>
                <a:lnTo>
                  <a:pt x="18225" y="1483"/>
                </a:lnTo>
                <a:arcTo wR="675" hR="741" stAng="16200000" swAng="5400000"/>
                <a:arcTo wR="675" hR="741" stAng="0" swAng="5400000"/>
                <a:lnTo>
                  <a:pt x="16200" y="2965"/>
                </a:lnTo>
              </a:path>
              <a:path fill="none" w="21600" h="21600">
                <a:moveTo>
                  <a:pt x="2700" y="2224"/>
                </a:moveTo>
                <a:lnTo>
                  <a:pt x="2700" y="18635"/>
                </a:lnTo>
              </a:path>
              <a:path fill="none" w="21600" h="21600">
                <a:moveTo>
                  <a:pt x="18900" y="2224"/>
                </a:moveTo>
                <a:lnTo>
                  <a:pt x="18900" y="18635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2100"/>
                </a:solidFill>
                <a:latin typeface="Georgia"/>
              </a:rPr>
              <a:t>Холодная закуска “НЕЗАБУДКА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2100"/>
                </a:solidFill>
                <a:latin typeface="Georgia"/>
              </a:rPr>
              <a:t>под соусом из зага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stock-vector-illustration-of-a-waiter-and-tray-65997433"/>
          <p:cNvPicPr/>
          <p:nvPr/>
        </p:nvPicPr>
        <p:blipFill>
          <a:blip r:embed="rId1"/>
          <a:srcRect l="12432" t="3297" r="7459" b="7238"/>
          <a:stretch/>
        </p:blipFill>
        <p:spPr>
          <a:xfrm>
            <a:off x="6912000" y="3924360"/>
            <a:ext cx="1911240" cy="293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467000" y="1746720"/>
            <a:ext cx="5894280" cy="2043720"/>
          </a:xfrm>
          <a:prstGeom prst="rect">
            <a:avLst/>
          </a:prstGeom>
          <a:solidFill>
            <a:srgbClr val="99cc00">
              <a:alpha val="42000"/>
            </a:srgbClr>
          </a:solidFill>
          <a:ln w="57240">
            <a:solidFill>
              <a:srgbClr val="422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1b00"/>
                </a:solidFill>
                <a:latin typeface="Times New Roman"/>
              </a:rPr>
              <a:t>Обмен заданиями между командами, которые они подобрали в качестве домашнего задания.</a:t>
            </a:r>
            <a:r>
              <a:rPr b="0" lang="ru-RU" sz="3200" spc="-1" strike="noStrike">
                <a:solidFill>
                  <a:srgbClr val="361b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162000" y="189000"/>
            <a:ext cx="8829720" cy="1439640"/>
          </a:xfrm>
          <a:custGeom>
            <a:avLst/>
            <a:gdLst>
              <a:gd name="textAreaLeft" fmla="*/ 1103760 w 8829720"/>
              <a:gd name="textAreaRight" fmla="*/ 7726320 w 8829720"/>
              <a:gd name="textAreaTop" fmla="*/ 19764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741" stAng="16200000" swAng="5400000"/>
                <a:lnTo>
                  <a:pt x="5400" y="2965"/>
                </a:lnTo>
                <a:lnTo>
                  <a:pt x="16200" y="2965"/>
                </a:lnTo>
                <a:lnTo>
                  <a:pt x="16200" y="741"/>
                </a:lnTo>
                <a:arcTo wR="675" hR="741" stAng="10800000" swAng="5400000"/>
                <a:lnTo>
                  <a:pt x="21600" y="0"/>
                </a:lnTo>
                <a:lnTo>
                  <a:pt x="18900" y="9318"/>
                </a:lnTo>
                <a:lnTo>
                  <a:pt x="21600" y="18635"/>
                </a:lnTo>
                <a:lnTo>
                  <a:pt x="18900" y="18635"/>
                </a:lnTo>
                <a:lnTo>
                  <a:pt x="18900" y="20859"/>
                </a:lnTo>
                <a:arcTo wR="675" hR="741" stAng="0" swAng="5400000"/>
                <a:lnTo>
                  <a:pt x="3375" y="21600"/>
                </a:lnTo>
                <a:arcTo wR="675" hR="741" stAng="5400000" swAng="5400000"/>
                <a:lnTo>
                  <a:pt x="2700" y="18635"/>
                </a:lnTo>
                <a:lnTo>
                  <a:pt x="0" y="18635"/>
                </a:lnTo>
                <a:lnTo>
                  <a:pt x="2700" y="9318"/>
                </a:lnTo>
                <a:close/>
              </a:path>
              <a:path fill="none" w="21600" h="21600">
                <a:moveTo>
                  <a:pt x="5400" y="741"/>
                </a:moveTo>
                <a:arcTo wR="675" hR="741" stAng="0" swAng="5400000"/>
                <a:lnTo>
                  <a:pt x="3375" y="1483"/>
                </a:lnTo>
                <a:arcTo wR="675" hR="741" stAng="16200000" swAng="-5400000"/>
                <a:arcTo wR="675" hR="741" stAng="10800000" swAng="-5400000"/>
                <a:lnTo>
                  <a:pt x="5400" y="2965"/>
                </a:lnTo>
              </a:path>
              <a:path fill="none" w="21600" h="21600">
                <a:moveTo>
                  <a:pt x="16200" y="741"/>
                </a:moveTo>
                <a:arcTo wR="675" hR="741" stAng="10800000" swAng="-5400000"/>
                <a:lnTo>
                  <a:pt x="18225" y="1483"/>
                </a:lnTo>
                <a:arcTo wR="675" hR="741" stAng="16200000" swAng="5400000"/>
                <a:arcTo wR="675" hR="741" stAng="0" swAng="5400000"/>
                <a:lnTo>
                  <a:pt x="16200" y="2965"/>
                </a:lnTo>
              </a:path>
              <a:path fill="none" w="21600" h="21600">
                <a:moveTo>
                  <a:pt x="2700" y="2224"/>
                </a:moveTo>
                <a:lnTo>
                  <a:pt x="2700" y="18635"/>
                </a:lnTo>
              </a:path>
              <a:path fill="none" w="21600" h="21600">
                <a:moveTo>
                  <a:pt x="18900" y="2224"/>
                </a:moveTo>
                <a:lnTo>
                  <a:pt x="18900" y="18635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61b00"/>
                </a:solidFill>
                <a:latin typeface="Georgia"/>
              </a:rPr>
              <a:t>«ОТ НАШЕГО СТОЛ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61b00"/>
                </a:solidFill>
                <a:latin typeface="Georgia"/>
              </a:rPr>
              <a:t>– </a:t>
            </a:r>
            <a:r>
              <a:rPr b="1" i="1" lang="ru-RU" sz="3000" spc="-1" strike="noStrike">
                <a:solidFill>
                  <a:srgbClr val="361b00"/>
                </a:solidFill>
                <a:latin typeface="Georgia"/>
              </a:rPr>
              <a:t>ВАШЕМУ СТОЛУ”.</a:t>
            </a:r>
            <a:r>
              <a:rPr b="0" i="1" lang="ru-RU" sz="3000" spc="-1" strike="noStrike">
                <a:solidFill>
                  <a:srgbClr val="361b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tock-vector-illustration-of-a-waiter-and-tray-65997433"/>
          <p:cNvPicPr/>
          <p:nvPr/>
        </p:nvPicPr>
        <p:blipFill>
          <a:blip r:embed="rId1"/>
          <a:srcRect l="12432" t="3297" r="7459" b="7238"/>
          <a:stretch/>
        </p:blipFill>
        <p:spPr>
          <a:xfrm>
            <a:off x="6416640" y="3114720"/>
            <a:ext cx="2610000" cy="3600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197000" y="1990440"/>
            <a:ext cx="7947000" cy="2043720"/>
          </a:xfrm>
          <a:prstGeom prst="rect">
            <a:avLst/>
          </a:prstGeom>
          <a:solidFill>
            <a:srgbClr val="99cc00">
              <a:alpha val="42000"/>
            </a:srgbClr>
          </a:solidFill>
          <a:ln w="57240">
            <a:solidFill>
              <a:srgbClr val="422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мандам предоставляется набор чисел. Их задача как можно быстрее установить, чем замечательно каждое из чисел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162000" y="189000"/>
            <a:ext cx="8829720" cy="1439640"/>
          </a:xfrm>
          <a:custGeom>
            <a:avLst/>
            <a:gdLst>
              <a:gd name="textAreaLeft" fmla="*/ 1103760 w 8829720"/>
              <a:gd name="textAreaRight" fmla="*/ 7726320 w 8829720"/>
              <a:gd name="textAreaTop" fmla="*/ 19764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741" stAng="16200000" swAng="5400000"/>
                <a:lnTo>
                  <a:pt x="5400" y="2965"/>
                </a:lnTo>
                <a:lnTo>
                  <a:pt x="16200" y="2965"/>
                </a:lnTo>
                <a:lnTo>
                  <a:pt x="16200" y="741"/>
                </a:lnTo>
                <a:arcTo wR="675" hR="741" stAng="10800000" swAng="5400000"/>
                <a:lnTo>
                  <a:pt x="21600" y="0"/>
                </a:lnTo>
                <a:lnTo>
                  <a:pt x="18900" y="9318"/>
                </a:lnTo>
                <a:lnTo>
                  <a:pt x="21600" y="18635"/>
                </a:lnTo>
                <a:lnTo>
                  <a:pt x="18900" y="18635"/>
                </a:lnTo>
                <a:lnTo>
                  <a:pt x="18900" y="20859"/>
                </a:lnTo>
                <a:arcTo wR="675" hR="741" stAng="0" swAng="5400000"/>
                <a:lnTo>
                  <a:pt x="3375" y="21600"/>
                </a:lnTo>
                <a:arcTo wR="675" hR="741" stAng="5400000" swAng="5400000"/>
                <a:lnTo>
                  <a:pt x="2700" y="18635"/>
                </a:lnTo>
                <a:lnTo>
                  <a:pt x="0" y="18635"/>
                </a:lnTo>
                <a:lnTo>
                  <a:pt x="2700" y="9318"/>
                </a:lnTo>
                <a:close/>
              </a:path>
              <a:path fill="none" w="21600" h="21600">
                <a:moveTo>
                  <a:pt x="5400" y="741"/>
                </a:moveTo>
                <a:arcTo wR="675" hR="741" stAng="0" swAng="5400000"/>
                <a:lnTo>
                  <a:pt x="3375" y="1483"/>
                </a:lnTo>
                <a:arcTo wR="675" hR="741" stAng="16200000" swAng="-5400000"/>
                <a:arcTo wR="675" hR="741" stAng="10800000" swAng="-5400000"/>
                <a:lnTo>
                  <a:pt x="5400" y="2965"/>
                </a:lnTo>
              </a:path>
              <a:path fill="none" w="21600" h="21600">
                <a:moveTo>
                  <a:pt x="16200" y="741"/>
                </a:moveTo>
                <a:arcTo wR="675" hR="741" stAng="10800000" swAng="-5400000"/>
                <a:lnTo>
                  <a:pt x="18225" y="1483"/>
                </a:lnTo>
                <a:arcTo wR="675" hR="741" stAng="16200000" swAng="5400000"/>
                <a:arcTo wR="675" hR="741" stAng="0" swAng="5400000"/>
                <a:lnTo>
                  <a:pt x="16200" y="2965"/>
                </a:lnTo>
              </a:path>
              <a:path fill="none" w="21600" h="21600">
                <a:moveTo>
                  <a:pt x="2700" y="2224"/>
                </a:moveTo>
                <a:lnTo>
                  <a:pt x="2700" y="18635"/>
                </a:lnTo>
              </a:path>
              <a:path fill="none" w="21600" h="21600">
                <a:moveTo>
                  <a:pt x="18900" y="2224"/>
                </a:moveTo>
                <a:lnTo>
                  <a:pt x="18900" y="18635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61b00"/>
                </a:solidFill>
                <a:latin typeface="Georgia"/>
              </a:rPr>
              <a:t>Борщ “СКОРОСПЕЛ”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61b00"/>
                </a:solidFill>
                <a:latin typeface="Georgia"/>
              </a:rPr>
              <a:t>( кто запомнил, тот и съел).</a:t>
            </a:r>
            <a:r>
              <a:rPr b="1" lang="ru-RU" sz="2600" spc="-1" strike="noStrike">
                <a:solidFill>
                  <a:srgbClr val="361b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tock-vector-illustration-of-a-waiter-and-tray-65997433"/>
          <p:cNvPicPr/>
          <p:nvPr/>
        </p:nvPicPr>
        <p:blipFill>
          <a:blip r:embed="rId1"/>
          <a:srcRect l="12432" t="3297" r="7459" b="7238"/>
          <a:stretch/>
        </p:blipFill>
        <p:spPr>
          <a:xfrm>
            <a:off x="7115040" y="3916440"/>
            <a:ext cx="1913040" cy="293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467000" y="1024920"/>
            <a:ext cx="7513560" cy="1191240"/>
          </a:xfrm>
          <a:prstGeom prst="rect">
            <a:avLst/>
          </a:prstGeom>
          <a:solidFill>
            <a:srgbClr val="99cc00">
              <a:alpha val="42000"/>
            </a:srgbClr>
          </a:solidFill>
          <a:ln w="57240">
            <a:solidFill>
              <a:srgbClr val="422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ние. Расшифруйте за 3 минуты как можно больше слов, используя соответствие между числами и бук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62000" y="189000"/>
            <a:ext cx="8829720" cy="765000"/>
          </a:xfrm>
          <a:custGeom>
            <a:avLst/>
            <a:gdLst>
              <a:gd name="textAreaLeft" fmla="*/ 1103760 w 8829720"/>
              <a:gd name="textAreaRight" fmla="*/ 7726320 w 8829720"/>
              <a:gd name="textAreaTop" fmla="*/ 104760 h 765000"/>
              <a:gd name="textAreaBottom" fmla="*/ 765360 h 76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741" stAng="16200000" swAng="5400000"/>
                <a:lnTo>
                  <a:pt x="5400" y="2965"/>
                </a:lnTo>
                <a:lnTo>
                  <a:pt x="16200" y="2965"/>
                </a:lnTo>
                <a:lnTo>
                  <a:pt x="16200" y="741"/>
                </a:lnTo>
                <a:arcTo wR="675" hR="741" stAng="10800000" swAng="5400000"/>
                <a:lnTo>
                  <a:pt x="21600" y="0"/>
                </a:lnTo>
                <a:lnTo>
                  <a:pt x="18900" y="9318"/>
                </a:lnTo>
                <a:lnTo>
                  <a:pt x="21600" y="18635"/>
                </a:lnTo>
                <a:lnTo>
                  <a:pt x="18900" y="18635"/>
                </a:lnTo>
                <a:lnTo>
                  <a:pt x="18900" y="20859"/>
                </a:lnTo>
                <a:arcTo wR="675" hR="741" stAng="0" swAng="5400000"/>
                <a:lnTo>
                  <a:pt x="3375" y="21600"/>
                </a:lnTo>
                <a:arcTo wR="675" hR="741" stAng="5400000" swAng="5400000"/>
                <a:lnTo>
                  <a:pt x="2700" y="18635"/>
                </a:lnTo>
                <a:lnTo>
                  <a:pt x="0" y="18635"/>
                </a:lnTo>
                <a:lnTo>
                  <a:pt x="2700" y="9318"/>
                </a:lnTo>
                <a:close/>
              </a:path>
              <a:path fill="none" w="21600" h="21600">
                <a:moveTo>
                  <a:pt x="5400" y="741"/>
                </a:moveTo>
                <a:arcTo wR="675" hR="741" stAng="0" swAng="5400000"/>
                <a:lnTo>
                  <a:pt x="3375" y="1483"/>
                </a:lnTo>
                <a:arcTo wR="675" hR="741" stAng="16200000" swAng="-5400000"/>
                <a:arcTo wR="675" hR="741" stAng="10800000" swAng="-5400000"/>
                <a:lnTo>
                  <a:pt x="5400" y="2965"/>
                </a:lnTo>
              </a:path>
              <a:path fill="none" w="21600" h="21600">
                <a:moveTo>
                  <a:pt x="16200" y="741"/>
                </a:moveTo>
                <a:arcTo wR="675" hR="741" stAng="10800000" swAng="-5400000"/>
                <a:lnTo>
                  <a:pt x="18225" y="1483"/>
                </a:lnTo>
                <a:arcTo wR="675" hR="741" stAng="16200000" swAng="5400000"/>
                <a:arcTo wR="675" hR="741" stAng="0" swAng="5400000"/>
                <a:lnTo>
                  <a:pt x="16200" y="2965"/>
                </a:lnTo>
              </a:path>
              <a:path fill="none" w="21600" h="21600">
                <a:moveTo>
                  <a:pt x="2700" y="2224"/>
                </a:moveTo>
                <a:lnTo>
                  <a:pt x="2700" y="18635"/>
                </a:lnTo>
              </a:path>
              <a:path fill="none" w="21600" h="21600">
                <a:moveTo>
                  <a:pt x="18900" y="2224"/>
                </a:moveTo>
                <a:lnTo>
                  <a:pt x="18900" y="18635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61b00"/>
                </a:solidFill>
                <a:latin typeface="Georgia"/>
              </a:rPr>
              <a:t>Рагу “Соответствие” с острыми припра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61b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361b00"/>
                </a:solidFill>
                <a:latin typeface="Georgia"/>
              </a:rPr>
              <a:t>из внимания и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tock-vector-illustration-of-a-waiter-and-tray-65997433"/>
          <p:cNvPicPr/>
          <p:nvPr/>
        </p:nvPicPr>
        <p:blipFill>
          <a:blip r:embed="rId1"/>
          <a:srcRect l="12432" t="3297" r="7459" b="7238"/>
          <a:stretch/>
        </p:blipFill>
        <p:spPr>
          <a:xfrm>
            <a:off x="6732720" y="3294000"/>
            <a:ext cx="2295360" cy="3105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essert-cake-vector-material_15-9214"/>
          <p:cNvPicPr/>
          <p:nvPr/>
        </p:nvPicPr>
        <p:blipFill>
          <a:blip r:embed="rId1"/>
          <a:srcRect l="49816" t="6728" r="0" b="0"/>
          <a:stretch/>
        </p:blipFill>
        <p:spPr>
          <a:xfrm>
            <a:off x="1174680" y="15840"/>
            <a:ext cx="2992680" cy="3233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dessert-cake-vector-material_15-9214"/>
          <p:cNvPicPr/>
          <p:nvPr/>
        </p:nvPicPr>
        <p:blipFill>
          <a:blip r:embed="rId2"/>
          <a:srcRect l="0" t="0" r="49442" b="0"/>
          <a:stretch/>
        </p:blipFill>
        <p:spPr>
          <a:xfrm>
            <a:off x="6012000" y="3249720"/>
            <a:ext cx="3014640" cy="346716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>
            <a:off x="2681280" y="1538280"/>
            <a:ext cx="5940360" cy="33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64b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663300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      </a:t>
            </a:r>
            <a:endParaRPr b="1" lang="en-US" sz="1800" spc="1" strike="noStrike">
              <a:ln w="28440">
                <a:solidFill>
                  <a:srgbClr val="964b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663300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4" name="9Б.mp3" descr=""/>
          <p:cNvPicPr/>
          <p:nvPr/>
        </p:nvPicPr>
        <p:blipFill>
          <a:blip r:embed="rId3"/>
          <a:stretch/>
        </p:blipFill>
        <p:spPr>
          <a:xfrm>
            <a:off x="866772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57360" y="2426760"/>
            <a:ext cx="8415360" cy="2043720"/>
          </a:xfrm>
          <a:prstGeom prst="rect">
            <a:avLst/>
          </a:prstGeom>
          <a:solidFill>
            <a:srgbClr val="99cc00">
              <a:alpha val="42000"/>
            </a:srgbClr>
          </a:solidFill>
          <a:ln w="57240">
            <a:solidFill>
              <a:srgbClr val="422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1b00"/>
                </a:solidFill>
                <a:latin typeface="Times New Roman"/>
              </a:rPr>
              <a:t>Изобразите человечка из предложенного набора геометрических фигур. Придумайте защиту для своего произведения. На подготовку ровно 3(три)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162000" y="189000"/>
            <a:ext cx="8829720" cy="1349280"/>
          </a:xfrm>
          <a:custGeom>
            <a:avLst/>
            <a:gdLst>
              <a:gd name="textAreaLeft" fmla="*/ 1103760 w 8829720"/>
              <a:gd name="textAreaRight" fmla="*/ 7726320 w 8829720"/>
              <a:gd name="textAreaTop" fmla="*/ 185040 h 1349280"/>
              <a:gd name="textAreaBottom" fmla="*/ 1349640 h 13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741" stAng="16200000" swAng="5400000"/>
                <a:lnTo>
                  <a:pt x="5400" y="2965"/>
                </a:lnTo>
                <a:lnTo>
                  <a:pt x="16200" y="2965"/>
                </a:lnTo>
                <a:lnTo>
                  <a:pt x="16200" y="741"/>
                </a:lnTo>
                <a:arcTo wR="675" hR="741" stAng="10800000" swAng="5400000"/>
                <a:lnTo>
                  <a:pt x="21600" y="0"/>
                </a:lnTo>
                <a:lnTo>
                  <a:pt x="18900" y="9318"/>
                </a:lnTo>
                <a:lnTo>
                  <a:pt x="21600" y="18635"/>
                </a:lnTo>
                <a:lnTo>
                  <a:pt x="18900" y="18635"/>
                </a:lnTo>
                <a:lnTo>
                  <a:pt x="18900" y="20859"/>
                </a:lnTo>
                <a:arcTo wR="675" hR="741" stAng="0" swAng="5400000"/>
                <a:lnTo>
                  <a:pt x="3375" y="21600"/>
                </a:lnTo>
                <a:arcTo wR="675" hR="741" stAng="5400000" swAng="5400000"/>
                <a:lnTo>
                  <a:pt x="2700" y="18635"/>
                </a:lnTo>
                <a:lnTo>
                  <a:pt x="0" y="18635"/>
                </a:lnTo>
                <a:lnTo>
                  <a:pt x="2700" y="9318"/>
                </a:lnTo>
                <a:close/>
              </a:path>
              <a:path fill="none" w="21600" h="21600">
                <a:moveTo>
                  <a:pt x="5400" y="741"/>
                </a:moveTo>
                <a:arcTo wR="675" hR="741" stAng="0" swAng="5400000"/>
                <a:lnTo>
                  <a:pt x="3375" y="1483"/>
                </a:lnTo>
                <a:arcTo wR="675" hR="741" stAng="16200000" swAng="-5400000"/>
                <a:arcTo wR="675" hR="741" stAng="10800000" swAng="-5400000"/>
                <a:lnTo>
                  <a:pt x="5400" y="2965"/>
                </a:lnTo>
              </a:path>
              <a:path fill="none" w="21600" h="21600">
                <a:moveTo>
                  <a:pt x="16200" y="741"/>
                </a:moveTo>
                <a:arcTo wR="675" hR="741" stAng="10800000" swAng="-5400000"/>
                <a:lnTo>
                  <a:pt x="18225" y="1483"/>
                </a:lnTo>
                <a:arcTo wR="675" hR="741" stAng="16200000" swAng="5400000"/>
                <a:arcTo wR="675" hR="741" stAng="0" swAng="5400000"/>
                <a:lnTo>
                  <a:pt x="16200" y="2965"/>
                </a:lnTo>
              </a:path>
              <a:path fill="none" w="21600" h="21600">
                <a:moveTo>
                  <a:pt x="2700" y="2224"/>
                </a:moveTo>
                <a:lnTo>
                  <a:pt x="2700" y="18635"/>
                </a:lnTo>
              </a:path>
              <a:path fill="none" w="21600" h="21600">
                <a:moveTo>
                  <a:pt x="18900" y="2224"/>
                </a:moveTo>
                <a:lnTo>
                  <a:pt x="18900" y="18635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100"/>
                </a:solidFill>
                <a:latin typeface="Georgia"/>
              </a:rPr>
              <a:t>Десерт “ Геометрический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100"/>
                </a:solidFill>
                <a:latin typeface="Georgia"/>
              </a:rPr>
              <a:t>с художественным вк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одготовка к пантомиме.mp3" descr=""/>
          <p:cNvPicPr/>
          <p:nvPr/>
        </p:nvPicPr>
        <p:blipFill>
          <a:blip r:embed="rId1"/>
          <a:stretch/>
        </p:blipFill>
        <p:spPr>
          <a:xfrm>
            <a:off x="8667720" y="45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Barabannaya-drob.mp3" descr=""/>
          <p:cNvPicPr/>
          <p:nvPr/>
        </p:nvPicPr>
        <p:blipFill>
          <a:blip r:embed="rId2"/>
          <a:stretch/>
        </p:blipFill>
        <p:spPr>
          <a:xfrm>
            <a:off x="250920" y="5319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Barabannaya-drob.mp3" descr=""/>
          <p:cNvPicPr/>
          <p:nvPr/>
        </p:nvPicPr>
        <p:blipFill>
          <a:blip r:embed="rId3"/>
          <a:stretch/>
        </p:blipFill>
        <p:spPr>
          <a:xfrm>
            <a:off x="1557360" y="5364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Barabannaya-drob.mp3" descr=""/>
          <p:cNvPicPr/>
          <p:nvPr/>
        </p:nvPicPr>
        <p:blipFill>
          <a:blip r:embed="rId4"/>
          <a:stretch/>
        </p:blipFill>
        <p:spPr>
          <a:xfrm>
            <a:off x="2862360" y="5364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Barabannaya-drob.mp3" descr=""/>
          <p:cNvPicPr/>
          <p:nvPr/>
        </p:nvPicPr>
        <p:blipFill>
          <a:blip r:embed="rId5"/>
          <a:stretch/>
        </p:blipFill>
        <p:spPr>
          <a:xfrm>
            <a:off x="4167360" y="54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Barabannaya-drob.mp3" descr=""/>
          <p:cNvPicPr/>
          <p:nvPr/>
        </p:nvPicPr>
        <p:blipFill>
          <a:blip r:embed="rId6"/>
          <a:stretch/>
        </p:blipFill>
        <p:spPr>
          <a:xfrm>
            <a:off x="5472000" y="54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Barabannaya-drob.mp3" descr=""/>
          <p:cNvPicPr/>
          <p:nvPr/>
        </p:nvPicPr>
        <p:blipFill>
          <a:blip r:embed="rId7"/>
          <a:stretch/>
        </p:blipFill>
        <p:spPr>
          <a:xfrm>
            <a:off x="6732720" y="54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481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7607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760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760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60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760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760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422360" y="2178360"/>
            <a:ext cx="7199280" cy="1861200"/>
          </a:xfrm>
          <a:prstGeom prst="rect">
            <a:avLst/>
          </a:prstGeom>
          <a:solidFill>
            <a:srgbClr val="99cc00">
              <a:alpha val="42000"/>
            </a:srgbClr>
          </a:solidFill>
          <a:ln w="57240">
            <a:solidFill>
              <a:srgbClr val="422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61b00"/>
                </a:solidFill>
                <a:latin typeface="Times New Roman"/>
              </a:rPr>
              <a:t>Пользуясь ключом, расшифруйте знаменитое высказывание Архимеда, древнегреческого математика, физика и инженера из Сиракуз</a:t>
            </a:r>
            <a:r>
              <a:rPr b="1" i="1" lang="ru-RU" sz="3200" spc="-1" strike="noStrike">
                <a:solidFill>
                  <a:srgbClr val="361b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0" y="189000"/>
            <a:ext cx="9144000" cy="1979640"/>
          </a:xfrm>
          <a:custGeom>
            <a:avLst/>
            <a:gdLst>
              <a:gd name="textAreaLeft" fmla="*/ 1143000 w 9144000"/>
              <a:gd name="textAreaRight" fmla="*/ 8001000 w 9144000"/>
              <a:gd name="textAreaTop" fmla="*/ 271440 h 1979640"/>
              <a:gd name="textAreaBottom" fmla="*/ 198000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741" stAng="16200000" swAng="5400000"/>
                <a:lnTo>
                  <a:pt x="5400" y="2965"/>
                </a:lnTo>
                <a:lnTo>
                  <a:pt x="16200" y="2965"/>
                </a:lnTo>
                <a:lnTo>
                  <a:pt x="16200" y="741"/>
                </a:lnTo>
                <a:arcTo wR="675" hR="741" stAng="10800000" swAng="5400000"/>
                <a:lnTo>
                  <a:pt x="21600" y="0"/>
                </a:lnTo>
                <a:lnTo>
                  <a:pt x="18900" y="9318"/>
                </a:lnTo>
                <a:lnTo>
                  <a:pt x="21600" y="18635"/>
                </a:lnTo>
                <a:lnTo>
                  <a:pt x="18900" y="18635"/>
                </a:lnTo>
                <a:lnTo>
                  <a:pt x="18900" y="20859"/>
                </a:lnTo>
                <a:arcTo wR="675" hR="741" stAng="0" swAng="5400000"/>
                <a:lnTo>
                  <a:pt x="3375" y="21600"/>
                </a:lnTo>
                <a:arcTo wR="675" hR="741" stAng="5400000" swAng="5400000"/>
                <a:lnTo>
                  <a:pt x="2700" y="18635"/>
                </a:lnTo>
                <a:lnTo>
                  <a:pt x="0" y="18635"/>
                </a:lnTo>
                <a:lnTo>
                  <a:pt x="2700" y="9318"/>
                </a:lnTo>
                <a:close/>
              </a:path>
              <a:path fill="none" w="21600" h="21600">
                <a:moveTo>
                  <a:pt x="5400" y="741"/>
                </a:moveTo>
                <a:arcTo wR="675" hR="741" stAng="0" swAng="5400000"/>
                <a:lnTo>
                  <a:pt x="3375" y="1483"/>
                </a:lnTo>
                <a:arcTo wR="675" hR="741" stAng="16200000" swAng="-5400000"/>
                <a:arcTo wR="675" hR="741" stAng="10800000" swAng="-5400000"/>
                <a:lnTo>
                  <a:pt x="5400" y="2965"/>
                </a:lnTo>
              </a:path>
              <a:path fill="none" w="21600" h="21600">
                <a:moveTo>
                  <a:pt x="16200" y="741"/>
                </a:moveTo>
                <a:arcTo wR="675" hR="741" stAng="10800000" swAng="-5400000"/>
                <a:lnTo>
                  <a:pt x="18225" y="1483"/>
                </a:lnTo>
                <a:arcTo wR="675" hR="741" stAng="16200000" swAng="5400000"/>
                <a:arcTo wR="675" hR="741" stAng="0" swAng="5400000"/>
                <a:lnTo>
                  <a:pt x="16200" y="2965"/>
                </a:lnTo>
              </a:path>
              <a:path fill="none" w="21600" h="21600">
                <a:moveTo>
                  <a:pt x="2700" y="2224"/>
                </a:moveTo>
                <a:lnTo>
                  <a:pt x="2700" y="18635"/>
                </a:lnTo>
              </a:path>
              <a:path fill="none" w="21600" h="21600">
                <a:moveTo>
                  <a:pt x="18900" y="2224"/>
                </a:moveTo>
                <a:lnTo>
                  <a:pt x="18900" y="18635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61b00"/>
                </a:solidFill>
                <a:latin typeface="Georgia"/>
              </a:rPr>
              <a:t>Рулет “ Математический 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61b00"/>
                </a:solidFill>
                <a:latin typeface="Georgia"/>
              </a:rPr>
              <a:t>с начинкой из произв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61b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361b00"/>
                </a:solidFill>
                <a:latin typeface="Georgia"/>
              </a:rPr>
              <a:t>и интегр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0" y="3564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0" y="387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j0234131"/>
          <p:cNvPicPr/>
          <p:nvPr/>
        </p:nvPicPr>
        <p:blipFill>
          <a:blip r:embed="rId3"/>
          <a:stretch/>
        </p:blipFill>
        <p:spPr>
          <a:xfrm>
            <a:off x="2997360" y="4869000"/>
            <a:ext cx="1431720" cy="1523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0" y="4734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5"/>
          <a:stretch/>
        </p:blipFill>
        <p:spPr>
          <a:xfrm>
            <a:off x="0" y="5094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j0234131"/>
          <p:cNvPicPr/>
          <p:nvPr/>
        </p:nvPicPr>
        <p:blipFill>
          <a:blip r:embed="rId6"/>
          <a:stretch/>
        </p:blipFill>
        <p:spPr>
          <a:xfrm>
            <a:off x="3041640" y="4869000"/>
            <a:ext cx="1432080" cy="152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7"/>
          <a:stretch/>
        </p:blipFill>
        <p:spPr>
          <a:xfrm>
            <a:off x="0" y="585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8"/>
          <a:stretch/>
        </p:blipFill>
        <p:spPr>
          <a:xfrm>
            <a:off x="0" y="621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j0234131"/>
          <p:cNvPicPr/>
          <p:nvPr/>
        </p:nvPicPr>
        <p:blipFill>
          <a:blip r:embed="rId9"/>
          <a:stretch/>
        </p:blipFill>
        <p:spPr>
          <a:xfrm>
            <a:off x="2997360" y="4869000"/>
            <a:ext cx="143172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stock-vector-illustration-of-a-waiter-and-tray-65997433"/>
          <p:cNvPicPr/>
          <p:nvPr/>
        </p:nvPicPr>
        <p:blipFill>
          <a:blip r:embed="rId10"/>
          <a:srcRect l="12432" t="3297" r="7459" b="7238"/>
          <a:stretch/>
        </p:blipFill>
        <p:spPr>
          <a:xfrm>
            <a:off x="6880320" y="3564000"/>
            <a:ext cx="2146320" cy="3294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9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96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1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9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96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1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9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96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20:53:06Z</dcterms:created>
  <dc:creator>Admin</dc:creator>
  <dc:description/>
  <dc:language>en-US</dc:language>
  <cp:lastModifiedBy>USER</cp:lastModifiedBy>
  <dcterms:modified xsi:type="dcterms:W3CDTF">2016-06-02T19:54:40Z</dcterms:modified>
  <cp:revision>13</cp:revision>
  <dc:subject/>
  <dc:title>Слайд 1</dc:title>
</cp:coreProperties>
</file>